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0604-4E63-4176-94A2-804AB2BFB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E421-E4D0-43DE-974C-741342080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DE53-4929-451A-87B3-6417A934D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CCC6-863C-4259-AC0F-55D534778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3E6B-6B02-4D8B-8F52-9A412F482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FEC9-DDF3-48D8-8108-7B167AC47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3B0E-3D30-4CE3-8447-49C3BC7B0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0353-9BEB-493F-A36C-D25BDBBAB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A9C0-84F8-4583-8E8E-97441161A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BBE9-6801-411A-B1D3-F900CC65C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479A-970E-4F0A-B711-D65A993F3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2A01-88DC-4445-8834-A1B4AECD9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C7775-610C-4400-9A2E-343790F30A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084560" y="142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38080" y="914400"/>
            <a:ext cx="73152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rm-u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e answers to the unit review with people in your 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 we need to revie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ll whether the following numbers are prime, composite or neither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92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9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32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 the prime factorization,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using expone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 Circle your final answer.  (4,5 &amp; 6)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17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18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10080" y="938160"/>
            <a:ext cx="150840" cy="411120"/>
          </a:xfrm>
          <a:custGeom>
            <a:avLst/>
            <a:gdLst/>
            <a:ahLst/>
            <a:rect l="l" t="t" r="r" b="b"/>
            <a:pathLst>
              <a:path w="423" h="1143">
                <a:moveTo>
                  <a:pt x="12725" y="2604"/>
                </a:moveTo>
                <a:lnTo>
                  <a:pt x="12725" y="2604"/>
                </a:lnTo>
              </a:path>
              <a:path w="423" h="1143">
                <a:moveTo>
                  <a:pt x="12774" y="3721"/>
                </a:moveTo>
                <a:cubicBezTo>
                  <a:pt x="12864" y="3721"/>
                  <a:pt x="12939" y="3721"/>
                  <a:pt x="12849" y="3721"/>
                </a:cubicBezTo>
                <a:cubicBezTo>
                  <a:pt x="12663" y="3721"/>
                  <a:pt x="12903" y="3746"/>
                  <a:pt x="12948" y="3746"/>
                </a:cubicBezTo>
              </a:path>
              <a:path w="423" h="1143">
                <a:moveTo>
                  <a:pt x="12675" y="2654"/>
                </a:moveTo>
                <a:cubicBezTo>
                  <a:pt x="12737" y="2715"/>
                  <a:pt x="12675" y="2766"/>
                  <a:pt x="12675" y="2853"/>
                </a:cubicBezTo>
                <a:cubicBezTo>
                  <a:pt x="12675" y="2861"/>
                  <a:pt x="12675" y="2869"/>
                  <a:pt x="12675" y="2877"/>
                </a:cubicBezTo>
              </a:path>
              <a:path w="423" h="1143">
                <a:moveTo>
                  <a:pt x="12526" y="2778"/>
                </a:moveTo>
                <a:cubicBezTo>
                  <a:pt x="12612" y="2764"/>
                  <a:pt x="12663" y="2778"/>
                  <a:pt x="12750" y="2778"/>
                </a:cubicBezTo>
                <a:cubicBezTo>
                  <a:pt x="12801" y="2778"/>
                  <a:pt x="12820" y="2777"/>
                  <a:pt x="12849" y="275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768920" y="1125360"/>
            <a:ext cx="71280" cy="61920"/>
          </a:xfrm>
          <a:custGeom>
            <a:avLst/>
            <a:gdLst/>
            <a:ahLst/>
            <a:rect l="l" t="t" r="r" b="b"/>
            <a:pathLst>
              <a:path w="199" h="175">
                <a:moveTo>
                  <a:pt x="13246" y="3125"/>
                </a:moveTo>
                <a:cubicBezTo>
                  <a:pt x="13296" y="3125"/>
                  <a:pt x="13345" y="3125"/>
                  <a:pt x="13395" y="3125"/>
                </a:cubicBezTo>
              </a:path>
              <a:path w="199" h="175">
                <a:moveTo>
                  <a:pt x="13271" y="3274"/>
                </a:moveTo>
                <a:cubicBezTo>
                  <a:pt x="13340" y="3293"/>
                  <a:pt x="13374" y="3299"/>
                  <a:pt x="13444" y="329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946760" y="1044720"/>
            <a:ext cx="598320" cy="161640"/>
          </a:xfrm>
          <a:custGeom>
            <a:avLst/>
            <a:gdLst/>
            <a:ahLst/>
            <a:rect l="l" t="t" r="r" b="b"/>
            <a:pathLst>
              <a:path w="1663" h="448">
                <a:moveTo>
                  <a:pt x="13742" y="2977"/>
                </a:moveTo>
                <a:cubicBezTo>
                  <a:pt x="13742" y="3081"/>
                  <a:pt x="13752" y="3173"/>
                  <a:pt x="13767" y="3274"/>
                </a:cubicBezTo>
              </a:path>
              <a:path w="1663" h="448">
                <a:moveTo>
                  <a:pt x="13965" y="2902"/>
                </a:moveTo>
                <a:cubicBezTo>
                  <a:pt x="13995" y="2990"/>
                  <a:pt x="14009" y="3080"/>
                  <a:pt x="14015" y="3175"/>
                </a:cubicBezTo>
                <a:cubicBezTo>
                  <a:pt x="14019" y="3249"/>
                  <a:pt x="14128" y="3265"/>
                  <a:pt x="14188" y="3249"/>
                </a:cubicBezTo>
                <a:cubicBezTo>
                  <a:pt x="14254" y="3231"/>
                  <a:pt x="14302" y="3175"/>
                  <a:pt x="14337" y="3125"/>
                </a:cubicBezTo>
                <a:cubicBezTo>
                  <a:pt x="14251" y="3104"/>
                  <a:pt x="14226" y="3109"/>
                  <a:pt x="14213" y="3200"/>
                </a:cubicBezTo>
              </a:path>
              <a:path w="1663" h="448">
                <a:moveTo>
                  <a:pt x="14585" y="3051"/>
                </a:moveTo>
                <a:cubicBezTo>
                  <a:pt x="14651" y="3051"/>
                  <a:pt x="14718" y="3051"/>
                  <a:pt x="14784" y="3051"/>
                </a:cubicBezTo>
              </a:path>
              <a:path w="1663" h="448">
                <a:moveTo>
                  <a:pt x="14709" y="3225"/>
                </a:moveTo>
                <a:cubicBezTo>
                  <a:pt x="14778" y="3206"/>
                  <a:pt x="14813" y="3200"/>
                  <a:pt x="14883" y="3200"/>
                </a:cubicBezTo>
              </a:path>
              <a:path w="1663" h="448">
                <a:moveTo>
                  <a:pt x="15106" y="2927"/>
                </a:moveTo>
                <a:cubicBezTo>
                  <a:pt x="15197" y="2900"/>
                  <a:pt x="15282" y="2902"/>
                  <a:pt x="15379" y="2902"/>
                </a:cubicBezTo>
                <a:cubicBezTo>
                  <a:pt x="15387" y="2902"/>
                  <a:pt x="15396" y="2902"/>
                  <a:pt x="15404" y="2902"/>
                </a:cubicBezTo>
                <a:cubicBezTo>
                  <a:pt x="15404" y="3066"/>
                  <a:pt x="15352" y="3170"/>
                  <a:pt x="15304" y="3324"/>
                </a:cubicBezTo>
                <a:cubicBezTo>
                  <a:pt x="15304" y="3332"/>
                  <a:pt x="15304" y="3341"/>
                  <a:pt x="15304" y="334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840200" y="1455840"/>
            <a:ext cx="258840" cy="357120"/>
          </a:xfrm>
          <a:custGeom>
            <a:avLst/>
            <a:gdLst/>
            <a:ahLst/>
            <a:rect l="l" t="t" r="r" b="b"/>
            <a:pathLst>
              <a:path w="720" h="993">
                <a:moveTo>
                  <a:pt x="13444" y="4316"/>
                </a:moveTo>
                <a:cubicBezTo>
                  <a:pt x="13469" y="4140"/>
                  <a:pt x="13501" y="4511"/>
                  <a:pt x="13519" y="4688"/>
                </a:cubicBezTo>
                <a:cubicBezTo>
                  <a:pt x="13539" y="4878"/>
                  <a:pt x="13547" y="4919"/>
                  <a:pt x="13543" y="5035"/>
                </a:cubicBezTo>
              </a:path>
              <a:path w="720" h="993">
                <a:moveTo>
                  <a:pt x="13444" y="4366"/>
                </a:moveTo>
                <a:cubicBezTo>
                  <a:pt x="13501" y="4222"/>
                  <a:pt x="13658" y="4119"/>
                  <a:pt x="13816" y="4068"/>
                </a:cubicBezTo>
                <a:cubicBezTo>
                  <a:pt x="13964" y="4020"/>
                  <a:pt x="14271" y="4085"/>
                  <a:pt x="14163" y="4316"/>
                </a:cubicBezTo>
                <a:cubicBezTo>
                  <a:pt x="14046" y="4565"/>
                  <a:pt x="13729" y="4604"/>
                  <a:pt x="13494" y="46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94160" y="2946240"/>
            <a:ext cx="365040" cy="268560"/>
          </a:xfrm>
          <a:custGeom>
            <a:avLst/>
            <a:gdLst/>
            <a:ahLst/>
            <a:rect l="l" t="t" r="r" b="b"/>
            <a:pathLst>
              <a:path w="1018" h="745">
                <a:moveTo>
                  <a:pt x="12675" y="8235"/>
                </a:moveTo>
                <a:cubicBezTo>
                  <a:pt x="12578" y="8410"/>
                  <a:pt x="12443" y="8539"/>
                  <a:pt x="12303" y="8682"/>
                </a:cubicBezTo>
                <a:cubicBezTo>
                  <a:pt x="12270" y="8715"/>
                  <a:pt x="12237" y="8748"/>
                  <a:pt x="12204" y="8781"/>
                </a:cubicBezTo>
                <a:cubicBezTo>
                  <a:pt x="12411" y="8596"/>
                  <a:pt x="12585" y="8412"/>
                  <a:pt x="12774" y="8210"/>
                </a:cubicBezTo>
                <a:cubicBezTo>
                  <a:pt x="12782" y="8202"/>
                  <a:pt x="12791" y="8194"/>
                  <a:pt x="12799" y="8186"/>
                </a:cubicBezTo>
                <a:cubicBezTo>
                  <a:pt x="12915" y="8424"/>
                  <a:pt x="13016" y="8646"/>
                  <a:pt x="13171" y="8855"/>
                </a:cubicBezTo>
                <a:cubicBezTo>
                  <a:pt x="13188" y="8880"/>
                  <a:pt x="13204" y="8905"/>
                  <a:pt x="13221" y="893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08120" y="2133720"/>
            <a:ext cx="1990800" cy="108000"/>
          </a:xfrm>
          <a:custGeom>
            <a:avLst/>
            <a:gdLst/>
            <a:ahLst/>
            <a:rect l="l" t="t" r="r" b="b"/>
            <a:pathLst>
              <a:path w="5532" h="299">
                <a:moveTo>
                  <a:pt x="4465" y="6052"/>
                </a:moveTo>
                <a:cubicBezTo>
                  <a:pt x="4631" y="6058"/>
                  <a:pt x="4795" y="6074"/>
                  <a:pt x="4961" y="6077"/>
                </a:cubicBezTo>
                <a:cubicBezTo>
                  <a:pt x="5137" y="6081"/>
                  <a:pt x="5307" y="6117"/>
                  <a:pt x="5482" y="6127"/>
                </a:cubicBezTo>
                <a:cubicBezTo>
                  <a:pt x="5632" y="6136"/>
                  <a:pt x="5782" y="6167"/>
                  <a:pt x="5928" y="6176"/>
                </a:cubicBezTo>
                <a:cubicBezTo>
                  <a:pt x="6111" y="6187"/>
                  <a:pt x="6292" y="6180"/>
                  <a:pt x="6474" y="6201"/>
                </a:cubicBezTo>
                <a:cubicBezTo>
                  <a:pt x="6674" y="6224"/>
                  <a:pt x="6867" y="6226"/>
                  <a:pt x="7069" y="6226"/>
                </a:cubicBezTo>
                <a:cubicBezTo>
                  <a:pt x="7237" y="6226"/>
                  <a:pt x="7423" y="6219"/>
                  <a:pt x="7590" y="6201"/>
                </a:cubicBezTo>
                <a:cubicBezTo>
                  <a:pt x="7805" y="6178"/>
                  <a:pt x="8019" y="6158"/>
                  <a:pt x="8235" y="6127"/>
                </a:cubicBezTo>
                <a:cubicBezTo>
                  <a:pt x="8531" y="6085"/>
                  <a:pt x="8829" y="6034"/>
                  <a:pt x="9128" y="6028"/>
                </a:cubicBezTo>
                <a:cubicBezTo>
                  <a:pt x="9273" y="6025"/>
                  <a:pt x="9409" y="6004"/>
                  <a:pt x="9550" y="5978"/>
                </a:cubicBezTo>
                <a:cubicBezTo>
                  <a:pt x="9702" y="5950"/>
                  <a:pt x="9843" y="5934"/>
                  <a:pt x="9996" y="592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57160" y="973080"/>
            <a:ext cx="162000" cy="98640"/>
          </a:xfrm>
          <a:custGeom>
            <a:avLst/>
            <a:gdLst/>
            <a:ahLst/>
            <a:rect l="l" t="t" r="r" b="b"/>
            <a:pathLst>
              <a:path w="448" h="274">
                <a:moveTo>
                  <a:pt x="2480" y="2729"/>
                </a:moveTo>
                <a:cubicBezTo>
                  <a:pt x="2518" y="2804"/>
                  <a:pt x="2510" y="2845"/>
                  <a:pt x="2530" y="2927"/>
                </a:cubicBezTo>
              </a:path>
              <a:path w="448" h="274">
                <a:moveTo>
                  <a:pt x="2381" y="2977"/>
                </a:moveTo>
                <a:cubicBezTo>
                  <a:pt x="2431" y="2952"/>
                  <a:pt x="2480" y="2927"/>
                  <a:pt x="2530" y="2902"/>
                </a:cubicBezTo>
              </a:path>
              <a:path w="448" h="274">
                <a:moveTo>
                  <a:pt x="2778" y="2729"/>
                </a:moveTo>
                <a:cubicBezTo>
                  <a:pt x="2778" y="2828"/>
                  <a:pt x="2778" y="2861"/>
                  <a:pt x="2778" y="2927"/>
                </a:cubicBezTo>
              </a:path>
              <a:path w="448" h="274">
                <a:moveTo>
                  <a:pt x="2704" y="2927"/>
                </a:moveTo>
                <a:cubicBezTo>
                  <a:pt x="2777" y="2890"/>
                  <a:pt x="2782" y="2873"/>
                  <a:pt x="2828" y="287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97000" y="1143000"/>
            <a:ext cx="34920" cy="54000"/>
          </a:xfrm>
          <a:custGeom>
            <a:avLst/>
            <a:gdLst/>
            <a:ahLst/>
            <a:rect l="l" t="t" r="r" b="b"/>
            <a:pathLst>
              <a:path w="100" h="150">
                <a:moveTo>
                  <a:pt x="3324" y="3175"/>
                </a:moveTo>
                <a:cubicBezTo>
                  <a:pt x="3340" y="3175"/>
                  <a:pt x="3357" y="3175"/>
                  <a:pt x="3373" y="3175"/>
                </a:cubicBezTo>
              </a:path>
              <a:path w="100" h="150">
                <a:moveTo>
                  <a:pt x="3349" y="3324"/>
                </a:moveTo>
                <a:cubicBezTo>
                  <a:pt x="3374" y="3316"/>
                  <a:pt x="3398" y="3307"/>
                  <a:pt x="3423" y="329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347840" y="1035000"/>
            <a:ext cx="590400" cy="189000"/>
          </a:xfrm>
          <a:custGeom>
            <a:avLst/>
            <a:gdLst/>
            <a:ahLst/>
            <a:rect l="l" t="t" r="r" b="b"/>
            <a:pathLst>
              <a:path w="1638" h="522">
                <a:moveTo>
                  <a:pt x="3746" y="3026"/>
                </a:moveTo>
                <a:cubicBezTo>
                  <a:pt x="3769" y="3155"/>
                  <a:pt x="3816" y="3277"/>
                  <a:pt x="3870" y="3398"/>
                </a:cubicBezTo>
              </a:path>
              <a:path w="1638" h="522">
                <a:moveTo>
                  <a:pt x="3944" y="3001"/>
                </a:moveTo>
                <a:cubicBezTo>
                  <a:pt x="3944" y="2955"/>
                  <a:pt x="3962" y="2935"/>
                  <a:pt x="4018" y="2927"/>
                </a:cubicBezTo>
                <a:cubicBezTo>
                  <a:pt x="4198" y="3025"/>
                  <a:pt x="4137" y="3174"/>
                  <a:pt x="4018" y="3349"/>
                </a:cubicBezTo>
                <a:cubicBezTo>
                  <a:pt x="4002" y="3365"/>
                  <a:pt x="3985" y="3382"/>
                  <a:pt x="3969" y="3398"/>
                </a:cubicBezTo>
                <a:cubicBezTo>
                  <a:pt x="4104" y="3376"/>
                  <a:pt x="4215" y="3316"/>
                  <a:pt x="4341" y="3274"/>
                </a:cubicBezTo>
              </a:path>
              <a:path w="1638" h="522">
                <a:moveTo>
                  <a:pt x="4514" y="3200"/>
                </a:moveTo>
                <a:cubicBezTo>
                  <a:pt x="4603" y="3170"/>
                  <a:pt x="4643" y="3162"/>
                  <a:pt x="4713" y="3175"/>
                </a:cubicBezTo>
              </a:path>
              <a:path w="1638" h="522">
                <a:moveTo>
                  <a:pt x="4589" y="3324"/>
                </a:moveTo>
                <a:cubicBezTo>
                  <a:pt x="4699" y="3292"/>
                  <a:pt x="4803" y="3262"/>
                  <a:pt x="4911" y="3225"/>
                </a:cubicBezTo>
              </a:path>
              <a:path w="1638" h="522">
                <a:moveTo>
                  <a:pt x="5110" y="2927"/>
                </a:moveTo>
                <a:cubicBezTo>
                  <a:pt x="5203" y="2880"/>
                  <a:pt x="5230" y="2860"/>
                  <a:pt x="5283" y="2927"/>
                </a:cubicBezTo>
                <a:cubicBezTo>
                  <a:pt x="5256" y="3044"/>
                  <a:pt x="5230" y="3071"/>
                  <a:pt x="5135" y="3150"/>
                </a:cubicBezTo>
                <a:cubicBezTo>
                  <a:pt x="5244" y="3111"/>
                  <a:pt x="5488" y="3106"/>
                  <a:pt x="5333" y="3299"/>
                </a:cubicBezTo>
                <a:cubicBezTo>
                  <a:pt x="5227" y="3378"/>
                  <a:pt x="5185" y="3405"/>
                  <a:pt x="5085" y="339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320840" y="1509840"/>
            <a:ext cx="287280" cy="204840"/>
          </a:xfrm>
          <a:custGeom>
            <a:avLst/>
            <a:gdLst/>
            <a:ahLst/>
            <a:rect l="l" t="t" r="r" b="b"/>
            <a:pathLst>
              <a:path w="795" h="571">
                <a:moveTo>
                  <a:pt x="4043" y="4266"/>
                </a:moveTo>
                <a:cubicBezTo>
                  <a:pt x="3874" y="4183"/>
                  <a:pt x="3768" y="4144"/>
                  <a:pt x="3696" y="4390"/>
                </a:cubicBezTo>
                <a:cubicBezTo>
                  <a:pt x="3529" y="4962"/>
                  <a:pt x="4093" y="4686"/>
                  <a:pt x="4341" y="4539"/>
                </a:cubicBezTo>
                <a:cubicBezTo>
                  <a:pt x="4382" y="4506"/>
                  <a:pt x="4424" y="4473"/>
                  <a:pt x="4465" y="444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85120" y="1295280"/>
            <a:ext cx="115920" cy="7920"/>
          </a:xfrm>
          <a:custGeom>
            <a:avLst/>
            <a:gdLst/>
            <a:ahLst/>
            <a:rect l="l" t="t" r="r" b="b"/>
            <a:pathLst>
              <a:path w="323" h="25">
                <a:moveTo>
                  <a:pt x="23292" y="3597"/>
                </a:moveTo>
                <a:cubicBezTo>
                  <a:pt x="23400" y="3610"/>
                  <a:pt x="23501" y="3604"/>
                  <a:pt x="23614" y="359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153280" y="1509840"/>
            <a:ext cx="187560" cy="152280"/>
          </a:xfrm>
          <a:custGeom>
            <a:avLst/>
            <a:gdLst/>
            <a:ahLst/>
            <a:rect l="l" t="t" r="r" b="b"/>
            <a:pathLst>
              <a:path w="522" h="423">
                <a:moveTo>
                  <a:pt x="22969" y="4341"/>
                </a:moveTo>
                <a:cubicBezTo>
                  <a:pt x="22957" y="4233"/>
                  <a:pt x="22959" y="4246"/>
                  <a:pt x="22870" y="4192"/>
                </a:cubicBezTo>
                <a:cubicBezTo>
                  <a:pt x="22707" y="4285"/>
                  <a:pt x="22493" y="4476"/>
                  <a:pt x="22796" y="4589"/>
                </a:cubicBezTo>
                <a:cubicBezTo>
                  <a:pt x="22997" y="4612"/>
                  <a:pt x="23050" y="4627"/>
                  <a:pt x="23168" y="456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30120" y="3044880"/>
            <a:ext cx="1938240" cy="2706480"/>
          </a:xfrm>
          <a:custGeom>
            <a:avLst/>
            <a:gdLst/>
            <a:ahLst/>
            <a:rect l="l" t="t" r="r" b="b"/>
            <a:pathLst>
              <a:path w="5383" h="7517">
                <a:moveTo>
                  <a:pt x="2009" y="8483"/>
                </a:moveTo>
                <a:cubicBezTo>
                  <a:pt x="1962" y="8573"/>
                  <a:pt x="1925" y="8662"/>
                  <a:pt x="1885" y="8756"/>
                </a:cubicBezTo>
                <a:cubicBezTo>
                  <a:pt x="1925" y="8690"/>
                  <a:pt x="1991" y="8458"/>
                  <a:pt x="2084" y="8458"/>
                </a:cubicBezTo>
                <a:cubicBezTo>
                  <a:pt x="2195" y="8458"/>
                  <a:pt x="2242" y="8600"/>
                  <a:pt x="2307" y="8657"/>
                </a:cubicBezTo>
              </a:path>
              <a:path w="5383" h="7517">
                <a:moveTo>
                  <a:pt x="1265" y="9029"/>
                </a:moveTo>
                <a:cubicBezTo>
                  <a:pt x="1330" y="8927"/>
                  <a:pt x="1339" y="8924"/>
                  <a:pt x="1463" y="8905"/>
                </a:cubicBezTo>
                <a:cubicBezTo>
                  <a:pt x="1521" y="9011"/>
                  <a:pt x="1551" y="9234"/>
                  <a:pt x="1364" y="9277"/>
                </a:cubicBezTo>
                <a:cubicBezTo>
                  <a:pt x="1246" y="9304"/>
                  <a:pt x="1217" y="9232"/>
                  <a:pt x="1191" y="9153"/>
                </a:cubicBezTo>
                <a:cubicBezTo>
                  <a:pt x="1332" y="9134"/>
                  <a:pt x="1417" y="9142"/>
                  <a:pt x="1538" y="9227"/>
                </a:cubicBezTo>
              </a:path>
              <a:path w="5383" h="7517">
                <a:moveTo>
                  <a:pt x="2158" y="8979"/>
                </a:moveTo>
                <a:cubicBezTo>
                  <a:pt x="2140" y="9058"/>
                  <a:pt x="2071" y="9227"/>
                  <a:pt x="2208" y="9227"/>
                </a:cubicBezTo>
                <a:cubicBezTo>
                  <a:pt x="2331" y="9203"/>
                  <a:pt x="2372" y="9196"/>
                  <a:pt x="2431" y="9128"/>
                </a:cubicBezTo>
                <a:cubicBezTo>
                  <a:pt x="2431" y="8951"/>
                  <a:pt x="2325" y="9148"/>
                  <a:pt x="2307" y="9203"/>
                </a:cubicBezTo>
              </a:path>
              <a:path w="5383" h="7517">
                <a:moveTo>
                  <a:pt x="2555" y="8880"/>
                </a:moveTo>
                <a:cubicBezTo>
                  <a:pt x="2555" y="9008"/>
                  <a:pt x="2645" y="8948"/>
                  <a:pt x="2753" y="8930"/>
                </a:cubicBezTo>
              </a:path>
              <a:path w="5383" h="7517">
                <a:moveTo>
                  <a:pt x="2753" y="8706"/>
                </a:moveTo>
                <a:cubicBezTo>
                  <a:pt x="2753" y="8863"/>
                  <a:pt x="2753" y="8921"/>
                  <a:pt x="2753" y="9029"/>
                </a:cubicBezTo>
              </a:path>
              <a:path w="5383" h="7517">
                <a:moveTo>
                  <a:pt x="1215" y="9451"/>
                </a:moveTo>
                <a:cubicBezTo>
                  <a:pt x="1362" y="9498"/>
                  <a:pt x="1489" y="9496"/>
                  <a:pt x="1612" y="9376"/>
                </a:cubicBezTo>
                <a:cubicBezTo>
                  <a:pt x="1834" y="9159"/>
                  <a:pt x="1808" y="8841"/>
                  <a:pt x="1463" y="8781"/>
                </a:cubicBezTo>
                <a:cubicBezTo>
                  <a:pt x="1230" y="8741"/>
                  <a:pt x="842" y="8867"/>
                  <a:pt x="918" y="9178"/>
                </a:cubicBezTo>
                <a:cubicBezTo>
                  <a:pt x="1030" y="9379"/>
                  <a:pt x="1050" y="9439"/>
                  <a:pt x="1191" y="9500"/>
                </a:cubicBezTo>
              </a:path>
              <a:path w="5383" h="7517">
                <a:moveTo>
                  <a:pt x="2480" y="9327"/>
                </a:moveTo>
                <a:cubicBezTo>
                  <a:pt x="2450" y="9457"/>
                  <a:pt x="2418" y="9557"/>
                  <a:pt x="2356" y="9674"/>
                </a:cubicBezTo>
                <a:cubicBezTo>
                  <a:pt x="2397" y="9511"/>
                  <a:pt x="2426" y="9432"/>
                  <a:pt x="2530" y="9302"/>
                </a:cubicBezTo>
                <a:cubicBezTo>
                  <a:pt x="2690" y="9424"/>
                  <a:pt x="2813" y="9554"/>
                  <a:pt x="2952" y="9699"/>
                </a:cubicBezTo>
                <a:cubicBezTo>
                  <a:pt x="2960" y="9707"/>
                  <a:pt x="2969" y="9715"/>
                  <a:pt x="2977" y="9723"/>
                </a:cubicBezTo>
              </a:path>
              <a:path w="5383" h="7517">
                <a:moveTo>
                  <a:pt x="2059" y="9947"/>
                </a:moveTo>
                <a:cubicBezTo>
                  <a:pt x="2067" y="9939"/>
                  <a:pt x="2076" y="9930"/>
                  <a:pt x="2084" y="9922"/>
                </a:cubicBezTo>
                <a:cubicBezTo>
                  <a:pt x="2168" y="9968"/>
                  <a:pt x="2301" y="10185"/>
                  <a:pt x="2084" y="10220"/>
                </a:cubicBezTo>
                <a:cubicBezTo>
                  <a:pt x="1993" y="10197"/>
                  <a:pt x="1960" y="10198"/>
                  <a:pt x="1984" y="10120"/>
                </a:cubicBezTo>
                <a:cubicBezTo>
                  <a:pt x="2062" y="10109"/>
                  <a:pt x="2129" y="10101"/>
                  <a:pt x="2208" y="10096"/>
                </a:cubicBezTo>
              </a:path>
              <a:path w="5383" h="7517">
                <a:moveTo>
                  <a:pt x="1984" y="10393"/>
                </a:moveTo>
                <a:cubicBezTo>
                  <a:pt x="2193" y="10430"/>
                  <a:pt x="2524" y="10422"/>
                  <a:pt x="2604" y="10145"/>
                </a:cubicBezTo>
                <a:cubicBezTo>
                  <a:pt x="2684" y="9870"/>
                  <a:pt x="2284" y="9645"/>
                  <a:pt x="2059" y="9699"/>
                </a:cubicBezTo>
                <a:cubicBezTo>
                  <a:pt x="1801" y="9761"/>
                  <a:pt x="1522" y="10231"/>
                  <a:pt x="1836" y="10418"/>
                </a:cubicBezTo>
                <a:cubicBezTo>
                  <a:pt x="1910" y="10426"/>
                  <a:pt x="1985" y="10435"/>
                  <a:pt x="2059" y="10443"/>
                </a:cubicBezTo>
              </a:path>
              <a:path w="5383" h="7517">
                <a:moveTo>
                  <a:pt x="3051" y="9922"/>
                </a:moveTo>
                <a:cubicBezTo>
                  <a:pt x="3165" y="9876"/>
                  <a:pt x="3323" y="9841"/>
                  <a:pt x="3150" y="9996"/>
                </a:cubicBezTo>
                <a:cubicBezTo>
                  <a:pt x="3117" y="10021"/>
                  <a:pt x="3084" y="10046"/>
                  <a:pt x="3051" y="10071"/>
                </a:cubicBezTo>
                <a:cubicBezTo>
                  <a:pt x="3166" y="10032"/>
                  <a:pt x="3179" y="10016"/>
                  <a:pt x="3249" y="10021"/>
                </a:cubicBezTo>
                <a:cubicBezTo>
                  <a:pt x="3188" y="10186"/>
                  <a:pt x="3155" y="10242"/>
                  <a:pt x="2977" y="10269"/>
                </a:cubicBezTo>
              </a:path>
              <a:path w="5383" h="7517">
                <a:moveTo>
                  <a:pt x="3522" y="9723"/>
                </a:moveTo>
                <a:cubicBezTo>
                  <a:pt x="3627" y="9772"/>
                  <a:pt x="3846" y="9919"/>
                  <a:pt x="3646" y="10046"/>
                </a:cubicBezTo>
                <a:cubicBezTo>
                  <a:pt x="3532" y="10119"/>
                  <a:pt x="3365" y="10001"/>
                  <a:pt x="3497" y="9971"/>
                </a:cubicBezTo>
                <a:cubicBezTo>
                  <a:pt x="3598" y="9971"/>
                  <a:pt x="3619" y="9961"/>
                  <a:pt x="3671" y="9996"/>
                </a:cubicBezTo>
              </a:path>
              <a:path w="5383" h="7517">
                <a:moveTo>
                  <a:pt x="3274" y="10344"/>
                </a:moveTo>
                <a:cubicBezTo>
                  <a:pt x="3233" y="10593"/>
                  <a:pt x="3108" y="10734"/>
                  <a:pt x="2977" y="10939"/>
                </a:cubicBezTo>
                <a:cubicBezTo>
                  <a:pt x="2816" y="11191"/>
                  <a:pt x="3209" y="10579"/>
                  <a:pt x="3249" y="10517"/>
                </a:cubicBezTo>
                <a:cubicBezTo>
                  <a:pt x="3274" y="10476"/>
                  <a:pt x="3299" y="10434"/>
                  <a:pt x="3324" y="10393"/>
                </a:cubicBezTo>
                <a:cubicBezTo>
                  <a:pt x="3472" y="10557"/>
                  <a:pt x="3504" y="10675"/>
                  <a:pt x="3547" y="10889"/>
                </a:cubicBezTo>
                <a:cubicBezTo>
                  <a:pt x="3567" y="10990"/>
                  <a:pt x="3565" y="11010"/>
                  <a:pt x="3597" y="11063"/>
                </a:cubicBezTo>
              </a:path>
              <a:path w="5383" h="7517">
                <a:moveTo>
                  <a:pt x="2480" y="11261"/>
                </a:moveTo>
                <a:cubicBezTo>
                  <a:pt x="2674" y="11310"/>
                  <a:pt x="2673" y="11513"/>
                  <a:pt x="2505" y="11658"/>
                </a:cubicBezTo>
                <a:cubicBezTo>
                  <a:pt x="2384" y="11699"/>
                  <a:pt x="2354" y="11736"/>
                  <a:pt x="2307" y="11658"/>
                </a:cubicBezTo>
                <a:cubicBezTo>
                  <a:pt x="2433" y="11469"/>
                  <a:pt x="2478" y="11366"/>
                  <a:pt x="2654" y="11559"/>
                </a:cubicBezTo>
              </a:path>
              <a:path w="5383" h="7517">
                <a:moveTo>
                  <a:pt x="2282" y="11881"/>
                </a:moveTo>
                <a:cubicBezTo>
                  <a:pt x="2508" y="11901"/>
                  <a:pt x="2834" y="11885"/>
                  <a:pt x="2927" y="11609"/>
                </a:cubicBezTo>
                <a:cubicBezTo>
                  <a:pt x="3042" y="11268"/>
                  <a:pt x="2659" y="10995"/>
                  <a:pt x="2356" y="11112"/>
                </a:cubicBezTo>
                <a:cubicBezTo>
                  <a:pt x="1924" y="11279"/>
                  <a:pt x="1941" y="11668"/>
                  <a:pt x="2108" y="11981"/>
                </a:cubicBezTo>
              </a:path>
              <a:path w="5383" h="7517">
                <a:moveTo>
                  <a:pt x="3746" y="11311"/>
                </a:moveTo>
                <a:cubicBezTo>
                  <a:pt x="3721" y="11443"/>
                  <a:pt x="3696" y="11576"/>
                  <a:pt x="3671" y="11708"/>
                </a:cubicBezTo>
              </a:path>
              <a:path w="5383" h="7517">
                <a:moveTo>
                  <a:pt x="3944" y="11212"/>
                </a:moveTo>
                <a:cubicBezTo>
                  <a:pt x="3948" y="11301"/>
                  <a:pt x="3923" y="11630"/>
                  <a:pt x="3994" y="11683"/>
                </a:cubicBezTo>
                <a:cubicBezTo>
                  <a:pt x="4196" y="11833"/>
                  <a:pt x="4297" y="11530"/>
                  <a:pt x="4316" y="11410"/>
                </a:cubicBezTo>
                <a:cubicBezTo>
                  <a:pt x="4162" y="11446"/>
                  <a:pt x="4171" y="11468"/>
                  <a:pt x="4093" y="11609"/>
                </a:cubicBezTo>
              </a:path>
              <a:path w="5383" h="7517">
                <a:moveTo>
                  <a:pt x="3994" y="11782"/>
                </a:moveTo>
                <a:cubicBezTo>
                  <a:pt x="3855" y="11946"/>
                  <a:pt x="3755" y="12134"/>
                  <a:pt x="3621" y="12303"/>
                </a:cubicBezTo>
                <a:cubicBezTo>
                  <a:pt x="3735" y="12116"/>
                  <a:pt x="3838" y="11963"/>
                  <a:pt x="3994" y="11807"/>
                </a:cubicBezTo>
                <a:cubicBezTo>
                  <a:pt x="4088" y="11962"/>
                  <a:pt x="4143" y="12125"/>
                  <a:pt x="4242" y="12278"/>
                </a:cubicBezTo>
              </a:path>
              <a:path w="5383" h="7517">
                <a:moveTo>
                  <a:pt x="3175" y="12551"/>
                </a:moveTo>
                <a:cubicBezTo>
                  <a:pt x="3251" y="12562"/>
                  <a:pt x="3266" y="12581"/>
                  <a:pt x="3349" y="12626"/>
                </a:cubicBezTo>
                <a:cubicBezTo>
                  <a:pt x="3275" y="12794"/>
                  <a:pt x="3210" y="12859"/>
                  <a:pt x="3026" y="12898"/>
                </a:cubicBezTo>
                <a:cubicBezTo>
                  <a:pt x="3102" y="12717"/>
                  <a:pt x="3175" y="12735"/>
                  <a:pt x="3324" y="12849"/>
                </a:cubicBezTo>
              </a:path>
              <a:path w="5383" h="7517">
                <a:moveTo>
                  <a:pt x="3001" y="13047"/>
                </a:moveTo>
                <a:cubicBezTo>
                  <a:pt x="3215" y="13062"/>
                  <a:pt x="3507" y="13107"/>
                  <a:pt x="3572" y="12824"/>
                </a:cubicBezTo>
                <a:cubicBezTo>
                  <a:pt x="3646" y="12500"/>
                  <a:pt x="3345" y="12280"/>
                  <a:pt x="3051" y="12452"/>
                </a:cubicBezTo>
                <a:cubicBezTo>
                  <a:pt x="2708" y="12653"/>
                  <a:pt x="2700" y="12945"/>
                  <a:pt x="2927" y="13171"/>
                </a:cubicBezTo>
              </a:path>
              <a:path w="5383" h="7517">
                <a:moveTo>
                  <a:pt x="4638" y="12477"/>
                </a:moveTo>
                <a:cubicBezTo>
                  <a:pt x="4526" y="12500"/>
                  <a:pt x="4419" y="12574"/>
                  <a:pt x="4316" y="12626"/>
                </a:cubicBezTo>
                <a:cubicBezTo>
                  <a:pt x="4373" y="12671"/>
                  <a:pt x="4689" y="12843"/>
                  <a:pt x="4514" y="12948"/>
                </a:cubicBezTo>
                <a:cubicBezTo>
                  <a:pt x="4489" y="12948"/>
                  <a:pt x="4465" y="12948"/>
                  <a:pt x="4440" y="12948"/>
                </a:cubicBezTo>
                <a:cubicBezTo>
                  <a:pt x="4452" y="12779"/>
                  <a:pt x="4502" y="12671"/>
                  <a:pt x="4589" y="12526"/>
                </a:cubicBezTo>
              </a:path>
              <a:path w="5383" h="7517">
                <a:moveTo>
                  <a:pt x="4465" y="13047"/>
                </a:moveTo>
                <a:cubicBezTo>
                  <a:pt x="4401" y="13213"/>
                  <a:pt x="4325" y="13362"/>
                  <a:pt x="4242" y="13519"/>
                </a:cubicBezTo>
                <a:cubicBezTo>
                  <a:pt x="4172" y="13657"/>
                  <a:pt x="4443" y="13202"/>
                  <a:pt x="4465" y="13171"/>
                </a:cubicBezTo>
                <a:cubicBezTo>
                  <a:pt x="4521" y="13096"/>
                  <a:pt x="4525" y="13083"/>
                  <a:pt x="4564" y="13047"/>
                </a:cubicBezTo>
                <a:cubicBezTo>
                  <a:pt x="4676" y="13174"/>
                  <a:pt x="4755" y="13315"/>
                  <a:pt x="4862" y="13444"/>
                </a:cubicBezTo>
              </a:path>
              <a:path w="5383" h="7517">
                <a:moveTo>
                  <a:pt x="3969" y="13891"/>
                </a:moveTo>
                <a:cubicBezTo>
                  <a:pt x="3994" y="13883"/>
                  <a:pt x="4018" y="13874"/>
                  <a:pt x="4043" y="13866"/>
                </a:cubicBezTo>
                <a:cubicBezTo>
                  <a:pt x="4120" y="14006"/>
                  <a:pt x="4102" y="14180"/>
                  <a:pt x="3894" y="14213"/>
                </a:cubicBezTo>
                <a:cubicBezTo>
                  <a:pt x="3719" y="14241"/>
                  <a:pt x="3792" y="14106"/>
                  <a:pt x="3820" y="14039"/>
                </a:cubicBezTo>
                <a:cubicBezTo>
                  <a:pt x="3866" y="13994"/>
                  <a:pt x="3898" y="14004"/>
                  <a:pt x="3944" y="14089"/>
                </a:cubicBezTo>
              </a:path>
              <a:path w="5383" h="7517">
                <a:moveTo>
                  <a:pt x="3795" y="14511"/>
                </a:moveTo>
                <a:cubicBezTo>
                  <a:pt x="3988" y="14444"/>
                  <a:pt x="4363" y="14351"/>
                  <a:pt x="4341" y="14064"/>
                </a:cubicBezTo>
                <a:cubicBezTo>
                  <a:pt x="4322" y="13813"/>
                  <a:pt x="3943" y="13684"/>
                  <a:pt x="3746" y="13791"/>
                </a:cubicBezTo>
                <a:cubicBezTo>
                  <a:pt x="3423" y="13966"/>
                  <a:pt x="3484" y="14249"/>
                  <a:pt x="3621" y="14486"/>
                </a:cubicBezTo>
              </a:path>
              <a:path w="5383" h="7517">
                <a:moveTo>
                  <a:pt x="4936" y="13891"/>
                </a:moveTo>
                <a:cubicBezTo>
                  <a:pt x="4888" y="14036"/>
                  <a:pt x="4860" y="13995"/>
                  <a:pt x="4986" y="14064"/>
                </a:cubicBezTo>
              </a:path>
              <a:path w="5383" h="7517">
                <a:moveTo>
                  <a:pt x="5085" y="13742"/>
                </a:moveTo>
                <a:cubicBezTo>
                  <a:pt x="5046" y="13904"/>
                  <a:pt x="5040" y="14046"/>
                  <a:pt x="5035" y="14213"/>
                </a:cubicBezTo>
              </a:path>
              <a:path w="5383" h="7517">
                <a:moveTo>
                  <a:pt x="5060" y="14610"/>
                </a:moveTo>
                <a:cubicBezTo>
                  <a:pt x="5013" y="14778"/>
                  <a:pt x="4967" y="14916"/>
                  <a:pt x="4862" y="15056"/>
                </a:cubicBezTo>
                <a:cubicBezTo>
                  <a:pt x="4950" y="14871"/>
                  <a:pt x="5030" y="14686"/>
                  <a:pt x="5135" y="14511"/>
                </a:cubicBezTo>
                <a:cubicBezTo>
                  <a:pt x="5242" y="14644"/>
                  <a:pt x="5303" y="14833"/>
                  <a:pt x="5407" y="14957"/>
                </a:cubicBezTo>
                <a:cubicBezTo>
                  <a:pt x="5424" y="14965"/>
                  <a:pt x="5440" y="14974"/>
                  <a:pt x="5457" y="14982"/>
                </a:cubicBezTo>
              </a:path>
              <a:path w="5383" h="7517">
                <a:moveTo>
                  <a:pt x="4614" y="15329"/>
                </a:moveTo>
                <a:cubicBezTo>
                  <a:pt x="4751" y="15352"/>
                  <a:pt x="4732" y="15350"/>
                  <a:pt x="4787" y="15478"/>
                </a:cubicBezTo>
                <a:cubicBezTo>
                  <a:pt x="4664" y="15593"/>
                  <a:pt x="4526" y="15716"/>
                  <a:pt x="4440" y="15577"/>
                </a:cubicBezTo>
                <a:cubicBezTo>
                  <a:pt x="4618" y="15501"/>
                  <a:pt x="4664" y="15528"/>
                  <a:pt x="4787" y="15677"/>
                </a:cubicBezTo>
              </a:path>
              <a:path w="5383" h="7517">
                <a:moveTo>
                  <a:pt x="4341" y="15875"/>
                </a:moveTo>
                <a:cubicBezTo>
                  <a:pt x="4574" y="15934"/>
                  <a:pt x="4818" y="15919"/>
                  <a:pt x="4961" y="15677"/>
                </a:cubicBezTo>
                <a:cubicBezTo>
                  <a:pt x="4978" y="15619"/>
                  <a:pt x="4994" y="15561"/>
                  <a:pt x="5011" y="15503"/>
                </a:cubicBezTo>
                <a:cubicBezTo>
                  <a:pt x="4821" y="15275"/>
                  <a:pt x="4504" y="15083"/>
                  <a:pt x="4217" y="15379"/>
                </a:cubicBezTo>
                <a:cubicBezTo>
                  <a:pt x="3993" y="15610"/>
                  <a:pt x="4075" y="15774"/>
                  <a:pt x="4192" y="15974"/>
                </a:cubicBezTo>
              </a:path>
              <a:path w="5383" h="7517">
                <a:moveTo>
                  <a:pt x="5581" y="15329"/>
                </a:moveTo>
                <a:cubicBezTo>
                  <a:pt x="5714" y="15316"/>
                  <a:pt x="5843" y="15290"/>
                  <a:pt x="5854" y="15478"/>
                </a:cubicBezTo>
                <a:cubicBezTo>
                  <a:pt x="5864" y="15663"/>
                  <a:pt x="5646" y="15681"/>
                  <a:pt x="5581" y="15602"/>
                </a:cubicBezTo>
                <a:cubicBezTo>
                  <a:pt x="5683" y="15542"/>
                  <a:pt x="5704" y="15554"/>
                  <a:pt x="5829" y="15577"/>
                </a:cubicBezTo>
              </a:path>
              <a:path w="5383" h="7517">
                <a:moveTo>
                  <a:pt x="5581" y="15900"/>
                </a:moveTo>
                <a:cubicBezTo>
                  <a:pt x="5833" y="15892"/>
                  <a:pt x="6115" y="15920"/>
                  <a:pt x="6251" y="15652"/>
                </a:cubicBezTo>
                <a:cubicBezTo>
                  <a:pt x="6445" y="15268"/>
                  <a:pt x="5989" y="15098"/>
                  <a:pt x="5680" y="15180"/>
                </a:cubicBezTo>
                <a:cubicBezTo>
                  <a:pt x="5164" y="15317"/>
                  <a:pt x="5376" y="15616"/>
                  <a:pt x="5631" y="1582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16040" y="3133800"/>
            <a:ext cx="849240" cy="716040"/>
          </a:xfrm>
          <a:custGeom>
            <a:avLst/>
            <a:gdLst/>
            <a:ahLst/>
            <a:rect l="l" t="t" r="r" b="b"/>
            <a:pathLst>
              <a:path w="2357" h="1986">
                <a:moveTo>
                  <a:pt x="5110" y="9599"/>
                </a:moveTo>
                <a:cubicBezTo>
                  <a:pt x="5326" y="9509"/>
                  <a:pt x="5612" y="9588"/>
                  <a:pt x="5531" y="9922"/>
                </a:cubicBezTo>
                <a:cubicBezTo>
                  <a:pt x="5494" y="10074"/>
                  <a:pt x="5154" y="10394"/>
                  <a:pt x="5060" y="10145"/>
                </a:cubicBezTo>
                <a:cubicBezTo>
                  <a:pt x="5060" y="10120"/>
                  <a:pt x="5060" y="10096"/>
                  <a:pt x="5060" y="10071"/>
                </a:cubicBezTo>
                <a:cubicBezTo>
                  <a:pt x="5266" y="10053"/>
                  <a:pt x="5451" y="10073"/>
                  <a:pt x="5655" y="10120"/>
                </a:cubicBezTo>
              </a:path>
              <a:path w="2357" h="1986">
                <a:moveTo>
                  <a:pt x="5531" y="9227"/>
                </a:moveTo>
                <a:cubicBezTo>
                  <a:pt x="5648" y="9217"/>
                  <a:pt x="5762" y="9189"/>
                  <a:pt x="5879" y="9178"/>
                </a:cubicBezTo>
                <a:cubicBezTo>
                  <a:pt x="5904" y="9301"/>
                  <a:pt x="5912" y="9342"/>
                  <a:pt x="5904" y="9426"/>
                </a:cubicBezTo>
              </a:path>
              <a:path w="2357" h="1986">
                <a:moveTo>
                  <a:pt x="5011" y="10592"/>
                </a:moveTo>
                <a:cubicBezTo>
                  <a:pt x="5420" y="10662"/>
                  <a:pt x="5690" y="10542"/>
                  <a:pt x="6077" y="10393"/>
                </a:cubicBezTo>
                <a:cubicBezTo>
                  <a:pt x="6505" y="10228"/>
                  <a:pt x="6899" y="9902"/>
                  <a:pt x="6846" y="9376"/>
                </a:cubicBezTo>
                <a:cubicBezTo>
                  <a:pt x="6776" y="8682"/>
                  <a:pt x="6067" y="8674"/>
                  <a:pt x="5531" y="8731"/>
                </a:cubicBezTo>
                <a:cubicBezTo>
                  <a:pt x="5028" y="8785"/>
                  <a:pt x="4639" y="9098"/>
                  <a:pt x="4514" y="9599"/>
                </a:cubicBezTo>
                <a:cubicBezTo>
                  <a:pt x="4405" y="10035"/>
                  <a:pt x="4489" y="10572"/>
                  <a:pt x="4986" y="10691"/>
                </a:cubicBezTo>
                <a:cubicBezTo>
                  <a:pt x="5270" y="10691"/>
                  <a:pt x="5357" y="10695"/>
                  <a:pt x="5531" y="10616"/>
                </a:cubicBezTo>
              </a:path>
              <a:path w="2357" h="1986">
                <a:moveTo>
                  <a:pt x="5879" y="9351"/>
                </a:moveTo>
                <a:cubicBezTo>
                  <a:pt x="5894" y="9444"/>
                  <a:pt x="5923" y="9533"/>
                  <a:pt x="5953" y="96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00680" y="3143160"/>
            <a:ext cx="1420560" cy="857520"/>
          </a:xfrm>
          <a:custGeom>
            <a:avLst/>
            <a:gdLst/>
            <a:ahLst/>
            <a:rect l="l" t="t" r="r" b="b"/>
            <a:pathLst>
              <a:path w="3945" h="2382">
                <a:moveTo>
                  <a:pt x="11981" y="8905"/>
                </a:moveTo>
                <a:cubicBezTo>
                  <a:pt x="11851" y="8951"/>
                  <a:pt x="11708" y="8954"/>
                  <a:pt x="11683" y="9079"/>
                </a:cubicBezTo>
                <a:cubicBezTo>
                  <a:pt x="11683" y="9128"/>
                  <a:pt x="11683" y="9145"/>
                  <a:pt x="11683" y="9178"/>
                </a:cubicBezTo>
                <a:cubicBezTo>
                  <a:pt x="11817" y="9139"/>
                  <a:pt x="11913" y="9133"/>
                  <a:pt x="12055" y="9128"/>
                </a:cubicBezTo>
                <a:cubicBezTo>
                  <a:pt x="12085" y="9394"/>
                  <a:pt x="11938" y="9428"/>
                  <a:pt x="11683" y="9500"/>
                </a:cubicBezTo>
              </a:path>
              <a:path w="3945" h="2382">
                <a:moveTo>
                  <a:pt x="13146" y="9004"/>
                </a:moveTo>
                <a:cubicBezTo>
                  <a:pt x="13316" y="9004"/>
                  <a:pt x="13360" y="9050"/>
                  <a:pt x="13196" y="9153"/>
                </a:cubicBezTo>
                <a:cubicBezTo>
                  <a:pt x="13163" y="9170"/>
                  <a:pt x="13130" y="9186"/>
                  <a:pt x="13097" y="9203"/>
                </a:cubicBezTo>
                <a:cubicBezTo>
                  <a:pt x="13151" y="9186"/>
                  <a:pt x="13410" y="9130"/>
                  <a:pt x="13370" y="9277"/>
                </a:cubicBezTo>
                <a:cubicBezTo>
                  <a:pt x="13324" y="9447"/>
                  <a:pt x="13165" y="9407"/>
                  <a:pt x="13047" y="9401"/>
                </a:cubicBezTo>
              </a:path>
              <a:path w="3945" h="2382">
                <a:moveTo>
                  <a:pt x="13568" y="8979"/>
                </a:moveTo>
                <a:cubicBezTo>
                  <a:pt x="13591" y="9061"/>
                  <a:pt x="13837" y="9040"/>
                  <a:pt x="13841" y="9178"/>
                </a:cubicBezTo>
                <a:cubicBezTo>
                  <a:pt x="13846" y="9335"/>
                  <a:pt x="13658" y="9317"/>
                  <a:pt x="13568" y="9327"/>
                </a:cubicBezTo>
              </a:path>
              <a:path w="3945" h="2382">
                <a:moveTo>
                  <a:pt x="13767" y="8830"/>
                </a:moveTo>
                <a:cubicBezTo>
                  <a:pt x="13800" y="8822"/>
                  <a:pt x="13833" y="8814"/>
                  <a:pt x="13866" y="8806"/>
                </a:cubicBezTo>
              </a:path>
              <a:path w="3945" h="2382">
                <a:moveTo>
                  <a:pt x="11212" y="9699"/>
                </a:moveTo>
                <a:cubicBezTo>
                  <a:pt x="11537" y="9814"/>
                  <a:pt x="11931" y="9917"/>
                  <a:pt x="12229" y="9649"/>
                </a:cubicBezTo>
                <a:cubicBezTo>
                  <a:pt x="12579" y="9334"/>
                  <a:pt x="12174" y="8915"/>
                  <a:pt x="11881" y="8781"/>
                </a:cubicBezTo>
                <a:cubicBezTo>
                  <a:pt x="11601" y="8653"/>
                  <a:pt x="11155" y="8806"/>
                  <a:pt x="11112" y="9153"/>
                </a:cubicBezTo>
                <a:cubicBezTo>
                  <a:pt x="11162" y="9472"/>
                  <a:pt x="11177" y="9578"/>
                  <a:pt x="11361" y="9723"/>
                </a:cubicBezTo>
              </a:path>
              <a:path w="3945" h="2382">
                <a:moveTo>
                  <a:pt x="13643" y="9649"/>
                </a:moveTo>
                <a:cubicBezTo>
                  <a:pt x="13478" y="9690"/>
                  <a:pt x="13457" y="9876"/>
                  <a:pt x="13395" y="10021"/>
                </a:cubicBezTo>
                <a:cubicBezTo>
                  <a:pt x="13387" y="10038"/>
                  <a:pt x="13378" y="10054"/>
                  <a:pt x="13370" y="10071"/>
                </a:cubicBezTo>
                <a:cubicBezTo>
                  <a:pt x="13488" y="9915"/>
                  <a:pt x="13587" y="9677"/>
                  <a:pt x="13692" y="9550"/>
                </a:cubicBezTo>
                <a:cubicBezTo>
                  <a:pt x="13806" y="9644"/>
                  <a:pt x="13910" y="9742"/>
                  <a:pt x="14015" y="9847"/>
                </a:cubicBezTo>
              </a:path>
              <a:path w="3945" h="2382">
                <a:moveTo>
                  <a:pt x="13171" y="10294"/>
                </a:moveTo>
                <a:cubicBezTo>
                  <a:pt x="13147" y="10354"/>
                  <a:pt x="13127" y="10415"/>
                  <a:pt x="13097" y="10468"/>
                </a:cubicBezTo>
                <a:cubicBezTo>
                  <a:pt x="13166" y="10493"/>
                  <a:pt x="13345" y="10483"/>
                  <a:pt x="13345" y="10592"/>
                </a:cubicBezTo>
                <a:cubicBezTo>
                  <a:pt x="13293" y="10696"/>
                  <a:pt x="13271" y="10730"/>
                  <a:pt x="13171" y="10716"/>
                </a:cubicBezTo>
              </a:path>
              <a:path w="3945" h="2382">
                <a:moveTo>
                  <a:pt x="13171" y="10319"/>
                </a:moveTo>
                <a:cubicBezTo>
                  <a:pt x="13294" y="10288"/>
                  <a:pt x="13350" y="10280"/>
                  <a:pt x="13444" y="10294"/>
                </a:cubicBezTo>
              </a:path>
              <a:path w="3945" h="2382">
                <a:moveTo>
                  <a:pt x="14064" y="10244"/>
                </a:moveTo>
                <a:cubicBezTo>
                  <a:pt x="14149" y="10232"/>
                  <a:pt x="14307" y="10088"/>
                  <a:pt x="14436" y="10046"/>
                </a:cubicBezTo>
                <a:cubicBezTo>
                  <a:pt x="14606" y="9991"/>
                  <a:pt x="14521" y="10362"/>
                  <a:pt x="14511" y="10418"/>
                </a:cubicBezTo>
                <a:cubicBezTo>
                  <a:pt x="14503" y="10451"/>
                  <a:pt x="14494" y="10484"/>
                  <a:pt x="14486" y="10517"/>
                </a:cubicBezTo>
              </a:path>
              <a:path w="3945" h="2382">
                <a:moveTo>
                  <a:pt x="12799" y="10889"/>
                </a:moveTo>
                <a:cubicBezTo>
                  <a:pt x="12846" y="11135"/>
                  <a:pt x="12983" y="11159"/>
                  <a:pt x="13221" y="11038"/>
                </a:cubicBezTo>
                <a:cubicBezTo>
                  <a:pt x="13534" y="10879"/>
                  <a:pt x="13546" y="10747"/>
                  <a:pt x="13618" y="10443"/>
                </a:cubicBezTo>
                <a:cubicBezTo>
                  <a:pt x="13344" y="10220"/>
                  <a:pt x="12919" y="10003"/>
                  <a:pt x="12650" y="10418"/>
                </a:cubicBezTo>
                <a:cubicBezTo>
                  <a:pt x="12422" y="10771"/>
                  <a:pt x="12678" y="10910"/>
                  <a:pt x="12898" y="11088"/>
                </a:cubicBezTo>
              </a:path>
              <a:path w="3945" h="2382">
                <a:moveTo>
                  <a:pt x="14015" y="10691"/>
                </a:moveTo>
                <a:cubicBezTo>
                  <a:pt x="14154" y="10862"/>
                  <a:pt x="14382" y="10888"/>
                  <a:pt x="14610" y="10815"/>
                </a:cubicBezTo>
                <a:cubicBezTo>
                  <a:pt x="14820" y="10748"/>
                  <a:pt x="15177" y="10428"/>
                  <a:pt x="15032" y="10170"/>
                </a:cubicBezTo>
                <a:cubicBezTo>
                  <a:pt x="14822" y="9799"/>
                  <a:pt x="14195" y="9679"/>
                  <a:pt x="13915" y="10021"/>
                </a:cubicBezTo>
                <a:cubicBezTo>
                  <a:pt x="13575" y="10437"/>
                  <a:pt x="13889" y="10572"/>
                  <a:pt x="14163" y="1074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67120" y="4259160"/>
            <a:ext cx="1276560" cy="652680"/>
          </a:xfrm>
          <a:custGeom>
            <a:avLst/>
            <a:gdLst/>
            <a:ahLst/>
            <a:rect l="l" t="t" r="r" b="b"/>
            <a:pathLst>
              <a:path w="3549" h="1812">
                <a:moveTo>
                  <a:pt x="11782" y="12254"/>
                </a:moveTo>
                <a:cubicBezTo>
                  <a:pt x="11560" y="12325"/>
                  <a:pt x="11397" y="12278"/>
                  <a:pt x="11385" y="12502"/>
                </a:cubicBezTo>
                <a:cubicBezTo>
                  <a:pt x="11385" y="12676"/>
                  <a:pt x="11380" y="12719"/>
                  <a:pt x="11410" y="12824"/>
                </a:cubicBezTo>
                <a:cubicBezTo>
                  <a:pt x="11674" y="12725"/>
                  <a:pt x="11720" y="12723"/>
                  <a:pt x="11956" y="12874"/>
                </a:cubicBezTo>
                <a:cubicBezTo>
                  <a:pt x="11855" y="13104"/>
                  <a:pt x="11665" y="13282"/>
                  <a:pt x="11361" y="13221"/>
                </a:cubicBezTo>
                <a:cubicBezTo>
                  <a:pt x="11311" y="13196"/>
                  <a:pt x="11262" y="13171"/>
                  <a:pt x="11212" y="13146"/>
                </a:cubicBezTo>
              </a:path>
              <a:path w="3549" h="1812">
                <a:moveTo>
                  <a:pt x="12129" y="12080"/>
                </a:moveTo>
                <a:cubicBezTo>
                  <a:pt x="12223" y="12100"/>
                  <a:pt x="12553" y="12250"/>
                  <a:pt x="12328" y="12402"/>
                </a:cubicBezTo>
                <a:cubicBezTo>
                  <a:pt x="12157" y="12451"/>
                  <a:pt x="12101" y="12468"/>
                  <a:pt x="11981" y="12452"/>
                </a:cubicBezTo>
                <a:cubicBezTo>
                  <a:pt x="11956" y="12435"/>
                  <a:pt x="11931" y="12419"/>
                  <a:pt x="11906" y="12402"/>
                </a:cubicBezTo>
                <a:cubicBezTo>
                  <a:pt x="12101" y="12234"/>
                  <a:pt x="12176" y="12271"/>
                  <a:pt x="12378" y="12427"/>
                </a:cubicBezTo>
              </a:path>
              <a:path w="3549" h="1812">
                <a:moveTo>
                  <a:pt x="12750" y="12402"/>
                </a:moveTo>
                <a:cubicBezTo>
                  <a:pt x="12841" y="12544"/>
                  <a:pt x="12926" y="12637"/>
                  <a:pt x="13072" y="12725"/>
                </a:cubicBezTo>
              </a:path>
              <a:path w="3549" h="1812">
                <a:moveTo>
                  <a:pt x="13022" y="12303"/>
                </a:moveTo>
                <a:cubicBezTo>
                  <a:pt x="12948" y="12490"/>
                  <a:pt x="12895" y="12674"/>
                  <a:pt x="12874" y="12874"/>
                </a:cubicBezTo>
              </a:path>
              <a:path w="3549" h="1812">
                <a:moveTo>
                  <a:pt x="13320" y="12229"/>
                </a:moveTo>
                <a:cubicBezTo>
                  <a:pt x="13411" y="12229"/>
                  <a:pt x="13502" y="12229"/>
                  <a:pt x="13593" y="12229"/>
                </a:cubicBezTo>
                <a:cubicBezTo>
                  <a:pt x="13593" y="12412"/>
                  <a:pt x="13575" y="12591"/>
                  <a:pt x="13568" y="12774"/>
                </a:cubicBezTo>
              </a:path>
              <a:path w="3549" h="1812">
                <a:moveTo>
                  <a:pt x="11013" y="13643"/>
                </a:moveTo>
                <a:cubicBezTo>
                  <a:pt x="11651" y="13624"/>
                  <a:pt x="12314" y="13566"/>
                  <a:pt x="12948" y="13494"/>
                </a:cubicBezTo>
                <a:cubicBezTo>
                  <a:pt x="13403" y="13442"/>
                  <a:pt x="14010" y="13324"/>
                  <a:pt x="14238" y="12874"/>
                </a:cubicBezTo>
                <a:cubicBezTo>
                  <a:pt x="14363" y="12628"/>
                  <a:pt x="14323" y="12180"/>
                  <a:pt x="14064" y="12030"/>
                </a:cubicBezTo>
                <a:cubicBezTo>
                  <a:pt x="13691" y="11813"/>
                  <a:pt x="13017" y="11846"/>
                  <a:pt x="12601" y="11832"/>
                </a:cubicBezTo>
                <a:cubicBezTo>
                  <a:pt x="12125" y="11816"/>
                  <a:pt x="11563" y="11867"/>
                  <a:pt x="11162" y="12154"/>
                </a:cubicBezTo>
                <a:cubicBezTo>
                  <a:pt x="10848" y="12378"/>
                  <a:pt x="10690" y="12799"/>
                  <a:pt x="10765" y="13171"/>
                </a:cubicBezTo>
                <a:cubicBezTo>
                  <a:pt x="10851" y="13409"/>
                  <a:pt x="10864" y="13470"/>
                  <a:pt x="10964" y="1359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375240" y="4581360"/>
            <a:ext cx="1492560" cy="749520"/>
          </a:xfrm>
          <a:custGeom>
            <a:avLst/>
            <a:gdLst/>
            <a:ahLst/>
            <a:rect l="l" t="t" r="r" b="b"/>
            <a:pathLst>
              <a:path w="4143" h="2084">
                <a:moveTo>
                  <a:pt x="18256" y="14808"/>
                </a:moveTo>
                <a:cubicBezTo>
                  <a:pt x="18584" y="14802"/>
                  <a:pt x="18921" y="14809"/>
                  <a:pt x="19248" y="14784"/>
                </a:cubicBezTo>
                <a:cubicBezTo>
                  <a:pt x="19782" y="14742"/>
                  <a:pt x="20386" y="14751"/>
                  <a:pt x="20910" y="14635"/>
                </a:cubicBezTo>
                <a:cubicBezTo>
                  <a:pt x="21218" y="14567"/>
                  <a:pt x="21434" y="14423"/>
                  <a:pt x="21630" y="14188"/>
                </a:cubicBezTo>
                <a:cubicBezTo>
                  <a:pt x="21707" y="14096"/>
                  <a:pt x="21814" y="13982"/>
                  <a:pt x="21853" y="13866"/>
                </a:cubicBezTo>
                <a:cubicBezTo>
                  <a:pt x="21886" y="13770"/>
                  <a:pt x="21848" y="13610"/>
                  <a:pt x="21828" y="13519"/>
                </a:cubicBezTo>
                <a:cubicBezTo>
                  <a:pt x="21789" y="13344"/>
                  <a:pt x="21665" y="13188"/>
                  <a:pt x="21530" y="13072"/>
                </a:cubicBezTo>
                <a:cubicBezTo>
                  <a:pt x="21389" y="12950"/>
                  <a:pt x="21187" y="12853"/>
                  <a:pt x="21010" y="12799"/>
                </a:cubicBezTo>
                <a:cubicBezTo>
                  <a:pt x="20822" y="12742"/>
                  <a:pt x="20634" y="12725"/>
                  <a:pt x="20439" y="12725"/>
                </a:cubicBezTo>
                <a:cubicBezTo>
                  <a:pt x="20200" y="12725"/>
                  <a:pt x="19956" y="12707"/>
                  <a:pt x="19720" y="12750"/>
                </a:cubicBezTo>
                <a:cubicBezTo>
                  <a:pt x="19604" y="12771"/>
                  <a:pt x="19518" y="12774"/>
                  <a:pt x="19397" y="12774"/>
                </a:cubicBezTo>
                <a:cubicBezTo>
                  <a:pt x="19229" y="12774"/>
                  <a:pt x="19040" y="12768"/>
                  <a:pt x="18876" y="12799"/>
                </a:cubicBezTo>
                <a:cubicBezTo>
                  <a:pt x="18591" y="12854"/>
                  <a:pt x="18305" y="12951"/>
                  <a:pt x="18058" y="13097"/>
                </a:cubicBezTo>
                <a:cubicBezTo>
                  <a:pt x="17861" y="13213"/>
                  <a:pt x="17723" y="13374"/>
                  <a:pt x="17711" y="13618"/>
                </a:cubicBezTo>
                <a:cubicBezTo>
                  <a:pt x="17701" y="13829"/>
                  <a:pt x="17789" y="14295"/>
                  <a:pt x="17983" y="14436"/>
                </a:cubicBezTo>
                <a:cubicBezTo>
                  <a:pt x="18238" y="14621"/>
                  <a:pt x="18689" y="14539"/>
                  <a:pt x="18976" y="14511"/>
                </a:cubicBezTo>
              </a:path>
              <a:path w="4143" h="2084">
                <a:moveTo>
                  <a:pt x="18455" y="13146"/>
                </a:moveTo>
                <a:cubicBezTo>
                  <a:pt x="18593" y="13008"/>
                  <a:pt x="18585" y="13098"/>
                  <a:pt x="18455" y="13246"/>
                </a:cubicBezTo>
                <a:cubicBezTo>
                  <a:pt x="18285" y="13439"/>
                  <a:pt x="18660" y="13252"/>
                  <a:pt x="18752" y="13221"/>
                </a:cubicBezTo>
              </a:path>
              <a:path w="4143" h="2084">
                <a:moveTo>
                  <a:pt x="20290" y="12948"/>
                </a:moveTo>
                <a:cubicBezTo>
                  <a:pt x="20366" y="12948"/>
                  <a:pt x="20392" y="12948"/>
                  <a:pt x="20439" y="12923"/>
                </a:cubicBezTo>
                <a:cubicBezTo>
                  <a:pt x="20413" y="13086"/>
                  <a:pt x="20385" y="13126"/>
                  <a:pt x="20265" y="13246"/>
                </a:cubicBezTo>
                <a:cubicBezTo>
                  <a:pt x="20383" y="13262"/>
                  <a:pt x="20469" y="13248"/>
                  <a:pt x="20588" y="132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92920" y="2919240"/>
            <a:ext cx="1197000" cy="804960"/>
          </a:xfrm>
          <a:custGeom>
            <a:avLst/>
            <a:gdLst/>
            <a:ahLst/>
            <a:rect l="l" t="t" r="r" b="b"/>
            <a:pathLst>
              <a:path w="3325" h="2234">
                <a:moveTo>
                  <a:pt x="21010" y="8161"/>
                </a:moveTo>
                <a:cubicBezTo>
                  <a:pt x="20893" y="8311"/>
                  <a:pt x="20799" y="8478"/>
                  <a:pt x="20687" y="8632"/>
                </a:cubicBezTo>
                <a:cubicBezTo>
                  <a:pt x="20778" y="8468"/>
                  <a:pt x="20862" y="8274"/>
                  <a:pt x="21010" y="8161"/>
                </a:cubicBezTo>
                <a:cubicBezTo>
                  <a:pt x="21035" y="8144"/>
                  <a:pt x="21059" y="8128"/>
                  <a:pt x="21084" y="8111"/>
                </a:cubicBezTo>
                <a:cubicBezTo>
                  <a:pt x="21173" y="8244"/>
                  <a:pt x="21296" y="8354"/>
                  <a:pt x="21382" y="8483"/>
                </a:cubicBezTo>
                <a:cubicBezTo>
                  <a:pt x="21382" y="8491"/>
                  <a:pt x="21382" y="8500"/>
                  <a:pt x="21382" y="8508"/>
                </a:cubicBezTo>
              </a:path>
              <a:path w="3325" h="2234">
                <a:moveTo>
                  <a:pt x="20017" y="8781"/>
                </a:moveTo>
                <a:cubicBezTo>
                  <a:pt x="20119" y="8781"/>
                  <a:pt x="20153" y="8782"/>
                  <a:pt x="20191" y="8855"/>
                </a:cubicBezTo>
                <a:cubicBezTo>
                  <a:pt x="20129" y="9050"/>
                  <a:pt x="19950" y="9210"/>
                  <a:pt x="19695" y="9103"/>
                </a:cubicBezTo>
                <a:cubicBezTo>
                  <a:pt x="19678" y="9078"/>
                  <a:pt x="19662" y="9054"/>
                  <a:pt x="19645" y="9029"/>
                </a:cubicBezTo>
                <a:cubicBezTo>
                  <a:pt x="19795" y="8853"/>
                  <a:pt x="19870" y="8902"/>
                  <a:pt x="20042" y="9054"/>
                </a:cubicBezTo>
                <a:cubicBezTo>
                  <a:pt x="20088" y="9100"/>
                  <a:pt x="20101" y="9114"/>
                  <a:pt x="20141" y="9128"/>
                </a:cubicBezTo>
              </a:path>
              <a:path w="3325" h="2234">
                <a:moveTo>
                  <a:pt x="21406" y="8880"/>
                </a:moveTo>
                <a:cubicBezTo>
                  <a:pt x="21385" y="8795"/>
                  <a:pt x="21321" y="8668"/>
                  <a:pt x="21208" y="8731"/>
                </a:cubicBezTo>
                <a:cubicBezTo>
                  <a:pt x="21131" y="8774"/>
                  <a:pt x="21091" y="8973"/>
                  <a:pt x="21233" y="8930"/>
                </a:cubicBezTo>
                <a:cubicBezTo>
                  <a:pt x="21323" y="8903"/>
                  <a:pt x="21308" y="8940"/>
                  <a:pt x="21258" y="9079"/>
                </a:cubicBezTo>
              </a:path>
              <a:path w="3325" h="2234">
                <a:moveTo>
                  <a:pt x="21704" y="8731"/>
                </a:moveTo>
                <a:cubicBezTo>
                  <a:pt x="21599" y="8820"/>
                  <a:pt x="21557" y="8879"/>
                  <a:pt x="21506" y="9004"/>
                </a:cubicBezTo>
                <a:cubicBezTo>
                  <a:pt x="21552" y="9019"/>
                  <a:pt x="21980" y="9051"/>
                  <a:pt x="21853" y="8880"/>
                </a:cubicBezTo>
                <a:cubicBezTo>
                  <a:pt x="21812" y="8855"/>
                  <a:pt x="21770" y="8831"/>
                  <a:pt x="21729" y="8806"/>
                </a:cubicBezTo>
              </a:path>
              <a:path w="3325" h="2234">
                <a:moveTo>
                  <a:pt x="19397" y="9401"/>
                </a:moveTo>
                <a:cubicBezTo>
                  <a:pt x="19691" y="9534"/>
                  <a:pt x="20036" y="9650"/>
                  <a:pt x="20315" y="9376"/>
                </a:cubicBezTo>
                <a:cubicBezTo>
                  <a:pt x="20640" y="9057"/>
                  <a:pt x="20149" y="8680"/>
                  <a:pt x="19869" y="8607"/>
                </a:cubicBezTo>
                <a:cubicBezTo>
                  <a:pt x="19217" y="8437"/>
                  <a:pt x="19174" y="8874"/>
                  <a:pt x="19224" y="9351"/>
                </a:cubicBezTo>
              </a:path>
              <a:path w="3325" h="2234">
                <a:moveTo>
                  <a:pt x="21382" y="9302"/>
                </a:moveTo>
                <a:cubicBezTo>
                  <a:pt x="21324" y="9376"/>
                  <a:pt x="21269" y="9453"/>
                  <a:pt x="21208" y="9525"/>
                </a:cubicBezTo>
                <a:cubicBezTo>
                  <a:pt x="21265" y="9461"/>
                  <a:pt x="21391" y="9210"/>
                  <a:pt x="21506" y="9252"/>
                </a:cubicBezTo>
                <a:cubicBezTo>
                  <a:pt x="21614" y="9291"/>
                  <a:pt x="21699" y="9489"/>
                  <a:pt x="21779" y="9575"/>
                </a:cubicBezTo>
              </a:path>
              <a:path w="3325" h="2234">
                <a:moveTo>
                  <a:pt x="20910" y="10071"/>
                </a:moveTo>
                <a:cubicBezTo>
                  <a:pt x="20902" y="9987"/>
                  <a:pt x="20901" y="9816"/>
                  <a:pt x="20786" y="9798"/>
                </a:cubicBezTo>
                <a:cubicBezTo>
                  <a:pt x="20637" y="9775"/>
                  <a:pt x="20617" y="10009"/>
                  <a:pt x="20588" y="10096"/>
                </a:cubicBezTo>
                <a:cubicBezTo>
                  <a:pt x="20781" y="10141"/>
                  <a:pt x="20851" y="10105"/>
                  <a:pt x="20910" y="9897"/>
                </a:cubicBezTo>
                <a:cubicBezTo>
                  <a:pt x="20951" y="9751"/>
                  <a:pt x="20877" y="10149"/>
                  <a:pt x="20836" y="10294"/>
                </a:cubicBezTo>
                <a:cubicBezTo>
                  <a:pt x="20828" y="10311"/>
                  <a:pt x="20819" y="10327"/>
                  <a:pt x="20811" y="10344"/>
                </a:cubicBezTo>
              </a:path>
              <a:path w="3325" h="2234">
                <a:moveTo>
                  <a:pt x="21952" y="9847"/>
                </a:moveTo>
                <a:cubicBezTo>
                  <a:pt x="21928" y="9988"/>
                  <a:pt x="21922" y="10029"/>
                  <a:pt x="21903" y="10120"/>
                </a:cubicBezTo>
              </a:path>
              <a:path w="3325" h="2234">
                <a:moveTo>
                  <a:pt x="22324" y="9575"/>
                </a:moveTo>
                <a:cubicBezTo>
                  <a:pt x="22224" y="9716"/>
                  <a:pt x="22173" y="9806"/>
                  <a:pt x="22126" y="9971"/>
                </a:cubicBezTo>
                <a:cubicBezTo>
                  <a:pt x="22222" y="10003"/>
                  <a:pt x="22516" y="10040"/>
                  <a:pt x="22473" y="9823"/>
                </a:cubicBezTo>
                <a:cubicBezTo>
                  <a:pt x="22448" y="9782"/>
                  <a:pt x="22424" y="9740"/>
                  <a:pt x="22399" y="969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11960" y="4848120"/>
            <a:ext cx="268200" cy="233640"/>
          </a:xfrm>
          <a:custGeom>
            <a:avLst/>
            <a:gdLst/>
            <a:ahLst/>
            <a:rect l="l" t="t" r="r" b="b"/>
            <a:pathLst>
              <a:path w="745" h="646">
                <a:moveTo>
                  <a:pt x="18083" y="13469"/>
                </a:moveTo>
                <a:cubicBezTo>
                  <a:pt x="18299" y="13523"/>
                  <a:pt x="18539" y="13755"/>
                  <a:pt x="18281" y="13990"/>
                </a:cubicBezTo>
                <a:cubicBezTo>
                  <a:pt x="18079" y="14080"/>
                  <a:pt x="18027" y="14110"/>
                  <a:pt x="17884" y="14114"/>
                </a:cubicBezTo>
                <a:cubicBezTo>
                  <a:pt x="17826" y="13819"/>
                  <a:pt x="18191" y="13797"/>
                  <a:pt x="18479" y="13866"/>
                </a:cubicBezTo>
                <a:cubicBezTo>
                  <a:pt x="18504" y="13882"/>
                  <a:pt x="18529" y="13899"/>
                  <a:pt x="18554" y="1391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956280" y="4803840"/>
            <a:ext cx="401760" cy="295200"/>
          </a:xfrm>
          <a:custGeom>
            <a:avLst/>
            <a:gdLst/>
            <a:ahLst/>
            <a:rect l="l" t="t" r="r" b="b"/>
            <a:pathLst>
              <a:path w="1117" h="819">
                <a:moveTo>
                  <a:pt x="19323" y="13395"/>
                </a:moveTo>
                <a:cubicBezTo>
                  <a:pt x="19420" y="13474"/>
                  <a:pt x="19507" y="13554"/>
                  <a:pt x="19596" y="13643"/>
                </a:cubicBezTo>
              </a:path>
              <a:path w="1117" h="819">
                <a:moveTo>
                  <a:pt x="19496" y="13395"/>
                </a:moveTo>
                <a:cubicBezTo>
                  <a:pt x="19453" y="13394"/>
                  <a:pt x="19394" y="13591"/>
                  <a:pt x="19348" y="13742"/>
                </a:cubicBezTo>
              </a:path>
              <a:path w="1117" h="819">
                <a:moveTo>
                  <a:pt x="20141" y="13543"/>
                </a:moveTo>
                <a:cubicBezTo>
                  <a:pt x="20266" y="13523"/>
                  <a:pt x="20293" y="13507"/>
                  <a:pt x="20365" y="13543"/>
                </a:cubicBezTo>
                <a:cubicBezTo>
                  <a:pt x="20364" y="13727"/>
                  <a:pt x="20266" y="13754"/>
                  <a:pt x="20092" y="13816"/>
                </a:cubicBezTo>
                <a:cubicBezTo>
                  <a:pt x="20210" y="13816"/>
                  <a:pt x="20538" y="13780"/>
                  <a:pt x="20439" y="14015"/>
                </a:cubicBezTo>
                <a:cubicBezTo>
                  <a:pt x="20353" y="14220"/>
                  <a:pt x="20091" y="14163"/>
                  <a:pt x="19943" y="1411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545240" y="4795920"/>
            <a:ext cx="331920" cy="222120"/>
          </a:xfrm>
          <a:custGeom>
            <a:avLst/>
            <a:gdLst/>
            <a:ahLst/>
            <a:rect l="l" t="t" r="r" b="b"/>
            <a:pathLst>
              <a:path w="919" h="621">
                <a:moveTo>
                  <a:pt x="20960" y="13568"/>
                </a:moveTo>
                <a:cubicBezTo>
                  <a:pt x="21031" y="13672"/>
                  <a:pt x="21094" y="13751"/>
                  <a:pt x="21183" y="13841"/>
                </a:cubicBezTo>
              </a:path>
              <a:path w="919" h="621">
                <a:moveTo>
                  <a:pt x="21134" y="13444"/>
                </a:moveTo>
                <a:cubicBezTo>
                  <a:pt x="21073" y="13577"/>
                  <a:pt x="21019" y="13708"/>
                  <a:pt x="20960" y="13841"/>
                </a:cubicBezTo>
              </a:path>
              <a:path w="919" h="621">
                <a:moveTo>
                  <a:pt x="21382" y="13419"/>
                </a:moveTo>
                <a:cubicBezTo>
                  <a:pt x="21344" y="13476"/>
                  <a:pt x="21327" y="13479"/>
                  <a:pt x="21332" y="13519"/>
                </a:cubicBezTo>
                <a:cubicBezTo>
                  <a:pt x="21455" y="13570"/>
                  <a:pt x="21745" y="13603"/>
                  <a:pt x="21729" y="13791"/>
                </a:cubicBezTo>
                <a:cubicBezTo>
                  <a:pt x="21710" y="14009"/>
                  <a:pt x="21470" y="13908"/>
                  <a:pt x="21357" y="13891"/>
                </a:cubicBezTo>
              </a:path>
              <a:path w="919" h="621">
                <a:moveTo>
                  <a:pt x="21605" y="13370"/>
                </a:moveTo>
                <a:cubicBezTo>
                  <a:pt x="21755" y="13348"/>
                  <a:pt x="21789" y="13346"/>
                  <a:pt x="21878" y="1332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919920" y="3616200"/>
            <a:ext cx="1724040" cy="714600"/>
          </a:xfrm>
          <a:custGeom>
            <a:avLst/>
            <a:gdLst/>
            <a:ahLst/>
            <a:rect l="l" t="t" r="r" b="b"/>
            <a:pathLst>
              <a:path w="4788" h="1985">
                <a:moveTo>
                  <a:pt x="20489" y="10592"/>
                </a:moveTo>
                <a:cubicBezTo>
                  <a:pt x="20457" y="10750"/>
                  <a:pt x="20357" y="10879"/>
                  <a:pt x="20265" y="11013"/>
                </a:cubicBezTo>
                <a:cubicBezTo>
                  <a:pt x="20347" y="10880"/>
                  <a:pt x="20447" y="10697"/>
                  <a:pt x="20563" y="10592"/>
                </a:cubicBezTo>
                <a:cubicBezTo>
                  <a:pt x="20571" y="10592"/>
                  <a:pt x="20580" y="10592"/>
                  <a:pt x="20588" y="10592"/>
                </a:cubicBezTo>
                <a:cubicBezTo>
                  <a:pt x="20685" y="10688"/>
                  <a:pt x="20719" y="10807"/>
                  <a:pt x="20811" y="10914"/>
                </a:cubicBezTo>
                <a:cubicBezTo>
                  <a:pt x="20819" y="10922"/>
                  <a:pt x="20828" y="10931"/>
                  <a:pt x="20836" y="10939"/>
                </a:cubicBezTo>
              </a:path>
              <a:path w="4788" h="1985">
                <a:moveTo>
                  <a:pt x="19918" y="11162"/>
                </a:moveTo>
                <a:cubicBezTo>
                  <a:pt x="20191" y="11178"/>
                  <a:pt x="20166" y="11230"/>
                  <a:pt x="20017" y="11435"/>
                </a:cubicBezTo>
                <a:cubicBezTo>
                  <a:pt x="19992" y="11452"/>
                  <a:pt x="19968" y="11468"/>
                  <a:pt x="19943" y="11485"/>
                </a:cubicBezTo>
                <a:cubicBezTo>
                  <a:pt x="20054" y="11498"/>
                  <a:pt x="20414" y="11584"/>
                  <a:pt x="20067" y="11683"/>
                </a:cubicBezTo>
                <a:cubicBezTo>
                  <a:pt x="19893" y="11705"/>
                  <a:pt x="19851" y="11718"/>
                  <a:pt x="19745" y="11683"/>
                </a:cubicBezTo>
              </a:path>
              <a:path w="4788" h="1985">
                <a:moveTo>
                  <a:pt x="20786" y="11237"/>
                </a:moveTo>
                <a:cubicBezTo>
                  <a:pt x="20852" y="11217"/>
                  <a:pt x="21053" y="11166"/>
                  <a:pt x="21034" y="11311"/>
                </a:cubicBezTo>
                <a:cubicBezTo>
                  <a:pt x="21017" y="11440"/>
                  <a:pt x="20907" y="11430"/>
                  <a:pt x="20811" y="11460"/>
                </a:cubicBezTo>
                <a:cubicBezTo>
                  <a:pt x="20891" y="11380"/>
                  <a:pt x="21079" y="11350"/>
                  <a:pt x="21134" y="11509"/>
                </a:cubicBezTo>
                <a:cubicBezTo>
                  <a:pt x="21177" y="11635"/>
                  <a:pt x="20942" y="11665"/>
                  <a:pt x="20886" y="11683"/>
                </a:cubicBezTo>
              </a:path>
              <a:path w="4788" h="1985">
                <a:moveTo>
                  <a:pt x="19298" y="11931"/>
                </a:moveTo>
                <a:cubicBezTo>
                  <a:pt x="19520" y="11999"/>
                  <a:pt x="19756" y="12057"/>
                  <a:pt x="19968" y="11906"/>
                </a:cubicBezTo>
                <a:cubicBezTo>
                  <a:pt x="20157" y="11771"/>
                  <a:pt x="20422" y="11413"/>
                  <a:pt x="20290" y="11162"/>
                </a:cubicBezTo>
                <a:cubicBezTo>
                  <a:pt x="20150" y="10896"/>
                  <a:pt x="19706" y="10778"/>
                  <a:pt x="19447" y="10914"/>
                </a:cubicBezTo>
                <a:cubicBezTo>
                  <a:pt x="19026" y="11135"/>
                  <a:pt x="19301" y="11559"/>
                  <a:pt x="19472" y="11807"/>
                </a:cubicBezTo>
              </a:path>
              <a:path w="4788" h="1985">
                <a:moveTo>
                  <a:pt x="20737" y="11981"/>
                </a:moveTo>
                <a:cubicBezTo>
                  <a:pt x="20894" y="12008"/>
                  <a:pt x="21094" y="12079"/>
                  <a:pt x="21233" y="11956"/>
                </a:cubicBezTo>
                <a:cubicBezTo>
                  <a:pt x="21440" y="11774"/>
                  <a:pt x="21569" y="11472"/>
                  <a:pt x="21382" y="11237"/>
                </a:cubicBezTo>
                <a:cubicBezTo>
                  <a:pt x="21229" y="11046"/>
                  <a:pt x="20827" y="10797"/>
                  <a:pt x="20613" y="11063"/>
                </a:cubicBezTo>
                <a:cubicBezTo>
                  <a:pt x="20339" y="11403"/>
                  <a:pt x="20430" y="11656"/>
                  <a:pt x="20712" y="11881"/>
                </a:cubicBezTo>
              </a:path>
              <a:path w="4788" h="1985">
                <a:moveTo>
                  <a:pt x="22374" y="10269"/>
                </a:moveTo>
                <a:cubicBezTo>
                  <a:pt x="22316" y="10360"/>
                  <a:pt x="22255" y="10450"/>
                  <a:pt x="22200" y="10542"/>
                </a:cubicBezTo>
                <a:cubicBezTo>
                  <a:pt x="22263" y="10399"/>
                  <a:pt x="22359" y="10265"/>
                  <a:pt x="22399" y="10120"/>
                </a:cubicBezTo>
                <a:cubicBezTo>
                  <a:pt x="22564" y="10179"/>
                  <a:pt x="22702" y="10269"/>
                  <a:pt x="22870" y="10319"/>
                </a:cubicBezTo>
              </a:path>
              <a:path w="4788" h="1985">
                <a:moveTo>
                  <a:pt x="21977" y="10790"/>
                </a:moveTo>
                <a:cubicBezTo>
                  <a:pt x="22085" y="10790"/>
                  <a:pt x="22131" y="10799"/>
                  <a:pt x="22225" y="10840"/>
                </a:cubicBezTo>
                <a:cubicBezTo>
                  <a:pt x="22180" y="11018"/>
                  <a:pt x="22101" y="11009"/>
                  <a:pt x="21927" y="10988"/>
                </a:cubicBezTo>
                <a:cubicBezTo>
                  <a:pt x="21960" y="10841"/>
                  <a:pt x="22087" y="10904"/>
                  <a:pt x="22225" y="10939"/>
                </a:cubicBezTo>
                <a:cubicBezTo>
                  <a:pt x="22258" y="10947"/>
                  <a:pt x="22291" y="10956"/>
                  <a:pt x="22324" y="10964"/>
                </a:cubicBezTo>
              </a:path>
              <a:path w="4788" h="1985">
                <a:moveTo>
                  <a:pt x="23242" y="10344"/>
                </a:moveTo>
                <a:cubicBezTo>
                  <a:pt x="23222" y="10384"/>
                  <a:pt x="23213" y="10390"/>
                  <a:pt x="23217" y="10418"/>
                </a:cubicBezTo>
                <a:cubicBezTo>
                  <a:pt x="23341" y="10457"/>
                  <a:pt x="23539" y="10499"/>
                  <a:pt x="23366" y="10641"/>
                </a:cubicBezTo>
                <a:cubicBezTo>
                  <a:pt x="23325" y="10666"/>
                  <a:pt x="23283" y="10691"/>
                  <a:pt x="23242" y="10716"/>
                </a:cubicBezTo>
              </a:path>
              <a:path w="4788" h="1985">
                <a:moveTo>
                  <a:pt x="23341" y="10294"/>
                </a:moveTo>
                <a:cubicBezTo>
                  <a:pt x="23458" y="10294"/>
                  <a:pt x="23492" y="10292"/>
                  <a:pt x="23564" y="10319"/>
                </a:cubicBezTo>
              </a:path>
              <a:path w="4788" h="1985">
                <a:moveTo>
                  <a:pt x="22944" y="10889"/>
                </a:moveTo>
                <a:cubicBezTo>
                  <a:pt x="23221" y="11010"/>
                  <a:pt x="23526" y="11029"/>
                  <a:pt x="23788" y="10815"/>
                </a:cubicBezTo>
                <a:cubicBezTo>
                  <a:pt x="24087" y="10571"/>
                  <a:pt x="24078" y="10121"/>
                  <a:pt x="23639" y="10046"/>
                </a:cubicBezTo>
                <a:cubicBezTo>
                  <a:pt x="23090" y="9952"/>
                  <a:pt x="22922" y="10291"/>
                  <a:pt x="23044" y="10691"/>
                </a:cubicBezTo>
              </a:path>
              <a:path w="4788" h="1985">
                <a:moveTo>
                  <a:pt x="21679" y="11385"/>
                </a:moveTo>
                <a:cubicBezTo>
                  <a:pt x="21918" y="11469"/>
                  <a:pt x="22204" y="11493"/>
                  <a:pt x="22423" y="11311"/>
                </a:cubicBezTo>
                <a:cubicBezTo>
                  <a:pt x="22631" y="11138"/>
                  <a:pt x="22788" y="10692"/>
                  <a:pt x="22423" y="10567"/>
                </a:cubicBezTo>
                <a:cubicBezTo>
                  <a:pt x="22164" y="10479"/>
                  <a:pt x="21472" y="10639"/>
                  <a:pt x="21679" y="11063"/>
                </a:cubicBezTo>
                <a:cubicBezTo>
                  <a:pt x="21745" y="11121"/>
                  <a:pt x="21812" y="11179"/>
                  <a:pt x="21878" y="112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 in standard form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 (5 10) + (7 10) + (2 10) + (8 10) + (6 10º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  (9 10) + (7 10) + (8 10) + (4 10º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 (7 10) + (5 10) + (8 10) + (7 10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 in exponential form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.  12,40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.  5,92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339920" y="106200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3721" y="2952"/>
                </a:moveTo>
                <a:lnTo>
                  <a:pt x="3721" y="2952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89040" y="884160"/>
            <a:ext cx="81000" cy="115920"/>
          </a:xfrm>
          <a:custGeom>
            <a:avLst/>
            <a:gdLst/>
            <a:ahLst/>
            <a:rect l="l" t="t" r="r" b="b"/>
            <a:pathLst>
              <a:path w="224" h="323">
                <a:moveTo>
                  <a:pt x="4564" y="2456"/>
                </a:moveTo>
                <a:cubicBezTo>
                  <a:pt x="4463" y="2472"/>
                  <a:pt x="4438" y="2488"/>
                  <a:pt x="4415" y="2580"/>
                </a:cubicBezTo>
                <a:cubicBezTo>
                  <a:pt x="4479" y="2580"/>
                  <a:pt x="4536" y="2587"/>
                  <a:pt x="4589" y="2629"/>
                </a:cubicBezTo>
                <a:cubicBezTo>
                  <a:pt x="4681" y="2701"/>
                  <a:pt x="4600" y="2771"/>
                  <a:pt x="4514" y="2778"/>
                </a:cubicBezTo>
                <a:cubicBezTo>
                  <a:pt x="4489" y="2778"/>
                  <a:pt x="4465" y="2778"/>
                  <a:pt x="4440" y="277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347840" y="16257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3746" y="4514"/>
                </a:moveTo>
                <a:lnTo>
                  <a:pt x="3746" y="4514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608120" y="1357200"/>
            <a:ext cx="71280" cy="179640"/>
          </a:xfrm>
          <a:custGeom>
            <a:avLst/>
            <a:gdLst/>
            <a:ahLst/>
            <a:rect l="l" t="t" r="r" b="b"/>
            <a:pathLst>
              <a:path w="199" h="497">
                <a:moveTo>
                  <a:pt x="4465" y="3919"/>
                </a:moveTo>
                <a:cubicBezTo>
                  <a:pt x="4528" y="4025"/>
                  <a:pt x="4539" y="3976"/>
                  <a:pt x="4663" y="3969"/>
                </a:cubicBezTo>
              </a:path>
              <a:path w="199" h="497">
                <a:moveTo>
                  <a:pt x="4663" y="3770"/>
                </a:moveTo>
                <a:cubicBezTo>
                  <a:pt x="4648" y="3908"/>
                  <a:pt x="4623" y="4055"/>
                  <a:pt x="4589" y="4192"/>
                </a:cubicBezTo>
                <a:cubicBezTo>
                  <a:pt x="4581" y="4217"/>
                  <a:pt x="4572" y="4241"/>
                  <a:pt x="4564" y="426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178000" y="10890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6052" y="3026"/>
                </a:moveTo>
                <a:lnTo>
                  <a:pt x="6052" y="3026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401920" y="857160"/>
            <a:ext cx="98280" cy="152640"/>
          </a:xfrm>
          <a:custGeom>
            <a:avLst/>
            <a:gdLst/>
            <a:ahLst/>
            <a:rect l="l" t="t" r="r" b="b"/>
            <a:pathLst>
              <a:path w="274" h="423">
                <a:moveTo>
                  <a:pt x="6747" y="2456"/>
                </a:moveTo>
                <a:cubicBezTo>
                  <a:pt x="6604" y="2597"/>
                  <a:pt x="6749" y="2546"/>
                  <a:pt x="6846" y="2530"/>
                </a:cubicBezTo>
              </a:path>
              <a:path w="274" h="423">
                <a:moveTo>
                  <a:pt x="6945" y="2381"/>
                </a:moveTo>
                <a:cubicBezTo>
                  <a:pt x="6921" y="2525"/>
                  <a:pt x="6896" y="2658"/>
                  <a:pt x="6896" y="280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19080" y="1187280"/>
            <a:ext cx="1019160" cy="241560"/>
          </a:xfrm>
          <a:custGeom>
            <a:avLst/>
            <a:gdLst/>
            <a:ahLst/>
            <a:rect l="l" t="t" r="r" b="b"/>
            <a:pathLst>
              <a:path w="2829" h="671">
                <a:moveTo>
                  <a:pt x="2803" y="3324"/>
                </a:moveTo>
                <a:cubicBezTo>
                  <a:pt x="2691" y="3293"/>
                  <a:pt x="2675" y="3286"/>
                  <a:pt x="2604" y="3373"/>
                </a:cubicBezTo>
                <a:cubicBezTo>
                  <a:pt x="2596" y="3381"/>
                  <a:pt x="2588" y="3390"/>
                  <a:pt x="2580" y="3398"/>
                </a:cubicBezTo>
                <a:cubicBezTo>
                  <a:pt x="2644" y="3428"/>
                  <a:pt x="2868" y="3398"/>
                  <a:pt x="2877" y="3522"/>
                </a:cubicBezTo>
                <a:cubicBezTo>
                  <a:pt x="2893" y="3738"/>
                  <a:pt x="2682" y="3742"/>
                  <a:pt x="2555" y="3696"/>
                </a:cubicBezTo>
              </a:path>
              <a:path w="2829" h="671">
                <a:moveTo>
                  <a:pt x="3026" y="3448"/>
                </a:moveTo>
                <a:cubicBezTo>
                  <a:pt x="3005" y="3554"/>
                  <a:pt x="2983" y="3582"/>
                  <a:pt x="3051" y="3621"/>
                </a:cubicBezTo>
                <a:cubicBezTo>
                  <a:pt x="3125" y="3604"/>
                  <a:pt x="3467" y="3447"/>
                  <a:pt x="3225" y="3373"/>
                </a:cubicBezTo>
                <a:cubicBezTo>
                  <a:pt x="3184" y="3373"/>
                  <a:pt x="3142" y="3373"/>
                  <a:pt x="3101" y="3373"/>
                </a:cubicBezTo>
              </a:path>
              <a:path w="2829" h="671">
                <a:moveTo>
                  <a:pt x="3448" y="3373"/>
                </a:moveTo>
                <a:cubicBezTo>
                  <a:pt x="3439" y="3524"/>
                  <a:pt x="3503" y="3664"/>
                  <a:pt x="3696" y="3522"/>
                </a:cubicBezTo>
                <a:cubicBezTo>
                  <a:pt x="3752" y="3447"/>
                  <a:pt x="3797" y="3435"/>
                  <a:pt x="3746" y="3398"/>
                </a:cubicBezTo>
              </a:path>
              <a:path w="2829" h="671">
                <a:moveTo>
                  <a:pt x="3994" y="3324"/>
                </a:moveTo>
                <a:cubicBezTo>
                  <a:pt x="3870" y="3426"/>
                  <a:pt x="3850" y="3410"/>
                  <a:pt x="3820" y="3572"/>
                </a:cubicBezTo>
                <a:cubicBezTo>
                  <a:pt x="3853" y="3579"/>
                  <a:pt x="4263" y="3590"/>
                  <a:pt x="4142" y="3448"/>
                </a:cubicBezTo>
                <a:cubicBezTo>
                  <a:pt x="4068" y="3423"/>
                  <a:pt x="4043" y="3415"/>
                  <a:pt x="3994" y="3398"/>
                </a:cubicBezTo>
              </a:path>
              <a:path w="2829" h="671">
                <a:moveTo>
                  <a:pt x="4366" y="3349"/>
                </a:moveTo>
                <a:cubicBezTo>
                  <a:pt x="4261" y="3454"/>
                  <a:pt x="4238" y="3471"/>
                  <a:pt x="4217" y="3621"/>
                </a:cubicBezTo>
                <a:cubicBezTo>
                  <a:pt x="4302" y="3625"/>
                  <a:pt x="4775" y="3628"/>
                  <a:pt x="4589" y="3398"/>
                </a:cubicBezTo>
                <a:cubicBezTo>
                  <a:pt x="4548" y="3373"/>
                  <a:pt x="4506" y="3349"/>
                  <a:pt x="4465" y="3324"/>
                </a:cubicBezTo>
              </a:path>
              <a:path w="2829" h="671">
                <a:moveTo>
                  <a:pt x="4862" y="3324"/>
                </a:moveTo>
                <a:cubicBezTo>
                  <a:pt x="4787" y="3423"/>
                  <a:pt x="4738" y="3467"/>
                  <a:pt x="4738" y="3572"/>
                </a:cubicBezTo>
                <a:cubicBezTo>
                  <a:pt x="4785" y="3579"/>
                  <a:pt x="5141" y="3579"/>
                  <a:pt x="5011" y="3448"/>
                </a:cubicBezTo>
                <a:cubicBezTo>
                  <a:pt x="4970" y="3423"/>
                  <a:pt x="4928" y="3398"/>
                  <a:pt x="4887" y="3373"/>
                </a:cubicBezTo>
              </a:path>
              <a:path w="2829" h="671">
                <a:moveTo>
                  <a:pt x="3770" y="3795"/>
                </a:moveTo>
                <a:cubicBezTo>
                  <a:pt x="3806" y="3866"/>
                  <a:pt x="3809" y="3906"/>
                  <a:pt x="3770" y="3969"/>
                </a:cubicBezTo>
              </a:path>
              <a:path w="2829" h="671">
                <a:moveTo>
                  <a:pt x="5333" y="3423"/>
                </a:moveTo>
                <a:cubicBezTo>
                  <a:pt x="5333" y="3506"/>
                  <a:pt x="5333" y="3588"/>
                  <a:pt x="5333" y="3671"/>
                </a:cubicBezTo>
              </a:path>
              <a:path w="2829" h="671">
                <a:moveTo>
                  <a:pt x="5234" y="3572"/>
                </a:moveTo>
                <a:cubicBezTo>
                  <a:pt x="5284" y="3555"/>
                  <a:pt x="5333" y="3539"/>
                  <a:pt x="5383" y="352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071800" y="820800"/>
            <a:ext cx="1643040" cy="822240"/>
          </a:xfrm>
          <a:custGeom>
            <a:avLst/>
            <a:gdLst/>
            <a:ahLst/>
            <a:rect l="l" t="t" r="r" b="b"/>
            <a:pathLst>
              <a:path w="4565" h="2283">
                <a:moveTo>
                  <a:pt x="8508" y="3051"/>
                </a:moveTo>
                <a:lnTo>
                  <a:pt x="8508" y="3051"/>
                </a:lnTo>
              </a:path>
              <a:path w="4565" h="2283">
                <a:moveTo>
                  <a:pt x="9079" y="2307"/>
                </a:moveTo>
                <a:cubicBezTo>
                  <a:pt x="9212" y="2262"/>
                  <a:pt x="9255" y="2299"/>
                  <a:pt x="9178" y="2431"/>
                </a:cubicBezTo>
                <a:cubicBezTo>
                  <a:pt x="9170" y="2439"/>
                  <a:pt x="9161" y="2448"/>
                  <a:pt x="9153" y="2456"/>
                </a:cubicBezTo>
                <a:cubicBezTo>
                  <a:pt x="9231" y="2456"/>
                  <a:pt x="9338" y="2490"/>
                  <a:pt x="9277" y="2604"/>
                </a:cubicBezTo>
                <a:cubicBezTo>
                  <a:pt x="9248" y="2658"/>
                  <a:pt x="9104" y="2687"/>
                  <a:pt x="9054" y="2704"/>
                </a:cubicBezTo>
              </a:path>
              <a:path w="4565" h="2283">
                <a:moveTo>
                  <a:pt x="5755" y="3349"/>
                </a:moveTo>
                <a:cubicBezTo>
                  <a:pt x="5846" y="3326"/>
                  <a:pt x="5872" y="3320"/>
                  <a:pt x="5928" y="3299"/>
                </a:cubicBezTo>
                <a:cubicBezTo>
                  <a:pt x="5939" y="3420"/>
                  <a:pt x="5896" y="3520"/>
                  <a:pt x="5854" y="3646"/>
                </a:cubicBezTo>
              </a:path>
              <a:path w="4565" h="2283">
                <a:moveTo>
                  <a:pt x="6127" y="3324"/>
                </a:moveTo>
                <a:cubicBezTo>
                  <a:pt x="6059" y="3436"/>
                  <a:pt x="6038" y="3463"/>
                  <a:pt x="6028" y="3547"/>
                </a:cubicBezTo>
                <a:cubicBezTo>
                  <a:pt x="6125" y="3582"/>
                  <a:pt x="6415" y="3585"/>
                  <a:pt x="6350" y="3373"/>
                </a:cubicBezTo>
                <a:cubicBezTo>
                  <a:pt x="6325" y="3357"/>
                  <a:pt x="6301" y="3340"/>
                  <a:pt x="6276" y="3324"/>
                </a:cubicBezTo>
              </a:path>
              <a:path w="4565" h="2283">
                <a:moveTo>
                  <a:pt x="6598" y="3249"/>
                </a:moveTo>
                <a:cubicBezTo>
                  <a:pt x="6552" y="3348"/>
                  <a:pt x="6511" y="3444"/>
                  <a:pt x="6474" y="3547"/>
                </a:cubicBezTo>
                <a:cubicBezTo>
                  <a:pt x="6621" y="3590"/>
                  <a:pt x="6631" y="3563"/>
                  <a:pt x="6772" y="3473"/>
                </a:cubicBezTo>
                <a:cubicBezTo>
                  <a:pt x="6734" y="3360"/>
                  <a:pt x="6710" y="3369"/>
                  <a:pt x="6598" y="3324"/>
                </a:cubicBezTo>
              </a:path>
              <a:path w="4565" h="2283">
                <a:moveTo>
                  <a:pt x="6945" y="3274"/>
                </a:moveTo>
                <a:cubicBezTo>
                  <a:pt x="6874" y="3385"/>
                  <a:pt x="6835" y="3424"/>
                  <a:pt x="6846" y="3547"/>
                </a:cubicBezTo>
                <a:cubicBezTo>
                  <a:pt x="7034" y="3547"/>
                  <a:pt x="7031" y="3552"/>
                  <a:pt x="7144" y="3398"/>
                </a:cubicBezTo>
                <a:cubicBezTo>
                  <a:pt x="7063" y="3290"/>
                  <a:pt x="7027" y="3254"/>
                  <a:pt x="6921" y="3249"/>
                </a:cubicBezTo>
              </a:path>
              <a:path w="4565" h="2283">
                <a:moveTo>
                  <a:pt x="7367" y="3225"/>
                </a:moveTo>
                <a:cubicBezTo>
                  <a:pt x="7227" y="3317"/>
                  <a:pt x="7174" y="3395"/>
                  <a:pt x="7243" y="3547"/>
                </a:cubicBezTo>
                <a:cubicBezTo>
                  <a:pt x="7352" y="3547"/>
                  <a:pt x="7710" y="3408"/>
                  <a:pt x="7441" y="3249"/>
                </a:cubicBezTo>
                <a:cubicBezTo>
                  <a:pt x="7383" y="3241"/>
                  <a:pt x="7326" y="3233"/>
                  <a:pt x="7268" y="3225"/>
                </a:cubicBezTo>
              </a:path>
              <a:path w="4565" h="2283">
                <a:moveTo>
                  <a:pt x="6449" y="3770"/>
                </a:moveTo>
                <a:cubicBezTo>
                  <a:pt x="6383" y="3903"/>
                  <a:pt x="6381" y="3892"/>
                  <a:pt x="6251" y="3969"/>
                </a:cubicBezTo>
              </a:path>
              <a:path w="4565" h="2283">
                <a:moveTo>
                  <a:pt x="7913" y="3423"/>
                </a:moveTo>
                <a:cubicBezTo>
                  <a:pt x="7913" y="3512"/>
                  <a:pt x="7907" y="3586"/>
                  <a:pt x="7888" y="3671"/>
                </a:cubicBezTo>
              </a:path>
              <a:path w="4565" h="2283">
                <a:moveTo>
                  <a:pt x="7789" y="3597"/>
                </a:moveTo>
                <a:cubicBezTo>
                  <a:pt x="7905" y="3558"/>
                  <a:pt x="8017" y="3525"/>
                  <a:pt x="8136" y="3497"/>
                </a:cubicBezTo>
              </a:path>
              <a:path w="4565" h="2283">
                <a:moveTo>
                  <a:pt x="8558" y="3473"/>
                </a:moveTo>
                <a:cubicBezTo>
                  <a:pt x="8623" y="3429"/>
                  <a:pt x="8637" y="3418"/>
                  <a:pt x="8682" y="3398"/>
                </a:cubicBezTo>
                <a:cubicBezTo>
                  <a:pt x="8681" y="3525"/>
                  <a:pt x="8555" y="3659"/>
                  <a:pt x="8458" y="3770"/>
                </a:cubicBezTo>
                <a:cubicBezTo>
                  <a:pt x="8608" y="3770"/>
                  <a:pt x="8658" y="3770"/>
                  <a:pt x="8756" y="3746"/>
                </a:cubicBezTo>
              </a:path>
              <a:path w="4565" h="2283">
                <a:moveTo>
                  <a:pt x="8880" y="3448"/>
                </a:moveTo>
                <a:cubicBezTo>
                  <a:pt x="8809" y="3566"/>
                  <a:pt x="8785" y="3601"/>
                  <a:pt x="8806" y="3696"/>
                </a:cubicBezTo>
                <a:cubicBezTo>
                  <a:pt x="8904" y="3710"/>
                  <a:pt x="9199" y="3684"/>
                  <a:pt x="9054" y="3497"/>
                </a:cubicBezTo>
                <a:cubicBezTo>
                  <a:pt x="9021" y="3481"/>
                  <a:pt x="8987" y="3464"/>
                  <a:pt x="8954" y="3448"/>
                </a:cubicBezTo>
              </a:path>
              <a:path w="4565" h="2283">
                <a:moveTo>
                  <a:pt x="9252" y="3373"/>
                </a:moveTo>
                <a:cubicBezTo>
                  <a:pt x="9188" y="3502"/>
                  <a:pt x="9163" y="3529"/>
                  <a:pt x="9178" y="3621"/>
                </a:cubicBezTo>
                <a:cubicBezTo>
                  <a:pt x="9287" y="3661"/>
                  <a:pt x="9575" y="3648"/>
                  <a:pt x="9500" y="3423"/>
                </a:cubicBezTo>
                <a:cubicBezTo>
                  <a:pt x="9467" y="3390"/>
                  <a:pt x="9434" y="3357"/>
                  <a:pt x="9401" y="3324"/>
                </a:cubicBezTo>
              </a:path>
              <a:path w="4565" h="2283">
                <a:moveTo>
                  <a:pt x="9599" y="3324"/>
                </a:moveTo>
                <a:cubicBezTo>
                  <a:pt x="9588" y="3383"/>
                  <a:pt x="9576" y="3800"/>
                  <a:pt x="9773" y="3572"/>
                </a:cubicBezTo>
                <a:cubicBezTo>
                  <a:pt x="9822" y="3450"/>
                  <a:pt x="9839" y="3411"/>
                  <a:pt x="9798" y="3324"/>
                </a:cubicBezTo>
              </a:path>
              <a:path w="4565" h="2283">
                <a:moveTo>
                  <a:pt x="8830" y="3894"/>
                </a:moveTo>
                <a:cubicBezTo>
                  <a:pt x="8775" y="3974"/>
                  <a:pt x="8743" y="4038"/>
                  <a:pt x="8682" y="4118"/>
                </a:cubicBezTo>
              </a:path>
              <a:path w="4565" h="2283">
                <a:moveTo>
                  <a:pt x="10294" y="3423"/>
                </a:moveTo>
                <a:cubicBezTo>
                  <a:pt x="10261" y="3531"/>
                  <a:pt x="10233" y="3641"/>
                  <a:pt x="10195" y="3746"/>
                </a:cubicBezTo>
              </a:path>
              <a:path w="4565" h="2283">
                <a:moveTo>
                  <a:pt x="10120" y="3522"/>
                </a:moveTo>
                <a:cubicBezTo>
                  <a:pt x="10186" y="3514"/>
                  <a:pt x="10253" y="3505"/>
                  <a:pt x="10319" y="3497"/>
                </a:cubicBezTo>
              </a:path>
              <a:path w="4565" h="2283">
                <a:moveTo>
                  <a:pt x="6003" y="4465"/>
                </a:moveTo>
                <a:lnTo>
                  <a:pt x="6003" y="4465"/>
                </a:lnTo>
              </a:path>
              <a:path w="4565" h="2283">
                <a:moveTo>
                  <a:pt x="6796" y="3919"/>
                </a:moveTo>
                <a:cubicBezTo>
                  <a:pt x="6967" y="3898"/>
                  <a:pt x="6853" y="4001"/>
                  <a:pt x="6772" y="4068"/>
                </a:cubicBezTo>
                <a:cubicBezTo>
                  <a:pt x="6857" y="4085"/>
                  <a:pt x="6923" y="4120"/>
                  <a:pt x="6871" y="4217"/>
                </a:cubicBezTo>
                <a:cubicBezTo>
                  <a:pt x="6829" y="4297"/>
                  <a:pt x="6746" y="4291"/>
                  <a:pt x="6672" y="4291"/>
                </a:cubicBezTo>
              </a:path>
              <a:path w="4565" h="2283">
                <a:moveTo>
                  <a:pt x="8458" y="4564"/>
                </a:moveTo>
                <a:lnTo>
                  <a:pt x="8458" y="4564"/>
                </a:lnTo>
              </a:path>
              <a:path w="4565" h="2283">
                <a:moveTo>
                  <a:pt x="9178" y="3994"/>
                </a:moveTo>
                <a:cubicBezTo>
                  <a:pt x="9277" y="3994"/>
                  <a:pt x="9293" y="3994"/>
                  <a:pt x="9351" y="3994"/>
                </a:cubicBezTo>
                <a:cubicBezTo>
                  <a:pt x="9288" y="4112"/>
                  <a:pt x="9068" y="4228"/>
                  <a:pt x="9252" y="4266"/>
                </a:cubicBezTo>
                <a:cubicBezTo>
                  <a:pt x="9335" y="4266"/>
                  <a:pt x="9351" y="4266"/>
                  <a:pt x="9401" y="426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48040" y="820800"/>
            <a:ext cx="411120" cy="528480"/>
          </a:xfrm>
          <a:custGeom>
            <a:avLst/>
            <a:gdLst/>
            <a:ahLst/>
            <a:rect l="l" t="t" r="r" b="b"/>
            <a:pathLst>
              <a:path w="1142" h="1465">
                <a:moveTo>
                  <a:pt x="10914" y="3026"/>
                </a:moveTo>
                <a:lnTo>
                  <a:pt x="10914" y="3026"/>
                </a:lnTo>
              </a:path>
              <a:path w="1142" h="1465">
                <a:moveTo>
                  <a:pt x="11534" y="2307"/>
                </a:moveTo>
                <a:cubicBezTo>
                  <a:pt x="11592" y="2288"/>
                  <a:pt x="11598" y="2279"/>
                  <a:pt x="11633" y="2282"/>
                </a:cubicBezTo>
                <a:cubicBezTo>
                  <a:pt x="11633" y="2413"/>
                  <a:pt x="11598" y="2456"/>
                  <a:pt x="11509" y="2555"/>
                </a:cubicBezTo>
                <a:cubicBezTo>
                  <a:pt x="11593" y="2596"/>
                  <a:pt x="11591" y="2604"/>
                  <a:pt x="11683" y="2604"/>
                </a:cubicBezTo>
              </a:path>
              <a:path w="1142" h="1465">
                <a:moveTo>
                  <a:pt x="11088" y="3249"/>
                </a:moveTo>
                <a:cubicBezTo>
                  <a:pt x="10959" y="3280"/>
                  <a:pt x="10856" y="3312"/>
                  <a:pt x="10740" y="3373"/>
                </a:cubicBezTo>
                <a:cubicBezTo>
                  <a:pt x="10770" y="3471"/>
                  <a:pt x="10916" y="3615"/>
                  <a:pt x="10790" y="3721"/>
                </a:cubicBezTo>
                <a:cubicBezTo>
                  <a:pt x="10757" y="3729"/>
                  <a:pt x="10724" y="3738"/>
                  <a:pt x="10691" y="3746"/>
                </a:cubicBezTo>
                <a:cubicBezTo>
                  <a:pt x="10731" y="3596"/>
                  <a:pt x="10833" y="3527"/>
                  <a:pt x="10914" y="3398"/>
                </a:cubicBezTo>
                <a:cubicBezTo>
                  <a:pt x="10922" y="3382"/>
                  <a:pt x="10931" y="3365"/>
                  <a:pt x="10939" y="3349"/>
                </a:cubicBezTo>
              </a:path>
              <a:path w="1142" h="1465">
                <a:moveTo>
                  <a:pt x="11435" y="3398"/>
                </a:moveTo>
                <a:cubicBezTo>
                  <a:pt x="11271" y="3362"/>
                  <a:pt x="11194" y="3363"/>
                  <a:pt x="11088" y="3547"/>
                </a:cubicBezTo>
                <a:cubicBezTo>
                  <a:pt x="11080" y="3580"/>
                  <a:pt x="11071" y="3613"/>
                  <a:pt x="11063" y="3646"/>
                </a:cubicBezTo>
                <a:cubicBezTo>
                  <a:pt x="11164" y="3674"/>
                  <a:pt x="11528" y="3707"/>
                  <a:pt x="11385" y="3473"/>
                </a:cubicBezTo>
                <a:cubicBezTo>
                  <a:pt x="11352" y="3448"/>
                  <a:pt x="11319" y="3423"/>
                  <a:pt x="11286" y="3398"/>
                </a:cubicBezTo>
              </a:path>
              <a:path w="1142" h="1465">
                <a:moveTo>
                  <a:pt x="11683" y="3349"/>
                </a:moveTo>
                <a:cubicBezTo>
                  <a:pt x="11561" y="3430"/>
                  <a:pt x="11504" y="3496"/>
                  <a:pt x="11534" y="3646"/>
                </a:cubicBezTo>
                <a:cubicBezTo>
                  <a:pt x="11618" y="3661"/>
                  <a:pt x="11965" y="3618"/>
                  <a:pt x="11807" y="3423"/>
                </a:cubicBezTo>
                <a:cubicBezTo>
                  <a:pt x="11766" y="3398"/>
                  <a:pt x="11724" y="3374"/>
                  <a:pt x="11683" y="334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384800" y="1241280"/>
            <a:ext cx="179280" cy="108000"/>
          </a:xfrm>
          <a:custGeom>
            <a:avLst/>
            <a:gdLst/>
            <a:ahLst/>
            <a:rect l="l" t="t" r="r" b="b"/>
            <a:pathLst>
              <a:path w="497" h="299">
                <a:moveTo>
                  <a:pt x="12526" y="3448"/>
                </a:moveTo>
                <a:cubicBezTo>
                  <a:pt x="12503" y="3548"/>
                  <a:pt x="12480" y="3647"/>
                  <a:pt x="12452" y="3746"/>
                </a:cubicBezTo>
              </a:path>
              <a:path w="497" h="299">
                <a:moveTo>
                  <a:pt x="12179" y="3547"/>
                </a:moveTo>
                <a:cubicBezTo>
                  <a:pt x="12348" y="3547"/>
                  <a:pt x="12507" y="3538"/>
                  <a:pt x="12675" y="352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687920" y="1098720"/>
            <a:ext cx="125280" cy="258480"/>
          </a:xfrm>
          <a:custGeom>
            <a:avLst/>
            <a:gdLst/>
            <a:ahLst/>
            <a:rect l="l" t="t" r="r" b="b"/>
            <a:pathLst>
              <a:path w="349" h="720">
                <a:moveTo>
                  <a:pt x="13246" y="3051"/>
                </a:moveTo>
                <a:lnTo>
                  <a:pt x="13246" y="3051"/>
                </a:lnTo>
              </a:path>
              <a:path w="349" h="720">
                <a:moveTo>
                  <a:pt x="13097" y="3398"/>
                </a:moveTo>
                <a:cubicBezTo>
                  <a:pt x="13075" y="3484"/>
                  <a:pt x="12954" y="3687"/>
                  <a:pt x="13072" y="3746"/>
                </a:cubicBezTo>
                <a:cubicBezTo>
                  <a:pt x="13199" y="3809"/>
                  <a:pt x="13274" y="3713"/>
                  <a:pt x="13370" y="3646"/>
                </a:cubicBezTo>
                <a:cubicBezTo>
                  <a:pt x="13161" y="3646"/>
                  <a:pt x="13163" y="3618"/>
                  <a:pt x="13022" y="377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96000" y="938160"/>
            <a:ext cx="196920" cy="214200"/>
          </a:xfrm>
          <a:custGeom>
            <a:avLst/>
            <a:gdLst/>
            <a:ahLst/>
            <a:rect l="l" t="t" r="r" b="b"/>
            <a:pathLst>
              <a:path w="547" h="597">
                <a:moveTo>
                  <a:pt x="16594" y="2604"/>
                </a:moveTo>
                <a:cubicBezTo>
                  <a:pt x="16453" y="2659"/>
                  <a:pt x="16434" y="2693"/>
                  <a:pt x="16346" y="2803"/>
                </a:cubicBezTo>
                <a:cubicBezTo>
                  <a:pt x="16330" y="2820"/>
                  <a:pt x="16313" y="2836"/>
                  <a:pt x="16297" y="2853"/>
                </a:cubicBezTo>
                <a:cubicBezTo>
                  <a:pt x="16397" y="2840"/>
                  <a:pt x="16585" y="2727"/>
                  <a:pt x="16644" y="2877"/>
                </a:cubicBezTo>
                <a:cubicBezTo>
                  <a:pt x="16728" y="3091"/>
                  <a:pt x="16362" y="3220"/>
                  <a:pt x="16222" y="3200"/>
                </a:cubicBezTo>
                <a:cubicBezTo>
                  <a:pt x="16181" y="3183"/>
                  <a:pt x="16139" y="3167"/>
                  <a:pt x="16098" y="315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126120" y="955800"/>
            <a:ext cx="438120" cy="322200"/>
          </a:xfrm>
          <a:custGeom>
            <a:avLst/>
            <a:gdLst/>
            <a:ahLst/>
            <a:rect l="l" t="t" r="r" b="b"/>
            <a:pathLst>
              <a:path w="1216" h="894">
                <a:moveTo>
                  <a:pt x="17066" y="2753"/>
                </a:moveTo>
                <a:cubicBezTo>
                  <a:pt x="17041" y="2803"/>
                  <a:pt x="17033" y="2820"/>
                  <a:pt x="17016" y="2853"/>
                </a:cubicBezTo>
                <a:cubicBezTo>
                  <a:pt x="17016" y="2716"/>
                  <a:pt x="17044" y="2700"/>
                  <a:pt x="17190" y="2679"/>
                </a:cubicBezTo>
                <a:cubicBezTo>
                  <a:pt x="17246" y="2671"/>
                  <a:pt x="17285" y="2665"/>
                  <a:pt x="17338" y="2654"/>
                </a:cubicBezTo>
                <a:cubicBezTo>
                  <a:pt x="17433" y="2749"/>
                  <a:pt x="17363" y="2793"/>
                  <a:pt x="17289" y="2902"/>
                </a:cubicBezTo>
                <a:cubicBezTo>
                  <a:pt x="17203" y="3032"/>
                  <a:pt x="17180" y="3062"/>
                  <a:pt x="17140" y="3150"/>
                </a:cubicBezTo>
              </a:path>
              <a:path w="1216" h="894">
                <a:moveTo>
                  <a:pt x="17611" y="2803"/>
                </a:moveTo>
                <a:cubicBezTo>
                  <a:pt x="17660" y="2714"/>
                  <a:pt x="17659" y="2702"/>
                  <a:pt x="17760" y="2679"/>
                </a:cubicBezTo>
                <a:cubicBezTo>
                  <a:pt x="17821" y="2830"/>
                  <a:pt x="17652" y="2967"/>
                  <a:pt x="17512" y="3076"/>
                </a:cubicBezTo>
                <a:cubicBezTo>
                  <a:pt x="17404" y="3141"/>
                  <a:pt x="17372" y="3150"/>
                  <a:pt x="17338" y="3225"/>
                </a:cubicBezTo>
                <a:cubicBezTo>
                  <a:pt x="17402" y="3188"/>
                  <a:pt x="17508" y="3044"/>
                  <a:pt x="17611" y="3076"/>
                </a:cubicBezTo>
                <a:cubicBezTo>
                  <a:pt x="17772" y="3127"/>
                  <a:pt x="17786" y="3216"/>
                  <a:pt x="17983" y="3150"/>
                </a:cubicBezTo>
                <a:cubicBezTo>
                  <a:pt x="17991" y="3142"/>
                  <a:pt x="18000" y="3133"/>
                  <a:pt x="18008" y="3125"/>
                </a:cubicBezTo>
              </a:path>
              <a:path w="1216" h="894">
                <a:moveTo>
                  <a:pt x="18231" y="3249"/>
                </a:moveTo>
                <a:cubicBezTo>
                  <a:pt x="18204" y="3371"/>
                  <a:pt x="18187" y="3438"/>
                  <a:pt x="18132" y="354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05720" y="938160"/>
            <a:ext cx="546120" cy="187200"/>
          </a:xfrm>
          <a:custGeom>
            <a:avLst/>
            <a:gdLst/>
            <a:ahLst/>
            <a:rect l="l" t="t" r="r" b="b"/>
            <a:pathLst>
              <a:path w="1514" h="522">
                <a:moveTo>
                  <a:pt x="19025" y="2629"/>
                </a:moveTo>
                <a:cubicBezTo>
                  <a:pt x="18910" y="2615"/>
                  <a:pt x="18710" y="2584"/>
                  <a:pt x="18752" y="2778"/>
                </a:cubicBezTo>
                <a:cubicBezTo>
                  <a:pt x="18775" y="2886"/>
                  <a:pt x="18979" y="3160"/>
                  <a:pt x="18703" y="3125"/>
                </a:cubicBezTo>
                <a:cubicBezTo>
                  <a:pt x="18678" y="3109"/>
                  <a:pt x="18653" y="3092"/>
                  <a:pt x="18628" y="3076"/>
                </a:cubicBezTo>
                <a:cubicBezTo>
                  <a:pt x="18707" y="2900"/>
                  <a:pt x="18830" y="2830"/>
                  <a:pt x="18951" y="2679"/>
                </a:cubicBezTo>
              </a:path>
              <a:path w="1514" h="522">
                <a:moveTo>
                  <a:pt x="19472" y="2704"/>
                </a:moveTo>
                <a:cubicBezTo>
                  <a:pt x="19340" y="2704"/>
                  <a:pt x="19178" y="2792"/>
                  <a:pt x="19199" y="2977"/>
                </a:cubicBezTo>
                <a:cubicBezTo>
                  <a:pt x="19215" y="3002"/>
                  <a:pt x="19232" y="3026"/>
                  <a:pt x="19248" y="3051"/>
                </a:cubicBezTo>
                <a:cubicBezTo>
                  <a:pt x="19495" y="3022"/>
                  <a:pt x="19508" y="2970"/>
                  <a:pt x="19496" y="2729"/>
                </a:cubicBezTo>
              </a:path>
              <a:path w="1514" h="522">
                <a:moveTo>
                  <a:pt x="19844" y="2604"/>
                </a:moveTo>
                <a:cubicBezTo>
                  <a:pt x="19802" y="2694"/>
                  <a:pt x="19657" y="2929"/>
                  <a:pt x="19769" y="3026"/>
                </a:cubicBezTo>
                <a:cubicBezTo>
                  <a:pt x="19938" y="3172"/>
                  <a:pt x="20071" y="3010"/>
                  <a:pt x="20141" y="2877"/>
                </a:cubicBezTo>
                <a:cubicBezTo>
                  <a:pt x="19992" y="2866"/>
                  <a:pt x="20007" y="2878"/>
                  <a:pt x="19918" y="300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82800" y="1776240"/>
            <a:ext cx="652320" cy="243000"/>
          </a:xfrm>
          <a:custGeom>
            <a:avLst/>
            <a:gdLst/>
            <a:ahLst/>
            <a:rect l="l" t="t" r="r" b="b"/>
            <a:pathLst>
              <a:path w="1811" h="671">
                <a:moveTo>
                  <a:pt x="3026" y="5110"/>
                </a:moveTo>
                <a:cubicBezTo>
                  <a:pt x="3026" y="5013"/>
                  <a:pt x="2926" y="4967"/>
                  <a:pt x="2828" y="5011"/>
                </a:cubicBezTo>
                <a:cubicBezTo>
                  <a:pt x="2803" y="5036"/>
                  <a:pt x="2778" y="5060"/>
                  <a:pt x="2753" y="5085"/>
                </a:cubicBezTo>
                <a:cubicBezTo>
                  <a:pt x="2780" y="5266"/>
                  <a:pt x="2882" y="5261"/>
                  <a:pt x="3026" y="5110"/>
                </a:cubicBezTo>
                <a:cubicBezTo>
                  <a:pt x="3034" y="5093"/>
                  <a:pt x="3043" y="5077"/>
                  <a:pt x="3051" y="5060"/>
                </a:cubicBezTo>
                <a:cubicBezTo>
                  <a:pt x="3026" y="5205"/>
                  <a:pt x="2963" y="5340"/>
                  <a:pt x="2927" y="5482"/>
                </a:cubicBezTo>
              </a:path>
              <a:path w="1811" h="671">
                <a:moveTo>
                  <a:pt x="3249" y="5110"/>
                </a:moveTo>
                <a:cubicBezTo>
                  <a:pt x="3193" y="5191"/>
                  <a:pt x="3152" y="5240"/>
                  <a:pt x="3125" y="5333"/>
                </a:cubicBezTo>
                <a:cubicBezTo>
                  <a:pt x="3198" y="5338"/>
                  <a:pt x="3521" y="5264"/>
                  <a:pt x="3423" y="5110"/>
                </a:cubicBezTo>
                <a:cubicBezTo>
                  <a:pt x="3332" y="5110"/>
                  <a:pt x="3291" y="5110"/>
                  <a:pt x="3225" y="5110"/>
                </a:cubicBezTo>
              </a:path>
              <a:path w="1811" h="671">
                <a:moveTo>
                  <a:pt x="3572" y="5085"/>
                </a:moveTo>
                <a:cubicBezTo>
                  <a:pt x="3523" y="5238"/>
                  <a:pt x="3496" y="5433"/>
                  <a:pt x="3746" y="5308"/>
                </a:cubicBezTo>
                <a:cubicBezTo>
                  <a:pt x="3887" y="5238"/>
                  <a:pt x="3798" y="5144"/>
                  <a:pt x="3746" y="5060"/>
                </a:cubicBezTo>
              </a:path>
              <a:path w="1811" h="671">
                <a:moveTo>
                  <a:pt x="4043" y="4986"/>
                </a:moveTo>
                <a:cubicBezTo>
                  <a:pt x="3985" y="5073"/>
                  <a:pt x="3833" y="5400"/>
                  <a:pt x="4118" y="5308"/>
                </a:cubicBezTo>
                <a:cubicBezTo>
                  <a:pt x="4306" y="5247"/>
                  <a:pt x="4219" y="5138"/>
                  <a:pt x="4167" y="5035"/>
                </a:cubicBezTo>
              </a:path>
              <a:path w="1811" h="671">
                <a:moveTo>
                  <a:pt x="4415" y="4936"/>
                </a:moveTo>
                <a:cubicBezTo>
                  <a:pt x="4333" y="5038"/>
                  <a:pt x="4300" y="5052"/>
                  <a:pt x="4316" y="5135"/>
                </a:cubicBezTo>
                <a:cubicBezTo>
                  <a:pt x="4485" y="5199"/>
                  <a:pt x="4516" y="5163"/>
                  <a:pt x="4539" y="4986"/>
                </a:cubicBezTo>
              </a:path>
              <a:path w="1811" h="671">
                <a:moveTo>
                  <a:pt x="3398" y="5482"/>
                </a:moveTo>
                <a:cubicBezTo>
                  <a:pt x="3390" y="5523"/>
                  <a:pt x="3381" y="5565"/>
                  <a:pt x="3373" y="560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812960" y="1812960"/>
            <a:ext cx="98280" cy="81000"/>
          </a:xfrm>
          <a:custGeom>
            <a:avLst/>
            <a:gdLst/>
            <a:ahLst/>
            <a:rect l="l" t="t" r="r" b="b"/>
            <a:pathLst>
              <a:path w="274" h="225">
                <a:moveTo>
                  <a:pt x="5085" y="5035"/>
                </a:moveTo>
                <a:cubicBezTo>
                  <a:pt x="5108" y="5151"/>
                  <a:pt x="5115" y="5185"/>
                  <a:pt x="5135" y="5259"/>
                </a:cubicBezTo>
              </a:path>
              <a:path w="274" h="225">
                <a:moveTo>
                  <a:pt x="5035" y="5209"/>
                </a:moveTo>
                <a:cubicBezTo>
                  <a:pt x="5160" y="5178"/>
                  <a:pt x="5218" y="5162"/>
                  <a:pt x="5308" y="51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035080" y="1697040"/>
            <a:ext cx="743040" cy="312840"/>
          </a:xfrm>
          <a:custGeom>
            <a:avLst/>
            <a:gdLst/>
            <a:ahLst/>
            <a:rect l="l" t="t" r="r" b="b"/>
            <a:pathLst>
              <a:path w="2060" h="869">
                <a:moveTo>
                  <a:pt x="5655" y="4961"/>
                </a:moveTo>
                <a:cubicBezTo>
                  <a:pt x="5787" y="4934"/>
                  <a:pt x="5836" y="4925"/>
                  <a:pt x="5928" y="4911"/>
                </a:cubicBezTo>
                <a:cubicBezTo>
                  <a:pt x="5920" y="5035"/>
                  <a:pt x="5898" y="5120"/>
                  <a:pt x="5854" y="5234"/>
                </a:cubicBezTo>
              </a:path>
              <a:path w="2060" h="869">
                <a:moveTo>
                  <a:pt x="6201" y="4911"/>
                </a:moveTo>
                <a:cubicBezTo>
                  <a:pt x="6181" y="5012"/>
                  <a:pt x="6162" y="5032"/>
                  <a:pt x="6201" y="5085"/>
                </a:cubicBezTo>
                <a:cubicBezTo>
                  <a:pt x="6245" y="5077"/>
                  <a:pt x="6639" y="4937"/>
                  <a:pt x="6449" y="4837"/>
                </a:cubicBezTo>
                <a:cubicBezTo>
                  <a:pt x="6416" y="4837"/>
                  <a:pt x="6383" y="4837"/>
                  <a:pt x="6350" y="4837"/>
                </a:cubicBezTo>
              </a:path>
              <a:path w="2060" h="869">
                <a:moveTo>
                  <a:pt x="6796" y="4762"/>
                </a:moveTo>
                <a:cubicBezTo>
                  <a:pt x="6705" y="4891"/>
                  <a:pt x="6694" y="4890"/>
                  <a:pt x="6747" y="5035"/>
                </a:cubicBezTo>
                <a:cubicBezTo>
                  <a:pt x="6869" y="5043"/>
                  <a:pt x="7109" y="4980"/>
                  <a:pt x="6970" y="4787"/>
                </a:cubicBezTo>
                <a:cubicBezTo>
                  <a:pt x="6881" y="4757"/>
                  <a:pt x="6840" y="4752"/>
                  <a:pt x="6772" y="4787"/>
                </a:cubicBezTo>
              </a:path>
              <a:path w="2060" h="869">
                <a:moveTo>
                  <a:pt x="7069" y="4812"/>
                </a:moveTo>
                <a:cubicBezTo>
                  <a:pt x="7047" y="4948"/>
                  <a:pt x="7033" y="4985"/>
                  <a:pt x="7094" y="5060"/>
                </a:cubicBezTo>
                <a:cubicBezTo>
                  <a:pt x="7326" y="5005"/>
                  <a:pt x="7355" y="4939"/>
                  <a:pt x="7293" y="4713"/>
                </a:cubicBezTo>
              </a:path>
              <a:path w="2060" h="869">
                <a:moveTo>
                  <a:pt x="6226" y="5407"/>
                </a:moveTo>
                <a:cubicBezTo>
                  <a:pt x="6181" y="5497"/>
                  <a:pt x="6168" y="5519"/>
                  <a:pt x="6152" y="5581"/>
                </a:cubicBezTo>
              </a:path>
              <a:path w="2060" h="869">
                <a:moveTo>
                  <a:pt x="7714" y="4936"/>
                </a:moveTo>
                <a:cubicBezTo>
                  <a:pt x="7714" y="5035"/>
                  <a:pt x="7714" y="5135"/>
                  <a:pt x="7714" y="5234"/>
                </a:cubicBezTo>
              </a:path>
              <a:path w="2060" h="869">
                <a:moveTo>
                  <a:pt x="7590" y="5110"/>
                </a:moveTo>
                <a:cubicBezTo>
                  <a:pt x="7623" y="5102"/>
                  <a:pt x="7656" y="5093"/>
                  <a:pt x="7689" y="508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982960" y="1724040"/>
            <a:ext cx="357120" cy="142920"/>
          </a:xfrm>
          <a:custGeom>
            <a:avLst/>
            <a:gdLst/>
            <a:ahLst/>
            <a:rect l="l" t="t" r="r" b="b"/>
            <a:pathLst>
              <a:path w="993" h="398">
                <a:moveTo>
                  <a:pt x="8632" y="4812"/>
                </a:moveTo>
                <a:cubicBezTo>
                  <a:pt x="8540" y="4829"/>
                  <a:pt x="8186" y="4900"/>
                  <a:pt x="8359" y="5060"/>
                </a:cubicBezTo>
                <a:cubicBezTo>
                  <a:pt x="8455" y="5149"/>
                  <a:pt x="8515" y="5111"/>
                  <a:pt x="8384" y="5184"/>
                </a:cubicBezTo>
                <a:cubicBezTo>
                  <a:pt x="8160" y="5184"/>
                  <a:pt x="8487" y="5013"/>
                  <a:pt x="8558" y="4936"/>
                </a:cubicBezTo>
              </a:path>
              <a:path w="993" h="398">
                <a:moveTo>
                  <a:pt x="8855" y="4787"/>
                </a:moveTo>
                <a:cubicBezTo>
                  <a:pt x="8764" y="4923"/>
                  <a:pt x="8709" y="5005"/>
                  <a:pt x="8756" y="5135"/>
                </a:cubicBezTo>
                <a:cubicBezTo>
                  <a:pt x="8913" y="5098"/>
                  <a:pt x="8920" y="5001"/>
                  <a:pt x="8830" y="4837"/>
                </a:cubicBezTo>
                <a:cubicBezTo>
                  <a:pt x="8814" y="4820"/>
                  <a:pt x="8797" y="4804"/>
                  <a:pt x="8781" y="4787"/>
                </a:cubicBezTo>
              </a:path>
              <a:path w="993" h="398">
                <a:moveTo>
                  <a:pt x="9128" y="4812"/>
                </a:moveTo>
                <a:cubicBezTo>
                  <a:pt x="9079" y="4878"/>
                  <a:pt x="8885" y="5125"/>
                  <a:pt x="9054" y="5184"/>
                </a:cubicBezTo>
                <a:cubicBezTo>
                  <a:pt x="9292" y="5268"/>
                  <a:pt x="9283" y="5042"/>
                  <a:pt x="9227" y="491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00280" y="1795320"/>
            <a:ext cx="98640" cy="106560"/>
          </a:xfrm>
          <a:custGeom>
            <a:avLst/>
            <a:gdLst/>
            <a:ahLst/>
            <a:rect l="l" t="t" r="r" b="b"/>
            <a:pathLst>
              <a:path w="274" h="298">
                <a:moveTo>
                  <a:pt x="9947" y="4986"/>
                </a:moveTo>
                <a:cubicBezTo>
                  <a:pt x="9920" y="5093"/>
                  <a:pt x="9894" y="5182"/>
                  <a:pt x="9847" y="5283"/>
                </a:cubicBezTo>
              </a:path>
              <a:path w="274" h="298">
                <a:moveTo>
                  <a:pt x="9723" y="5184"/>
                </a:moveTo>
                <a:cubicBezTo>
                  <a:pt x="9823" y="5184"/>
                  <a:pt x="9893" y="5173"/>
                  <a:pt x="9996" y="515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24200" y="1741320"/>
            <a:ext cx="125640" cy="196920"/>
          </a:xfrm>
          <a:custGeom>
            <a:avLst/>
            <a:gdLst/>
            <a:ahLst/>
            <a:rect l="l" t="t" r="r" b="b"/>
            <a:pathLst>
              <a:path w="348" h="547">
                <a:moveTo>
                  <a:pt x="10393" y="5011"/>
                </a:moveTo>
                <a:cubicBezTo>
                  <a:pt x="10349" y="5076"/>
                  <a:pt x="10305" y="5190"/>
                  <a:pt x="10443" y="5159"/>
                </a:cubicBezTo>
                <a:cubicBezTo>
                  <a:pt x="10484" y="5143"/>
                  <a:pt x="10526" y="5126"/>
                  <a:pt x="10567" y="5110"/>
                </a:cubicBezTo>
              </a:path>
              <a:path w="348" h="547">
                <a:moveTo>
                  <a:pt x="10691" y="4837"/>
                </a:moveTo>
                <a:cubicBezTo>
                  <a:pt x="10582" y="5017"/>
                  <a:pt x="10538" y="5178"/>
                  <a:pt x="10492" y="538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062680" y="1616040"/>
            <a:ext cx="385560" cy="295200"/>
          </a:xfrm>
          <a:custGeom>
            <a:avLst/>
            <a:gdLst/>
            <a:ahLst/>
            <a:rect l="l" t="t" r="r" b="b"/>
            <a:pathLst>
              <a:path w="1068" h="819">
                <a:moveTo>
                  <a:pt x="14387" y="4638"/>
                </a:moveTo>
                <a:cubicBezTo>
                  <a:pt x="14353" y="4437"/>
                  <a:pt x="14251" y="4450"/>
                  <a:pt x="14114" y="4614"/>
                </a:cubicBezTo>
                <a:cubicBezTo>
                  <a:pt x="14097" y="4647"/>
                  <a:pt x="14081" y="4680"/>
                  <a:pt x="14064" y="4713"/>
                </a:cubicBezTo>
                <a:cubicBezTo>
                  <a:pt x="14269" y="4785"/>
                  <a:pt x="14322" y="4675"/>
                  <a:pt x="14486" y="4539"/>
                </a:cubicBezTo>
                <a:cubicBezTo>
                  <a:pt x="14453" y="4737"/>
                  <a:pt x="14408" y="4924"/>
                  <a:pt x="14337" y="5110"/>
                </a:cubicBezTo>
              </a:path>
              <a:path w="1068" h="819">
                <a:moveTo>
                  <a:pt x="14660" y="4514"/>
                </a:moveTo>
                <a:cubicBezTo>
                  <a:pt x="14771" y="4496"/>
                  <a:pt x="14933" y="4460"/>
                  <a:pt x="15007" y="4514"/>
                </a:cubicBezTo>
                <a:cubicBezTo>
                  <a:pt x="15020" y="4719"/>
                  <a:pt x="14945" y="4859"/>
                  <a:pt x="14833" y="5035"/>
                </a:cubicBezTo>
              </a:path>
              <a:path w="1068" h="819">
                <a:moveTo>
                  <a:pt x="15131" y="5110"/>
                </a:moveTo>
                <a:cubicBezTo>
                  <a:pt x="15066" y="5218"/>
                  <a:pt x="15051" y="5244"/>
                  <a:pt x="15007" y="53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62720" y="1527120"/>
            <a:ext cx="509400" cy="258840"/>
          </a:xfrm>
          <a:custGeom>
            <a:avLst/>
            <a:gdLst/>
            <a:ahLst/>
            <a:rect l="l" t="t" r="r" b="b"/>
            <a:pathLst>
              <a:path w="1415" h="720">
                <a:moveTo>
                  <a:pt x="15801" y="4366"/>
                </a:moveTo>
                <a:cubicBezTo>
                  <a:pt x="15666" y="4379"/>
                  <a:pt x="15622" y="4371"/>
                  <a:pt x="15528" y="4465"/>
                </a:cubicBezTo>
                <a:cubicBezTo>
                  <a:pt x="15587" y="4584"/>
                  <a:pt x="15814" y="4801"/>
                  <a:pt x="15602" y="4837"/>
                </a:cubicBezTo>
                <a:cubicBezTo>
                  <a:pt x="15552" y="4837"/>
                  <a:pt x="15503" y="4837"/>
                  <a:pt x="15453" y="4837"/>
                </a:cubicBezTo>
                <a:cubicBezTo>
                  <a:pt x="15505" y="4708"/>
                  <a:pt x="15634" y="4627"/>
                  <a:pt x="15726" y="4514"/>
                </a:cubicBezTo>
              </a:path>
              <a:path w="1415" h="720">
                <a:moveTo>
                  <a:pt x="16247" y="4440"/>
                </a:moveTo>
                <a:cubicBezTo>
                  <a:pt x="16110" y="4563"/>
                  <a:pt x="16062" y="4659"/>
                  <a:pt x="16073" y="4837"/>
                </a:cubicBezTo>
                <a:cubicBezTo>
                  <a:pt x="16341" y="4837"/>
                  <a:pt x="16337" y="4732"/>
                  <a:pt x="16297" y="4490"/>
                </a:cubicBezTo>
              </a:path>
              <a:path w="1415" h="720">
                <a:moveTo>
                  <a:pt x="16520" y="4390"/>
                </a:moveTo>
                <a:cubicBezTo>
                  <a:pt x="16487" y="4498"/>
                  <a:pt x="16402" y="4669"/>
                  <a:pt x="16594" y="4638"/>
                </a:cubicBezTo>
                <a:cubicBezTo>
                  <a:pt x="16644" y="4622"/>
                  <a:pt x="16693" y="4605"/>
                  <a:pt x="16743" y="4589"/>
                </a:cubicBezTo>
              </a:path>
              <a:path w="1415" h="720">
                <a:moveTo>
                  <a:pt x="16867" y="4242"/>
                </a:moveTo>
                <a:cubicBezTo>
                  <a:pt x="16785" y="4488"/>
                  <a:pt x="16679" y="4725"/>
                  <a:pt x="16570" y="496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30200" y="22147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3696" y="6152"/>
                </a:moveTo>
                <a:lnTo>
                  <a:pt x="3696" y="6152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81120" y="1928880"/>
            <a:ext cx="81000" cy="160200"/>
          </a:xfrm>
          <a:custGeom>
            <a:avLst/>
            <a:gdLst/>
            <a:ahLst/>
            <a:rect l="l" t="t" r="r" b="b"/>
            <a:pathLst>
              <a:path w="225" h="447">
                <a:moveTo>
                  <a:pt x="4564" y="5358"/>
                </a:moveTo>
                <a:cubicBezTo>
                  <a:pt x="4439" y="5405"/>
                  <a:pt x="4469" y="5370"/>
                  <a:pt x="4415" y="5507"/>
                </a:cubicBezTo>
                <a:cubicBezTo>
                  <a:pt x="4407" y="5523"/>
                  <a:pt x="4398" y="5540"/>
                  <a:pt x="4390" y="5556"/>
                </a:cubicBezTo>
                <a:cubicBezTo>
                  <a:pt x="4481" y="5540"/>
                  <a:pt x="4694" y="5490"/>
                  <a:pt x="4589" y="5680"/>
                </a:cubicBezTo>
                <a:cubicBezTo>
                  <a:pt x="4513" y="5756"/>
                  <a:pt x="4487" y="5782"/>
                  <a:pt x="4415" y="580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197080" y="220500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6102" y="6127"/>
                </a:moveTo>
                <a:lnTo>
                  <a:pt x="6102" y="6127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419200" y="1938240"/>
            <a:ext cx="81000" cy="150840"/>
          </a:xfrm>
          <a:custGeom>
            <a:avLst/>
            <a:gdLst/>
            <a:ahLst/>
            <a:rect l="l" t="t" r="r" b="b"/>
            <a:pathLst>
              <a:path w="224" h="422">
                <a:moveTo>
                  <a:pt x="6796" y="5457"/>
                </a:moveTo>
                <a:cubicBezTo>
                  <a:pt x="6825" y="5423"/>
                  <a:pt x="6992" y="5326"/>
                  <a:pt x="6945" y="5457"/>
                </a:cubicBezTo>
                <a:cubicBezTo>
                  <a:pt x="6899" y="5526"/>
                  <a:pt x="6887" y="5546"/>
                  <a:pt x="6846" y="5581"/>
                </a:cubicBezTo>
                <a:cubicBezTo>
                  <a:pt x="6978" y="5515"/>
                  <a:pt x="6977" y="5635"/>
                  <a:pt x="6896" y="5730"/>
                </a:cubicBezTo>
                <a:cubicBezTo>
                  <a:pt x="6818" y="5781"/>
                  <a:pt x="6788" y="5799"/>
                  <a:pt x="6722" y="580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27240" y="219708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8409" y="6102"/>
                </a:moveTo>
                <a:lnTo>
                  <a:pt x="8409" y="6102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268800" y="1963800"/>
            <a:ext cx="98280" cy="90360"/>
          </a:xfrm>
          <a:custGeom>
            <a:avLst/>
            <a:gdLst/>
            <a:ahLst/>
            <a:rect l="l" t="t" r="r" b="b"/>
            <a:pathLst>
              <a:path w="273" h="249">
                <a:moveTo>
                  <a:pt x="9153" y="5482"/>
                </a:moveTo>
                <a:cubicBezTo>
                  <a:pt x="9178" y="5474"/>
                  <a:pt x="9202" y="5465"/>
                  <a:pt x="9227" y="5457"/>
                </a:cubicBezTo>
                <a:cubicBezTo>
                  <a:pt x="9178" y="5555"/>
                  <a:pt x="9137" y="5616"/>
                  <a:pt x="9079" y="5705"/>
                </a:cubicBezTo>
                <a:cubicBezTo>
                  <a:pt x="9170" y="5705"/>
                  <a:pt x="9260" y="5705"/>
                  <a:pt x="9351" y="570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75040" y="217800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0765" y="6052"/>
                </a:moveTo>
                <a:lnTo>
                  <a:pt x="10765" y="6052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205160" y="1982880"/>
            <a:ext cx="9720" cy="81000"/>
          </a:xfrm>
          <a:custGeom>
            <a:avLst/>
            <a:gdLst/>
            <a:ahLst/>
            <a:rect l="l" t="t" r="r" b="b"/>
            <a:pathLst>
              <a:path w="26" h="224">
                <a:moveTo>
                  <a:pt x="11708" y="5507"/>
                </a:moveTo>
                <a:cubicBezTo>
                  <a:pt x="11708" y="5615"/>
                  <a:pt x="11706" y="5657"/>
                  <a:pt x="11683" y="573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973760" y="2108160"/>
            <a:ext cx="1260360" cy="357120"/>
          </a:xfrm>
          <a:custGeom>
            <a:avLst/>
            <a:gdLst/>
            <a:ahLst/>
            <a:rect l="l" t="t" r="r" b="b"/>
            <a:pathLst>
              <a:path w="3499" h="993">
                <a:moveTo>
                  <a:pt x="13816" y="5879"/>
                </a:moveTo>
                <a:cubicBezTo>
                  <a:pt x="13965" y="5914"/>
                  <a:pt x="14119" y="5882"/>
                  <a:pt x="14263" y="5904"/>
                </a:cubicBezTo>
                <a:cubicBezTo>
                  <a:pt x="14222" y="6106"/>
                  <a:pt x="14137" y="6299"/>
                  <a:pt x="14089" y="6499"/>
                </a:cubicBezTo>
                <a:cubicBezTo>
                  <a:pt x="14089" y="6515"/>
                  <a:pt x="14089" y="6532"/>
                  <a:pt x="14089" y="6548"/>
                </a:cubicBezTo>
              </a:path>
              <a:path w="3499" h="993">
                <a:moveTo>
                  <a:pt x="14660" y="5953"/>
                </a:moveTo>
                <a:cubicBezTo>
                  <a:pt x="14497" y="6125"/>
                  <a:pt x="14487" y="6162"/>
                  <a:pt x="14461" y="6400"/>
                </a:cubicBezTo>
                <a:cubicBezTo>
                  <a:pt x="14632" y="6456"/>
                  <a:pt x="14843" y="6427"/>
                  <a:pt x="14808" y="6176"/>
                </a:cubicBezTo>
                <a:cubicBezTo>
                  <a:pt x="14751" y="6090"/>
                  <a:pt x="14720" y="6059"/>
                  <a:pt x="14635" y="6052"/>
                </a:cubicBezTo>
              </a:path>
              <a:path w="3499" h="993">
                <a:moveTo>
                  <a:pt x="15205" y="5928"/>
                </a:moveTo>
                <a:cubicBezTo>
                  <a:pt x="15138" y="5928"/>
                  <a:pt x="14969" y="5896"/>
                  <a:pt x="14932" y="5978"/>
                </a:cubicBezTo>
                <a:cubicBezTo>
                  <a:pt x="14908" y="6076"/>
                  <a:pt x="14900" y="6108"/>
                  <a:pt x="14908" y="6176"/>
                </a:cubicBezTo>
                <a:cubicBezTo>
                  <a:pt x="15034" y="6219"/>
                  <a:pt x="15159" y="6052"/>
                  <a:pt x="15304" y="6176"/>
                </a:cubicBezTo>
                <a:cubicBezTo>
                  <a:pt x="15501" y="6344"/>
                  <a:pt x="15207" y="6584"/>
                  <a:pt x="15032" y="6548"/>
                </a:cubicBezTo>
                <a:cubicBezTo>
                  <a:pt x="14982" y="6523"/>
                  <a:pt x="14933" y="6499"/>
                  <a:pt x="14883" y="6474"/>
                </a:cubicBezTo>
              </a:path>
              <a:path w="3499" h="993">
                <a:moveTo>
                  <a:pt x="15503" y="6623"/>
                </a:moveTo>
                <a:cubicBezTo>
                  <a:pt x="15481" y="6752"/>
                  <a:pt x="15485" y="6784"/>
                  <a:pt x="15429" y="6846"/>
                </a:cubicBezTo>
              </a:path>
              <a:path w="3499" h="993">
                <a:moveTo>
                  <a:pt x="16148" y="5978"/>
                </a:moveTo>
                <a:cubicBezTo>
                  <a:pt x="16015" y="5978"/>
                  <a:pt x="15980" y="5974"/>
                  <a:pt x="15900" y="6003"/>
                </a:cubicBezTo>
                <a:cubicBezTo>
                  <a:pt x="15920" y="6084"/>
                  <a:pt x="16102" y="6347"/>
                  <a:pt x="16049" y="6424"/>
                </a:cubicBezTo>
                <a:cubicBezTo>
                  <a:pt x="15942" y="6477"/>
                  <a:pt x="15902" y="6491"/>
                  <a:pt x="15825" y="6424"/>
                </a:cubicBezTo>
                <a:cubicBezTo>
                  <a:pt x="15888" y="6246"/>
                  <a:pt x="16018" y="6196"/>
                  <a:pt x="16148" y="6052"/>
                </a:cubicBezTo>
              </a:path>
              <a:path w="3499" h="993">
                <a:moveTo>
                  <a:pt x="16570" y="6003"/>
                </a:moveTo>
                <a:cubicBezTo>
                  <a:pt x="16337" y="6099"/>
                  <a:pt x="16288" y="6161"/>
                  <a:pt x="16321" y="6400"/>
                </a:cubicBezTo>
                <a:cubicBezTo>
                  <a:pt x="16492" y="6468"/>
                  <a:pt x="16792" y="6466"/>
                  <a:pt x="16718" y="6152"/>
                </a:cubicBezTo>
                <a:cubicBezTo>
                  <a:pt x="16685" y="6111"/>
                  <a:pt x="16652" y="6069"/>
                  <a:pt x="16619" y="6028"/>
                </a:cubicBezTo>
              </a:path>
              <a:path w="3499" h="993">
                <a:moveTo>
                  <a:pt x="16892" y="5904"/>
                </a:moveTo>
                <a:cubicBezTo>
                  <a:pt x="17035" y="5860"/>
                  <a:pt x="17164" y="5854"/>
                  <a:pt x="17314" y="5854"/>
                </a:cubicBezTo>
                <a:cubicBezTo>
                  <a:pt x="17289" y="6049"/>
                  <a:pt x="17233" y="6212"/>
                  <a:pt x="17165" y="640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74800" y="2419200"/>
            <a:ext cx="974520" cy="277920"/>
          </a:xfrm>
          <a:custGeom>
            <a:avLst/>
            <a:gdLst/>
            <a:ahLst/>
            <a:rect l="l" t="t" r="r" b="b"/>
            <a:pathLst>
              <a:path w="2705" h="770">
                <a:moveTo>
                  <a:pt x="2431" y="6821"/>
                </a:moveTo>
                <a:cubicBezTo>
                  <a:pt x="2523" y="6785"/>
                  <a:pt x="2610" y="6751"/>
                  <a:pt x="2704" y="6722"/>
                </a:cubicBezTo>
                <a:cubicBezTo>
                  <a:pt x="2725" y="6891"/>
                  <a:pt x="2743" y="7010"/>
                  <a:pt x="2679" y="7169"/>
                </a:cubicBezTo>
              </a:path>
              <a:path w="2705" h="770">
                <a:moveTo>
                  <a:pt x="2902" y="6796"/>
                </a:moveTo>
                <a:cubicBezTo>
                  <a:pt x="2856" y="6935"/>
                  <a:pt x="2840" y="6973"/>
                  <a:pt x="2853" y="7069"/>
                </a:cubicBezTo>
                <a:cubicBezTo>
                  <a:pt x="2922" y="7080"/>
                  <a:pt x="3235" y="7054"/>
                  <a:pt x="3125" y="6896"/>
                </a:cubicBezTo>
                <a:cubicBezTo>
                  <a:pt x="3092" y="6879"/>
                  <a:pt x="3059" y="6863"/>
                  <a:pt x="3026" y="6846"/>
                </a:cubicBezTo>
              </a:path>
              <a:path w="2705" h="770">
                <a:moveTo>
                  <a:pt x="3324" y="6896"/>
                </a:moveTo>
                <a:cubicBezTo>
                  <a:pt x="3291" y="7050"/>
                  <a:pt x="3338" y="7278"/>
                  <a:pt x="3572" y="7094"/>
                </a:cubicBezTo>
                <a:cubicBezTo>
                  <a:pt x="3697" y="6996"/>
                  <a:pt x="3584" y="6908"/>
                  <a:pt x="3522" y="6846"/>
                </a:cubicBezTo>
              </a:path>
              <a:path w="2705" h="770">
                <a:moveTo>
                  <a:pt x="3746" y="6796"/>
                </a:moveTo>
                <a:cubicBezTo>
                  <a:pt x="3734" y="6859"/>
                  <a:pt x="3705" y="7182"/>
                  <a:pt x="3894" y="7045"/>
                </a:cubicBezTo>
                <a:cubicBezTo>
                  <a:pt x="4017" y="6956"/>
                  <a:pt x="3946" y="6861"/>
                  <a:pt x="3894" y="6796"/>
                </a:cubicBezTo>
              </a:path>
              <a:path w="2705" h="770">
                <a:moveTo>
                  <a:pt x="4217" y="6722"/>
                </a:moveTo>
                <a:cubicBezTo>
                  <a:pt x="4069" y="6852"/>
                  <a:pt x="4057" y="6845"/>
                  <a:pt x="4068" y="7045"/>
                </a:cubicBezTo>
                <a:cubicBezTo>
                  <a:pt x="4159" y="7049"/>
                  <a:pt x="4527" y="7029"/>
                  <a:pt x="4366" y="6821"/>
                </a:cubicBezTo>
                <a:cubicBezTo>
                  <a:pt x="4333" y="6805"/>
                  <a:pt x="4299" y="6788"/>
                  <a:pt x="4266" y="6772"/>
                </a:cubicBezTo>
              </a:path>
              <a:path w="2705" h="770">
                <a:moveTo>
                  <a:pt x="4614" y="6722"/>
                </a:moveTo>
                <a:cubicBezTo>
                  <a:pt x="4559" y="6797"/>
                  <a:pt x="4414" y="7045"/>
                  <a:pt x="4638" y="7045"/>
                </a:cubicBezTo>
                <a:cubicBezTo>
                  <a:pt x="4793" y="7045"/>
                  <a:pt x="4777" y="6888"/>
                  <a:pt x="4787" y="6796"/>
                </a:cubicBezTo>
              </a:path>
              <a:path w="2705" h="770">
                <a:moveTo>
                  <a:pt x="3721" y="7243"/>
                </a:moveTo>
                <a:cubicBezTo>
                  <a:pt x="3746" y="7369"/>
                  <a:pt x="3754" y="7413"/>
                  <a:pt x="3696" y="7491"/>
                </a:cubicBezTo>
              </a:path>
              <a:path w="2705" h="770">
                <a:moveTo>
                  <a:pt x="5085" y="6796"/>
                </a:moveTo>
                <a:cubicBezTo>
                  <a:pt x="5105" y="6897"/>
                  <a:pt x="5103" y="6917"/>
                  <a:pt x="5135" y="6970"/>
                </a:cubicBezTo>
              </a:path>
              <a:path w="2705" h="770">
                <a:moveTo>
                  <a:pt x="5035" y="6970"/>
                </a:moveTo>
                <a:cubicBezTo>
                  <a:pt x="5068" y="6962"/>
                  <a:pt x="5102" y="6953"/>
                  <a:pt x="5135" y="694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009880" y="2374920"/>
            <a:ext cx="749160" cy="322200"/>
          </a:xfrm>
          <a:custGeom>
            <a:avLst/>
            <a:gdLst/>
            <a:ahLst/>
            <a:rect l="l" t="t" r="r" b="b"/>
            <a:pathLst>
              <a:path w="2085" h="894">
                <a:moveTo>
                  <a:pt x="5730" y="6747"/>
                </a:moveTo>
                <a:cubicBezTo>
                  <a:pt x="5702" y="6775"/>
                  <a:pt x="5693" y="6788"/>
                  <a:pt x="5705" y="6821"/>
                </a:cubicBezTo>
                <a:cubicBezTo>
                  <a:pt x="5787" y="6856"/>
                  <a:pt x="5837" y="6886"/>
                  <a:pt x="5904" y="6945"/>
                </a:cubicBezTo>
                <a:cubicBezTo>
                  <a:pt x="5776" y="7086"/>
                  <a:pt x="5786" y="7053"/>
                  <a:pt x="5581" y="7045"/>
                </a:cubicBezTo>
              </a:path>
              <a:path w="2085" h="894">
                <a:moveTo>
                  <a:pt x="5631" y="6722"/>
                </a:moveTo>
                <a:cubicBezTo>
                  <a:pt x="5763" y="6695"/>
                  <a:pt x="5812" y="6686"/>
                  <a:pt x="5904" y="6672"/>
                </a:cubicBezTo>
              </a:path>
              <a:path w="2085" h="894">
                <a:moveTo>
                  <a:pt x="6176" y="6747"/>
                </a:moveTo>
                <a:cubicBezTo>
                  <a:pt x="6105" y="6843"/>
                  <a:pt x="6082" y="6872"/>
                  <a:pt x="6052" y="6945"/>
                </a:cubicBezTo>
                <a:cubicBezTo>
                  <a:pt x="6173" y="7011"/>
                  <a:pt x="6386" y="7030"/>
                  <a:pt x="6449" y="6846"/>
                </a:cubicBezTo>
                <a:cubicBezTo>
                  <a:pt x="6491" y="6725"/>
                  <a:pt x="6283" y="6751"/>
                  <a:pt x="6226" y="6747"/>
                </a:cubicBezTo>
              </a:path>
              <a:path w="2085" h="894">
                <a:moveTo>
                  <a:pt x="6598" y="6672"/>
                </a:moveTo>
                <a:cubicBezTo>
                  <a:pt x="6547" y="6783"/>
                  <a:pt x="6545" y="6800"/>
                  <a:pt x="6573" y="6921"/>
                </a:cubicBezTo>
                <a:cubicBezTo>
                  <a:pt x="6657" y="6915"/>
                  <a:pt x="7034" y="6878"/>
                  <a:pt x="6871" y="6697"/>
                </a:cubicBezTo>
                <a:cubicBezTo>
                  <a:pt x="6838" y="6689"/>
                  <a:pt x="6805" y="6680"/>
                  <a:pt x="6772" y="6672"/>
                </a:cubicBezTo>
              </a:path>
              <a:path w="2085" h="894">
                <a:moveTo>
                  <a:pt x="6921" y="6722"/>
                </a:moveTo>
                <a:cubicBezTo>
                  <a:pt x="6912" y="6850"/>
                  <a:pt x="7012" y="7046"/>
                  <a:pt x="7169" y="6871"/>
                </a:cubicBezTo>
                <a:cubicBezTo>
                  <a:pt x="7296" y="6730"/>
                  <a:pt x="7185" y="6669"/>
                  <a:pt x="7094" y="6598"/>
                </a:cubicBezTo>
              </a:path>
              <a:path w="2085" h="894">
                <a:moveTo>
                  <a:pt x="5978" y="7317"/>
                </a:moveTo>
                <a:cubicBezTo>
                  <a:pt x="5922" y="7401"/>
                  <a:pt x="5898" y="7435"/>
                  <a:pt x="5854" y="7491"/>
                </a:cubicBezTo>
              </a:path>
              <a:path w="2085" h="894">
                <a:moveTo>
                  <a:pt x="7590" y="6672"/>
                </a:moveTo>
                <a:cubicBezTo>
                  <a:pt x="7569" y="6784"/>
                  <a:pt x="7565" y="6880"/>
                  <a:pt x="7565" y="6995"/>
                </a:cubicBezTo>
              </a:path>
              <a:path w="2085" h="894">
                <a:moveTo>
                  <a:pt x="7441" y="6896"/>
                </a:moveTo>
                <a:cubicBezTo>
                  <a:pt x="7539" y="6863"/>
                  <a:pt x="7587" y="6851"/>
                  <a:pt x="7665" y="68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94040" y="2401920"/>
            <a:ext cx="579240" cy="152280"/>
          </a:xfrm>
          <a:custGeom>
            <a:avLst/>
            <a:gdLst/>
            <a:ahLst/>
            <a:rect l="l" t="t" r="r" b="b"/>
            <a:pathLst>
              <a:path w="1613" h="423">
                <a:moveTo>
                  <a:pt x="8235" y="6722"/>
                </a:moveTo>
                <a:cubicBezTo>
                  <a:pt x="8119" y="6779"/>
                  <a:pt x="8103" y="6787"/>
                  <a:pt x="8037" y="6821"/>
                </a:cubicBezTo>
                <a:cubicBezTo>
                  <a:pt x="8111" y="6863"/>
                  <a:pt x="8490" y="6987"/>
                  <a:pt x="8235" y="7045"/>
                </a:cubicBezTo>
                <a:cubicBezTo>
                  <a:pt x="7962" y="7107"/>
                  <a:pt x="8383" y="6766"/>
                  <a:pt x="8434" y="6722"/>
                </a:cubicBezTo>
              </a:path>
              <a:path w="1613" h="423">
                <a:moveTo>
                  <a:pt x="8682" y="6722"/>
                </a:moveTo>
                <a:cubicBezTo>
                  <a:pt x="8591" y="6812"/>
                  <a:pt x="8561" y="6833"/>
                  <a:pt x="8558" y="6921"/>
                </a:cubicBezTo>
                <a:cubicBezTo>
                  <a:pt x="8664" y="6991"/>
                  <a:pt x="8860" y="6983"/>
                  <a:pt x="8880" y="6796"/>
                </a:cubicBezTo>
                <a:cubicBezTo>
                  <a:pt x="8896" y="6645"/>
                  <a:pt x="8728" y="6684"/>
                  <a:pt x="8657" y="6697"/>
                </a:cubicBezTo>
              </a:path>
              <a:path w="1613" h="423">
                <a:moveTo>
                  <a:pt x="9029" y="6672"/>
                </a:moveTo>
                <a:cubicBezTo>
                  <a:pt x="8862" y="6822"/>
                  <a:pt x="8854" y="6779"/>
                  <a:pt x="8880" y="6995"/>
                </a:cubicBezTo>
                <a:cubicBezTo>
                  <a:pt x="9021" y="7012"/>
                  <a:pt x="9291" y="7006"/>
                  <a:pt x="9178" y="6772"/>
                </a:cubicBezTo>
                <a:cubicBezTo>
                  <a:pt x="9145" y="6739"/>
                  <a:pt x="9112" y="6705"/>
                  <a:pt x="9079" y="6672"/>
                </a:cubicBezTo>
              </a:path>
              <a:path w="1613" h="423">
                <a:moveTo>
                  <a:pt x="9575" y="6896"/>
                </a:moveTo>
                <a:cubicBezTo>
                  <a:pt x="9596" y="7003"/>
                  <a:pt x="9604" y="7027"/>
                  <a:pt x="9599" y="7094"/>
                </a:cubicBezTo>
              </a:path>
              <a:path w="1613" h="423">
                <a:moveTo>
                  <a:pt x="9500" y="6995"/>
                </a:moveTo>
                <a:cubicBezTo>
                  <a:pt x="9550" y="6987"/>
                  <a:pt x="9599" y="6978"/>
                  <a:pt x="9649" y="697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06840" y="2401920"/>
            <a:ext cx="162000" cy="125280"/>
          </a:xfrm>
          <a:custGeom>
            <a:avLst/>
            <a:gdLst/>
            <a:ahLst/>
            <a:rect l="l" t="t" r="r" b="b"/>
            <a:pathLst>
              <a:path w="448" h="349">
                <a:moveTo>
                  <a:pt x="10021" y="6722"/>
                </a:moveTo>
                <a:cubicBezTo>
                  <a:pt x="10120" y="6702"/>
                  <a:pt x="10434" y="6589"/>
                  <a:pt x="10468" y="6747"/>
                </a:cubicBezTo>
                <a:cubicBezTo>
                  <a:pt x="10468" y="6891"/>
                  <a:pt x="10470" y="6936"/>
                  <a:pt x="10418" y="702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19160" y="3537000"/>
            <a:ext cx="189000" cy="293760"/>
          </a:xfrm>
          <a:custGeom>
            <a:avLst/>
            <a:gdLst/>
            <a:ahLst/>
            <a:rect l="l" t="t" r="r" b="b"/>
            <a:pathLst>
              <a:path w="522" h="819">
                <a:moveTo>
                  <a:pt x="5606" y="9823"/>
                </a:moveTo>
                <a:cubicBezTo>
                  <a:pt x="5460" y="10123"/>
                  <a:pt x="5311" y="10337"/>
                  <a:pt x="5407" y="10641"/>
                </a:cubicBezTo>
              </a:path>
              <a:path w="522" h="819">
                <a:moveTo>
                  <a:pt x="5854" y="10269"/>
                </a:moveTo>
                <a:cubicBezTo>
                  <a:pt x="5834" y="10427"/>
                  <a:pt x="5839" y="10455"/>
                  <a:pt x="5804" y="1054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51080" y="3643200"/>
            <a:ext cx="98280" cy="162000"/>
          </a:xfrm>
          <a:custGeom>
            <a:avLst/>
            <a:gdLst/>
            <a:ahLst/>
            <a:rect l="l" t="t" r="r" b="b"/>
            <a:pathLst>
              <a:path w="274" h="448">
                <a:moveTo>
                  <a:pt x="6251" y="10120"/>
                </a:moveTo>
                <a:cubicBezTo>
                  <a:pt x="6325" y="10281"/>
                  <a:pt x="6388" y="10406"/>
                  <a:pt x="6499" y="10542"/>
                </a:cubicBezTo>
              </a:path>
              <a:path w="274" h="448">
                <a:moveTo>
                  <a:pt x="6524" y="10120"/>
                </a:moveTo>
                <a:cubicBezTo>
                  <a:pt x="6387" y="10349"/>
                  <a:pt x="6347" y="10411"/>
                  <a:pt x="6276" y="1056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90840" y="3411360"/>
            <a:ext cx="393480" cy="419400"/>
          </a:xfrm>
          <a:custGeom>
            <a:avLst/>
            <a:gdLst/>
            <a:ahLst/>
            <a:rect l="l" t="t" r="r" b="b"/>
            <a:pathLst>
              <a:path w="1092" h="1167">
                <a:moveTo>
                  <a:pt x="6945" y="10145"/>
                </a:moveTo>
                <a:cubicBezTo>
                  <a:pt x="6945" y="10344"/>
                  <a:pt x="6949" y="10395"/>
                  <a:pt x="6921" y="10517"/>
                </a:cubicBezTo>
              </a:path>
              <a:path w="1092" h="1167">
                <a:moveTo>
                  <a:pt x="7243" y="10269"/>
                </a:moveTo>
                <a:cubicBezTo>
                  <a:pt x="7139" y="10394"/>
                  <a:pt x="7098" y="10412"/>
                  <a:pt x="7119" y="10517"/>
                </a:cubicBezTo>
                <a:cubicBezTo>
                  <a:pt x="7254" y="10493"/>
                  <a:pt x="7639" y="10405"/>
                  <a:pt x="7491" y="10170"/>
                </a:cubicBezTo>
                <a:cubicBezTo>
                  <a:pt x="7458" y="10153"/>
                  <a:pt x="7425" y="10137"/>
                  <a:pt x="7392" y="10120"/>
                </a:cubicBezTo>
              </a:path>
              <a:path w="1092" h="1167">
                <a:moveTo>
                  <a:pt x="7491" y="9649"/>
                </a:moveTo>
                <a:cubicBezTo>
                  <a:pt x="7508" y="9649"/>
                  <a:pt x="7524" y="9649"/>
                  <a:pt x="7541" y="9649"/>
                </a:cubicBezTo>
                <a:cubicBezTo>
                  <a:pt x="7541" y="9730"/>
                  <a:pt x="7495" y="9872"/>
                  <a:pt x="7615" y="9872"/>
                </a:cubicBezTo>
                <a:cubicBezTo>
                  <a:pt x="7648" y="9864"/>
                  <a:pt x="7681" y="9855"/>
                  <a:pt x="7714" y="9847"/>
                </a:cubicBezTo>
              </a:path>
              <a:path w="1092" h="1167">
                <a:moveTo>
                  <a:pt x="7714" y="9699"/>
                </a:moveTo>
                <a:cubicBezTo>
                  <a:pt x="7699" y="9835"/>
                  <a:pt x="7689" y="9959"/>
                  <a:pt x="7689" y="10096"/>
                </a:cubicBezTo>
              </a:path>
              <a:path w="1092" h="1167">
                <a:moveTo>
                  <a:pt x="7838" y="9475"/>
                </a:moveTo>
                <a:cubicBezTo>
                  <a:pt x="7931" y="9801"/>
                  <a:pt x="8149" y="10189"/>
                  <a:pt x="7913" y="10517"/>
                </a:cubicBezTo>
                <a:cubicBezTo>
                  <a:pt x="7847" y="10558"/>
                  <a:pt x="7780" y="10600"/>
                  <a:pt x="7714" y="1064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036960" y="3446640"/>
            <a:ext cx="615960" cy="331560"/>
          </a:xfrm>
          <a:custGeom>
            <a:avLst/>
            <a:gdLst/>
            <a:ahLst/>
            <a:rect l="l" t="t" r="r" b="b"/>
            <a:pathLst>
              <a:path w="1712" h="918">
                <a:moveTo>
                  <a:pt x="8458" y="10046"/>
                </a:moveTo>
                <a:cubicBezTo>
                  <a:pt x="8458" y="10204"/>
                  <a:pt x="8457" y="10262"/>
                  <a:pt x="8434" y="10368"/>
                </a:cubicBezTo>
              </a:path>
              <a:path w="1712" h="918">
                <a:moveTo>
                  <a:pt x="8434" y="10244"/>
                </a:moveTo>
                <a:cubicBezTo>
                  <a:pt x="8623" y="10197"/>
                  <a:pt x="8680" y="10182"/>
                  <a:pt x="8806" y="10170"/>
                </a:cubicBezTo>
              </a:path>
              <a:path w="1712" h="918">
                <a:moveTo>
                  <a:pt x="9128" y="9575"/>
                </a:moveTo>
                <a:cubicBezTo>
                  <a:pt x="9038" y="9781"/>
                  <a:pt x="8723" y="10284"/>
                  <a:pt x="8954" y="10492"/>
                </a:cubicBezTo>
                <a:cubicBezTo>
                  <a:pt x="8996" y="10492"/>
                  <a:pt x="9037" y="10492"/>
                  <a:pt x="9079" y="10492"/>
                </a:cubicBezTo>
              </a:path>
              <a:path w="1712" h="918">
                <a:moveTo>
                  <a:pt x="9351" y="10021"/>
                </a:moveTo>
                <a:cubicBezTo>
                  <a:pt x="9496" y="10113"/>
                  <a:pt x="9744" y="10335"/>
                  <a:pt x="9426" y="10418"/>
                </a:cubicBezTo>
                <a:cubicBezTo>
                  <a:pt x="9292" y="10418"/>
                  <a:pt x="9253" y="10428"/>
                  <a:pt x="9203" y="10344"/>
                </a:cubicBezTo>
                <a:cubicBezTo>
                  <a:pt x="9319" y="10175"/>
                  <a:pt x="9431" y="10280"/>
                  <a:pt x="9599" y="10368"/>
                </a:cubicBezTo>
              </a:path>
              <a:path w="1712" h="918">
                <a:moveTo>
                  <a:pt x="9847" y="10046"/>
                </a:moveTo>
                <a:cubicBezTo>
                  <a:pt x="9914" y="10166"/>
                  <a:pt x="9981" y="10265"/>
                  <a:pt x="10071" y="10368"/>
                </a:cubicBezTo>
              </a:path>
              <a:path w="1712" h="918">
                <a:moveTo>
                  <a:pt x="10145" y="9971"/>
                </a:moveTo>
                <a:cubicBezTo>
                  <a:pt x="10041" y="10116"/>
                  <a:pt x="9933" y="10253"/>
                  <a:pt x="9823" y="1039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95840" y="3340080"/>
            <a:ext cx="419040" cy="482760"/>
          </a:xfrm>
          <a:custGeom>
            <a:avLst/>
            <a:gdLst/>
            <a:ahLst/>
            <a:rect l="l" t="t" r="r" b="b"/>
            <a:pathLst>
              <a:path w="1167" h="1340">
                <a:moveTo>
                  <a:pt x="10641" y="10021"/>
                </a:moveTo>
                <a:cubicBezTo>
                  <a:pt x="10617" y="10188"/>
                  <a:pt x="10593" y="10333"/>
                  <a:pt x="10542" y="10492"/>
                </a:cubicBezTo>
              </a:path>
              <a:path w="1167" h="1340">
                <a:moveTo>
                  <a:pt x="10939" y="10046"/>
                </a:moveTo>
                <a:cubicBezTo>
                  <a:pt x="10829" y="10222"/>
                  <a:pt x="10795" y="10264"/>
                  <a:pt x="10765" y="10393"/>
                </a:cubicBezTo>
                <a:cubicBezTo>
                  <a:pt x="10858" y="10424"/>
                  <a:pt x="11206" y="10383"/>
                  <a:pt x="11162" y="10170"/>
                </a:cubicBezTo>
                <a:cubicBezTo>
                  <a:pt x="11129" y="10137"/>
                  <a:pt x="11096" y="10104"/>
                  <a:pt x="11063" y="10071"/>
                </a:cubicBezTo>
              </a:path>
              <a:path w="1167" h="1340">
                <a:moveTo>
                  <a:pt x="11187" y="9475"/>
                </a:moveTo>
                <a:cubicBezTo>
                  <a:pt x="11256" y="9460"/>
                  <a:pt x="11419" y="9461"/>
                  <a:pt x="11311" y="9599"/>
                </a:cubicBezTo>
                <a:cubicBezTo>
                  <a:pt x="11278" y="9624"/>
                  <a:pt x="11245" y="9649"/>
                  <a:pt x="11212" y="9674"/>
                </a:cubicBezTo>
                <a:cubicBezTo>
                  <a:pt x="11195" y="9674"/>
                  <a:pt x="11179" y="9674"/>
                  <a:pt x="11162" y="9674"/>
                </a:cubicBezTo>
                <a:cubicBezTo>
                  <a:pt x="11300" y="9683"/>
                  <a:pt x="11482" y="9731"/>
                  <a:pt x="11311" y="9897"/>
                </a:cubicBezTo>
                <a:cubicBezTo>
                  <a:pt x="11208" y="9949"/>
                  <a:pt x="11171" y="9966"/>
                  <a:pt x="11088" y="9947"/>
                </a:cubicBezTo>
              </a:path>
              <a:path w="1167" h="1340">
                <a:moveTo>
                  <a:pt x="11435" y="9277"/>
                </a:moveTo>
                <a:cubicBezTo>
                  <a:pt x="11623" y="9534"/>
                  <a:pt x="11732" y="9844"/>
                  <a:pt x="11708" y="10170"/>
                </a:cubicBezTo>
                <a:cubicBezTo>
                  <a:pt x="11635" y="10437"/>
                  <a:pt x="11615" y="10523"/>
                  <a:pt x="11435" y="1061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340160" y="3544920"/>
            <a:ext cx="71640" cy="125280"/>
          </a:xfrm>
          <a:custGeom>
            <a:avLst/>
            <a:gdLst/>
            <a:ahLst/>
            <a:rect l="l" t="t" r="r" b="b"/>
            <a:pathLst>
              <a:path w="200" h="349">
                <a:moveTo>
                  <a:pt x="12080" y="9847"/>
                </a:moveTo>
                <a:cubicBezTo>
                  <a:pt x="12080" y="10013"/>
                  <a:pt x="12080" y="10079"/>
                  <a:pt x="12080" y="10195"/>
                </a:cubicBezTo>
              </a:path>
              <a:path w="200" h="349">
                <a:moveTo>
                  <a:pt x="12055" y="10096"/>
                </a:moveTo>
                <a:cubicBezTo>
                  <a:pt x="12121" y="10088"/>
                  <a:pt x="12188" y="10079"/>
                  <a:pt x="12254" y="1007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45000" y="3232080"/>
            <a:ext cx="947880" cy="546120"/>
          </a:xfrm>
          <a:custGeom>
            <a:avLst/>
            <a:gdLst/>
            <a:ahLst/>
            <a:rect l="l" t="t" r="r" b="b"/>
            <a:pathLst>
              <a:path w="2630" h="1514">
                <a:moveTo>
                  <a:pt x="12874" y="9500"/>
                </a:moveTo>
                <a:cubicBezTo>
                  <a:pt x="12769" y="9752"/>
                  <a:pt x="12501" y="10179"/>
                  <a:pt x="12650" y="10468"/>
                </a:cubicBezTo>
                <a:cubicBezTo>
                  <a:pt x="12683" y="10476"/>
                  <a:pt x="12717" y="10484"/>
                  <a:pt x="12750" y="10492"/>
                </a:cubicBezTo>
              </a:path>
              <a:path w="2630" h="1514">
                <a:moveTo>
                  <a:pt x="13072" y="9847"/>
                </a:moveTo>
                <a:cubicBezTo>
                  <a:pt x="13023" y="10003"/>
                  <a:pt x="13015" y="10029"/>
                  <a:pt x="12898" y="10145"/>
                </a:cubicBezTo>
                <a:cubicBezTo>
                  <a:pt x="13029" y="10130"/>
                  <a:pt x="13112" y="10143"/>
                  <a:pt x="13246" y="10170"/>
                </a:cubicBezTo>
              </a:path>
              <a:path w="2630" h="1514">
                <a:moveTo>
                  <a:pt x="13320" y="9723"/>
                </a:moveTo>
                <a:cubicBezTo>
                  <a:pt x="13279" y="9948"/>
                  <a:pt x="13245" y="10170"/>
                  <a:pt x="13196" y="10393"/>
                </a:cubicBezTo>
              </a:path>
              <a:path w="2630" h="1514">
                <a:moveTo>
                  <a:pt x="13568" y="9996"/>
                </a:moveTo>
                <a:cubicBezTo>
                  <a:pt x="13615" y="10158"/>
                  <a:pt x="13625" y="10206"/>
                  <a:pt x="13692" y="10294"/>
                </a:cubicBezTo>
              </a:path>
              <a:path w="2630" h="1514">
                <a:moveTo>
                  <a:pt x="13791" y="9947"/>
                </a:moveTo>
                <a:cubicBezTo>
                  <a:pt x="13604" y="10157"/>
                  <a:pt x="13548" y="10218"/>
                  <a:pt x="13444" y="10368"/>
                </a:cubicBezTo>
              </a:path>
              <a:path w="2630" h="1514">
                <a:moveTo>
                  <a:pt x="14139" y="10046"/>
                </a:moveTo>
                <a:cubicBezTo>
                  <a:pt x="14071" y="10247"/>
                  <a:pt x="14057" y="10301"/>
                  <a:pt x="13990" y="10418"/>
                </a:cubicBezTo>
              </a:path>
              <a:path w="2630" h="1514">
                <a:moveTo>
                  <a:pt x="14536" y="9922"/>
                </a:moveTo>
                <a:cubicBezTo>
                  <a:pt x="14407" y="10147"/>
                  <a:pt x="14350" y="10195"/>
                  <a:pt x="14362" y="10443"/>
                </a:cubicBezTo>
                <a:cubicBezTo>
                  <a:pt x="14539" y="10426"/>
                  <a:pt x="14849" y="10279"/>
                  <a:pt x="14660" y="10021"/>
                </a:cubicBezTo>
                <a:cubicBezTo>
                  <a:pt x="14610" y="9988"/>
                  <a:pt x="14561" y="9955"/>
                  <a:pt x="14511" y="9922"/>
                </a:cubicBezTo>
              </a:path>
              <a:path w="2630" h="1514">
                <a:moveTo>
                  <a:pt x="14684" y="9376"/>
                </a:moveTo>
                <a:cubicBezTo>
                  <a:pt x="14789" y="9385"/>
                  <a:pt x="14971" y="9555"/>
                  <a:pt x="14833" y="9699"/>
                </a:cubicBezTo>
                <a:cubicBezTo>
                  <a:pt x="14735" y="9802"/>
                  <a:pt x="14668" y="9679"/>
                  <a:pt x="14635" y="9624"/>
                </a:cubicBezTo>
                <a:cubicBezTo>
                  <a:pt x="14742" y="9638"/>
                  <a:pt x="14825" y="9660"/>
                  <a:pt x="14932" y="9674"/>
                </a:cubicBezTo>
              </a:path>
              <a:path w="2630" h="1514">
                <a:moveTo>
                  <a:pt x="14932" y="8979"/>
                </a:moveTo>
                <a:cubicBezTo>
                  <a:pt x="15210" y="9240"/>
                  <a:pt x="15294" y="9603"/>
                  <a:pt x="15230" y="9996"/>
                </a:cubicBezTo>
                <a:cubicBezTo>
                  <a:pt x="15197" y="10095"/>
                  <a:pt x="15164" y="10195"/>
                  <a:pt x="15131" y="1029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626080" y="3537000"/>
            <a:ext cx="98280" cy="142920"/>
          </a:xfrm>
          <a:custGeom>
            <a:avLst/>
            <a:gdLst/>
            <a:ahLst/>
            <a:rect l="l" t="t" r="r" b="b"/>
            <a:pathLst>
              <a:path w="274" h="398">
                <a:moveTo>
                  <a:pt x="15652" y="9823"/>
                </a:moveTo>
                <a:cubicBezTo>
                  <a:pt x="15668" y="9961"/>
                  <a:pt x="15652" y="10080"/>
                  <a:pt x="15627" y="10220"/>
                </a:cubicBezTo>
              </a:path>
              <a:path w="274" h="398">
                <a:moveTo>
                  <a:pt x="15677" y="10021"/>
                </a:moveTo>
                <a:cubicBezTo>
                  <a:pt x="15751" y="10013"/>
                  <a:pt x="15826" y="10004"/>
                  <a:pt x="15900" y="999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875200" y="3259080"/>
            <a:ext cx="1071720" cy="492120"/>
          </a:xfrm>
          <a:custGeom>
            <a:avLst/>
            <a:gdLst/>
            <a:ahLst/>
            <a:rect l="l" t="t" r="r" b="b"/>
            <a:pathLst>
              <a:path w="2978" h="1365">
                <a:moveTo>
                  <a:pt x="16421" y="9723"/>
                </a:moveTo>
                <a:cubicBezTo>
                  <a:pt x="16364" y="9977"/>
                  <a:pt x="16189" y="10349"/>
                  <a:pt x="16520" y="10393"/>
                </a:cubicBezTo>
              </a:path>
              <a:path w="2978" h="1365">
                <a:moveTo>
                  <a:pt x="16768" y="9674"/>
                </a:moveTo>
                <a:cubicBezTo>
                  <a:pt x="16830" y="9657"/>
                  <a:pt x="17216" y="9590"/>
                  <a:pt x="17066" y="9773"/>
                </a:cubicBezTo>
                <a:cubicBezTo>
                  <a:pt x="16930" y="9864"/>
                  <a:pt x="16894" y="9891"/>
                  <a:pt x="16793" y="9922"/>
                </a:cubicBezTo>
                <a:cubicBezTo>
                  <a:pt x="16938" y="9932"/>
                  <a:pt x="17240" y="10037"/>
                  <a:pt x="16991" y="10220"/>
                </a:cubicBezTo>
                <a:cubicBezTo>
                  <a:pt x="16827" y="10266"/>
                  <a:pt x="16779" y="10284"/>
                  <a:pt x="16669" y="10244"/>
                </a:cubicBezTo>
              </a:path>
              <a:path w="2978" h="1365">
                <a:moveTo>
                  <a:pt x="17388" y="9847"/>
                </a:moveTo>
                <a:cubicBezTo>
                  <a:pt x="17441" y="9963"/>
                  <a:pt x="17488" y="10078"/>
                  <a:pt x="17537" y="10195"/>
                </a:cubicBezTo>
              </a:path>
              <a:path w="2978" h="1365">
                <a:moveTo>
                  <a:pt x="17661" y="9773"/>
                </a:moveTo>
                <a:cubicBezTo>
                  <a:pt x="17518" y="9921"/>
                  <a:pt x="17397" y="10048"/>
                  <a:pt x="17289" y="10220"/>
                </a:cubicBezTo>
              </a:path>
              <a:path w="2978" h="1365">
                <a:moveTo>
                  <a:pt x="18058" y="9798"/>
                </a:moveTo>
                <a:cubicBezTo>
                  <a:pt x="17970" y="10019"/>
                  <a:pt x="17945" y="10074"/>
                  <a:pt x="17909" y="10220"/>
                </a:cubicBezTo>
              </a:path>
              <a:path w="2978" h="1365">
                <a:moveTo>
                  <a:pt x="18504" y="9748"/>
                </a:moveTo>
                <a:cubicBezTo>
                  <a:pt x="18393" y="9963"/>
                  <a:pt x="18258" y="10121"/>
                  <a:pt x="18405" y="10319"/>
                </a:cubicBezTo>
                <a:cubicBezTo>
                  <a:pt x="18564" y="10209"/>
                  <a:pt x="18869" y="9999"/>
                  <a:pt x="18604" y="9798"/>
                </a:cubicBezTo>
                <a:cubicBezTo>
                  <a:pt x="18554" y="9781"/>
                  <a:pt x="18505" y="9765"/>
                  <a:pt x="18455" y="9748"/>
                </a:cubicBezTo>
              </a:path>
              <a:path w="2978" h="1365">
                <a:moveTo>
                  <a:pt x="18901" y="9227"/>
                </a:moveTo>
                <a:cubicBezTo>
                  <a:pt x="18823" y="9327"/>
                  <a:pt x="18795" y="9374"/>
                  <a:pt x="18777" y="9500"/>
                </a:cubicBezTo>
                <a:cubicBezTo>
                  <a:pt x="18918" y="9531"/>
                  <a:pt x="18923" y="9480"/>
                  <a:pt x="18901" y="9351"/>
                </a:cubicBezTo>
              </a:path>
              <a:path w="2978" h="1365">
                <a:moveTo>
                  <a:pt x="19199" y="9054"/>
                </a:moveTo>
                <a:cubicBezTo>
                  <a:pt x="19332" y="9655"/>
                  <a:pt x="19315" y="9871"/>
                  <a:pt x="18926" y="1034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93960" y="4867200"/>
            <a:ext cx="258840" cy="285840"/>
          </a:xfrm>
          <a:custGeom>
            <a:avLst/>
            <a:gdLst/>
            <a:ahLst/>
            <a:rect l="l" t="t" r="r" b="b"/>
            <a:pathLst>
              <a:path w="720" h="794">
                <a:moveTo>
                  <a:pt x="5482" y="13519"/>
                </a:moveTo>
                <a:cubicBezTo>
                  <a:pt x="5369" y="13764"/>
                  <a:pt x="5309" y="14002"/>
                  <a:pt x="5259" y="14263"/>
                </a:cubicBezTo>
              </a:path>
              <a:path w="720" h="794">
                <a:moveTo>
                  <a:pt x="5928" y="13618"/>
                </a:moveTo>
                <a:cubicBezTo>
                  <a:pt x="5858" y="13651"/>
                  <a:pt x="5677" y="13699"/>
                  <a:pt x="5655" y="13742"/>
                </a:cubicBezTo>
                <a:cubicBezTo>
                  <a:pt x="5611" y="13830"/>
                  <a:pt x="5595" y="13851"/>
                  <a:pt x="5606" y="13915"/>
                </a:cubicBezTo>
                <a:cubicBezTo>
                  <a:pt x="5775" y="13923"/>
                  <a:pt x="6074" y="13919"/>
                  <a:pt x="5953" y="14188"/>
                </a:cubicBezTo>
                <a:cubicBezTo>
                  <a:pt x="5849" y="14420"/>
                  <a:pt x="5627" y="14281"/>
                  <a:pt x="5507" y="141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95360" y="4732200"/>
            <a:ext cx="884520" cy="474840"/>
          </a:xfrm>
          <a:custGeom>
            <a:avLst/>
            <a:gdLst/>
            <a:ahLst/>
            <a:rect l="l" t="t" r="r" b="b"/>
            <a:pathLst>
              <a:path w="2456" h="1316">
                <a:moveTo>
                  <a:pt x="6375" y="13841"/>
                </a:moveTo>
                <a:cubicBezTo>
                  <a:pt x="6438" y="13978"/>
                  <a:pt x="6502" y="14106"/>
                  <a:pt x="6573" y="14238"/>
                </a:cubicBezTo>
              </a:path>
              <a:path w="2456" h="1316">
                <a:moveTo>
                  <a:pt x="6722" y="13618"/>
                </a:moveTo>
                <a:cubicBezTo>
                  <a:pt x="6608" y="13818"/>
                  <a:pt x="6493" y="14016"/>
                  <a:pt x="6375" y="14213"/>
                </a:cubicBezTo>
              </a:path>
              <a:path w="2456" h="1316">
                <a:moveTo>
                  <a:pt x="7119" y="13791"/>
                </a:moveTo>
                <a:cubicBezTo>
                  <a:pt x="7055" y="13984"/>
                  <a:pt x="6984" y="14171"/>
                  <a:pt x="6921" y="14362"/>
                </a:cubicBezTo>
              </a:path>
              <a:path w="2456" h="1316">
                <a:moveTo>
                  <a:pt x="7367" y="13915"/>
                </a:moveTo>
                <a:cubicBezTo>
                  <a:pt x="7289" y="14118"/>
                  <a:pt x="7222" y="14180"/>
                  <a:pt x="7293" y="14362"/>
                </a:cubicBezTo>
                <a:cubicBezTo>
                  <a:pt x="7553" y="14237"/>
                  <a:pt x="7618" y="14186"/>
                  <a:pt x="7491" y="13915"/>
                </a:cubicBezTo>
              </a:path>
              <a:path w="2456" h="1316">
                <a:moveTo>
                  <a:pt x="7789" y="13196"/>
                </a:moveTo>
                <a:cubicBezTo>
                  <a:pt x="7922" y="13196"/>
                  <a:pt x="8031" y="13207"/>
                  <a:pt x="7888" y="13345"/>
                </a:cubicBezTo>
                <a:cubicBezTo>
                  <a:pt x="7855" y="13370"/>
                  <a:pt x="7822" y="13394"/>
                  <a:pt x="7789" y="13419"/>
                </a:cubicBezTo>
                <a:cubicBezTo>
                  <a:pt x="7789" y="13451"/>
                  <a:pt x="8009" y="13490"/>
                  <a:pt x="7888" y="13643"/>
                </a:cubicBezTo>
                <a:cubicBezTo>
                  <a:pt x="7754" y="13732"/>
                  <a:pt x="7723" y="13765"/>
                  <a:pt x="7615" y="13742"/>
                </a:cubicBezTo>
              </a:path>
              <a:path w="2456" h="1316">
                <a:moveTo>
                  <a:pt x="8186" y="13146"/>
                </a:moveTo>
                <a:cubicBezTo>
                  <a:pt x="8287" y="13764"/>
                  <a:pt x="8329" y="14008"/>
                  <a:pt x="7888" y="14461"/>
                </a:cubicBezTo>
              </a:path>
              <a:path w="2456" h="1316">
                <a:moveTo>
                  <a:pt x="8781" y="13667"/>
                </a:moveTo>
                <a:cubicBezTo>
                  <a:pt x="8726" y="13858"/>
                  <a:pt x="8704" y="13933"/>
                  <a:pt x="8657" y="14064"/>
                </a:cubicBezTo>
              </a:path>
              <a:path w="2456" h="1316">
                <a:moveTo>
                  <a:pt x="8582" y="13940"/>
                </a:moveTo>
                <a:cubicBezTo>
                  <a:pt x="8699" y="13940"/>
                  <a:pt x="8748" y="13937"/>
                  <a:pt x="8830" y="1391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21000" y="4670280"/>
            <a:ext cx="957240" cy="608040"/>
          </a:xfrm>
          <a:custGeom>
            <a:avLst/>
            <a:gdLst/>
            <a:ahLst/>
            <a:rect l="l" t="t" r="r" b="b"/>
            <a:pathLst>
              <a:path w="2655" h="1688">
                <a:moveTo>
                  <a:pt x="9550" y="13246"/>
                </a:moveTo>
                <a:cubicBezTo>
                  <a:pt x="9434" y="13504"/>
                  <a:pt x="8988" y="14140"/>
                  <a:pt x="9302" y="14412"/>
                </a:cubicBezTo>
                <a:cubicBezTo>
                  <a:pt x="9419" y="14431"/>
                  <a:pt x="9441" y="14424"/>
                  <a:pt x="9500" y="14461"/>
                </a:cubicBezTo>
              </a:path>
              <a:path w="2655" h="1688">
                <a:moveTo>
                  <a:pt x="9773" y="13816"/>
                </a:moveTo>
                <a:cubicBezTo>
                  <a:pt x="9744" y="13715"/>
                  <a:pt x="9696" y="13562"/>
                  <a:pt x="9575" y="13667"/>
                </a:cubicBezTo>
                <a:cubicBezTo>
                  <a:pt x="9482" y="13782"/>
                  <a:pt x="9449" y="13811"/>
                  <a:pt x="9475" y="13915"/>
                </a:cubicBezTo>
                <a:cubicBezTo>
                  <a:pt x="9633" y="13915"/>
                  <a:pt x="9679" y="13901"/>
                  <a:pt x="9798" y="13791"/>
                </a:cubicBezTo>
                <a:cubicBezTo>
                  <a:pt x="9754" y="13976"/>
                  <a:pt x="9734" y="14142"/>
                  <a:pt x="9649" y="14312"/>
                </a:cubicBezTo>
              </a:path>
              <a:path w="2655" h="1688">
                <a:moveTo>
                  <a:pt x="9996" y="13816"/>
                </a:moveTo>
                <a:cubicBezTo>
                  <a:pt x="10030" y="13983"/>
                  <a:pt x="10061" y="14093"/>
                  <a:pt x="10145" y="14238"/>
                </a:cubicBezTo>
              </a:path>
              <a:path w="2655" h="1688">
                <a:moveTo>
                  <a:pt x="10294" y="13742"/>
                </a:moveTo>
                <a:cubicBezTo>
                  <a:pt x="10133" y="13903"/>
                  <a:pt x="9998" y="14066"/>
                  <a:pt x="9847" y="14238"/>
                </a:cubicBezTo>
              </a:path>
              <a:path w="2655" h="1688">
                <a:moveTo>
                  <a:pt x="10716" y="13717"/>
                </a:moveTo>
                <a:cubicBezTo>
                  <a:pt x="10677" y="13928"/>
                  <a:pt x="10629" y="14092"/>
                  <a:pt x="10542" y="14288"/>
                </a:cubicBezTo>
              </a:path>
              <a:path w="2655" h="1688">
                <a:moveTo>
                  <a:pt x="11063" y="13692"/>
                </a:moveTo>
                <a:cubicBezTo>
                  <a:pt x="10932" y="13878"/>
                  <a:pt x="10769" y="14064"/>
                  <a:pt x="10815" y="14263"/>
                </a:cubicBezTo>
                <a:cubicBezTo>
                  <a:pt x="10975" y="14202"/>
                  <a:pt x="11283" y="14074"/>
                  <a:pt x="11088" y="13866"/>
                </a:cubicBezTo>
                <a:cubicBezTo>
                  <a:pt x="11047" y="13841"/>
                  <a:pt x="11005" y="13816"/>
                  <a:pt x="10964" y="13791"/>
                </a:cubicBezTo>
              </a:path>
              <a:path w="2655" h="1688">
                <a:moveTo>
                  <a:pt x="11460" y="13271"/>
                </a:moveTo>
                <a:cubicBezTo>
                  <a:pt x="11518" y="13271"/>
                  <a:pt x="11543" y="13271"/>
                  <a:pt x="11584" y="13271"/>
                </a:cubicBezTo>
                <a:cubicBezTo>
                  <a:pt x="11626" y="13486"/>
                  <a:pt x="11501" y="13566"/>
                  <a:pt x="11311" y="13692"/>
                </a:cubicBezTo>
                <a:cubicBezTo>
                  <a:pt x="11364" y="13520"/>
                  <a:pt x="11379" y="13574"/>
                  <a:pt x="11509" y="13667"/>
                </a:cubicBezTo>
                <a:cubicBezTo>
                  <a:pt x="11534" y="13684"/>
                  <a:pt x="11559" y="13700"/>
                  <a:pt x="11584" y="13717"/>
                </a:cubicBezTo>
              </a:path>
              <a:path w="2655" h="1688">
                <a:moveTo>
                  <a:pt x="11708" y="12973"/>
                </a:moveTo>
                <a:cubicBezTo>
                  <a:pt x="11911" y="13380"/>
                  <a:pt x="11925" y="13833"/>
                  <a:pt x="11757" y="14288"/>
                </a:cubicBezTo>
                <a:cubicBezTo>
                  <a:pt x="11628" y="14504"/>
                  <a:pt x="11606" y="14559"/>
                  <a:pt x="11485" y="1466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411800" y="4991040"/>
            <a:ext cx="142560" cy="125640"/>
          </a:xfrm>
          <a:custGeom>
            <a:avLst/>
            <a:gdLst/>
            <a:ahLst/>
            <a:rect l="l" t="t" r="r" b="b"/>
            <a:pathLst>
              <a:path w="397" h="348">
                <a:moveTo>
                  <a:pt x="12402" y="13866"/>
                </a:moveTo>
                <a:cubicBezTo>
                  <a:pt x="12375" y="13986"/>
                  <a:pt x="12347" y="14098"/>
                  <a:pt x="12303" y="14213"/>
                </a:cubicBezTo>
              </a:path>
              <a:path w="397" h="348">
                <a:moveTo>
                  <a:pt x="12254" y="14064"/>
                </a:moveTo>
                <a:cubicBezTo>
                  <a:pt x="12390" y="14030"/>
                  <a:pt x="12510" y="14020"/>
                  <a:pt x="12650" y="1401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687920" y="4687920"/>
            <a:ext cx="973080" cy="509400"/>
          </a:xfrm>
          <a:custGeom>
            <a:avLst/>
            <a:gdLst/>
            <a:ahLst/>
            <a:rect l="l" t="t" r="r" b="b"/>
            <a:pathLst>
              <a:path w="2705" h="1415">
                <a:moveTo>
                  <a:pt x="13345" y="13295"/>
                </a:moveTo>
                <a:cubicBezTo>
                  <a:pt x="13180" y="13577"/>
                  <a:pt x="12881" y="13932"/>
                  <a:pt x="13097" y="14263"/>
                </a:cubicBezTo>
                <a:cubicBezTo>
                  <a:pt x="13130" y="14288"/>
                  <a:pt x="13163" y="14312"/>
                  <a:pt x="13196" y="14337"/>
                </a:cubicBezTo>
              </a:path>
              <a:path w="2705" h="1415">
                <a:moveTo>
                  <a:pt x="13519" y="13618"/>
                </a:moveTo>
                <a:cubicBezTo>
                  <a:pt x="13692" y="13618"/>
                  <a:pt x="13775" y="13729"/>
                  <a:pt x="13692" y="13915"/>
                </a:cubicBezTo>
                <a:cubicBezTo>
                  <a:pt x="13605" y="14109"/>
                  <a:pt x="13485" y="14098"/>
                  <a:pt x="13320" y="14089"/>
                </a:cubicBezTo>
                <a:cubicBezTo>
                  <a:pt x="13424" y="13973"/>
                  <a:pt x="13487" y="14018"/>
                  <a:pt x="13643" y="14089"/>
                </a:cubicBezTo>
              </a:path>
              <a:path w="2705" h="1415">
                <a:moveTo>
                  <a:pt x="14064" y="13742"/>
                </a:moveTo>
                <a:cubicBezTo>
                  <a:pt x="14111" y="13868"/>
                  <a:pt x="14163" y="13989"/>
                  <a:pt x="14213" y="14114"/>
                </a:cubicBezTo>
              </a:path>
              <a:path w="2705" h="1415">
                <a:moveTo>
                  <a:pt x="14312" y="13742"/>
                </a:moveTo>
                <a:cubicBezTo>
                  <a:pt x="14150" y="13927"/>
                  <a:pt x="14105" y="13981"/>
                  <a:pt x="13990" y="14089"/>
                </a:cubicBezTo>
              </a:path>
              <a:path w="2705" h="1415">
                <a:moveTo>
                  <a:pt x="14635" y="13767"/>
                </a:moveTo>
                <a:cubicBezTo>
                  <a:pt x="14565" y="13951"/>
                  <a:pt x="14547" y="14003"/>
                  <a:pt x="14486" y="14114"/>
                </a:cubicBezTo>
              </a:path>
              <a:path w="2705" h="1415">
                <a:moveTo>
                  <a:pt x="15056" y="13692"/>
                </a:moveTo>
                <a:cubicBezTo>
                  <a:pt x="14921" y="13883"/>
                  <a:pt x="14767" y="14051"/>
                  <a:pt x="14808" y="14263"/>
                </a:cubicBezTo>
                <a:cubicBezTo>
                  <a:pt x="14982" y="14192"/>
                  <a:pt x="15193" y="14073"/>
                  <a:pt x="15106" y="13841"/>
                </a:cubicBezTo>
                <a:cubicBezTo>
                  <a:pt x="15081" y="13816"/>
                  <a:pt x="15057" y="13792"/>
                  <a:pt x="15032" y="13767"/>
                </a:cubicBezTo>
              </a:path>
              <a:path w="2705" h="1415">
                <a:moveTo>
                  <a:pt x="15528" y="13246"/>
                </a:moveTo>
                <a:cubicBezTo>
                  <a:pt x="15475" y="13377"/>
                  <a:pt x="15456" y="13426"/>
                  <a:pt x="15429" y="13519"/>
                </a:cubicBezTo>
              </a:path>
              <a:path w="2705" h="1415">
                <a:moveTo>
                  <a:pt x="15627" y="13022"/>
                </a:moveTo>
                <a:cubicBezTo>
                  <a:pt x="15713" y="13471"/>
                  <a:pt x="15817" y="13914"/>
                  <a:pt x="15503" y="14312"/>
                </a:cubicBezTo>
                <a:cubicBezTo>
                  <a:pt x="15445" y="14353"/>
                  <a:pt x="15387" y="14395"/>
                  <a:pt x="15329" y="1443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848200" y="4919760"/>
            <a:ext cx="73080" cy="135000"/>
          </a:xfrm>
          <a:custGeom>
            <a:avLst/>
            <a:gdLst/>
            <a:ahLst/>
            <a:rect l="l" t="t" r="r" b="b"/>
            <a:pathLst>
              <a:path w="200" h="373">
                <a:moveTo>
                  <a:pt x="16297" y="13667"/>
                </a:moveTo>
                <a:cubicBezTo>
                  <a:pt x="16314" y="13812"/>
                  <a:pt x="16292" y="13899"/>
                  <a:pt x="16247" y="14039"/>
                </a:cubicBezTo>
              </a:path>
              <a:path w="200" h="373">
                <a:moveTo>
                  <a:pt x="16247" y="13891"/>
                </a:moveTo>
                <a:cubicBezTo>
                  <a:pt x="16313" y="13883"/>
                  <a:pt x="16380" y="13874"/>
                  <a:pt x="16446" y="1386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54840" y="4759200"/>
            <a:ext cx="196560" cy="376200"/>
          </a:xfrm>
          <a:custGeom>
            <a:avLst/>
            <a:gdLst/>
            <a:ahLst/>
            <a:rect l="l" t="t" r="r" b="b"/>
            <a:pathLst>
              <a:path w="546" h="1043">
                <a:moveTo>
                  <a:pt x="17140" y="13221"/>
                </a:moveTo>
                <a:cubicBezTo>
                  <a:pt x="16942" y="13610"/>
                  <a:pt x="16725" y="13861"/>
                  <a:pt x="16917" y="14263"/>
                </a:cubicBezTo>
              </a:path>
              <a:path w="546" h="1043">
                <a:moveTo>
                  <a:pt x="17363" y="13543"/>
                </a:moveTo>
                <a:cubicBezTo>
                  <a:pt x="17327" y="13709"/>
                  <a:pt x="17298" y="13873"/>
                  <a:pt x="17264" y="1403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29240" y="4589640"/>
            <a:ext cx="679680" cy="465120"/>
          </a:xfrm>
          <a:custGeom>
            <a:avLst/>
            <a:gdLst/>
            <a:ahLst/>
            <a:rect l="l" t="t" r="r" b="b"/>
            <a:pathLst>
              <a:path w="1887" h="1290">
                <a:moveTo>
                  <a:pt x="17934" y="13667"/>
                </a:moveTo>
                <a:cubicBezTo>
                  <a:pt x="17983" y="13795"/>
                  <a:pt x="18020" y="13909"/>
                  <a:pt x="18058" y="14039"/>
                </a:cubicBezTo>
              </a:path>
              <a:path w="1887" h="1290">
                <a:moveTo>
                  <a:pt x="18132" y="13667"/>
                </a:moveTo>
                <a:cubicBezTo>
                  <a:pt x="17998" y="13846"/>
                  <a:pt x="17965" y="13896"/>
                  <a:pt x="17859" y="13990"/>
                </a:cubicBezTo>
              </a:path>
              <a:path w="1887" h="1290">
                <a:moveTo>
                  <a:pt x="18554" y="13618"/>
                </a:moveTo>
                <a:cubicBezTo>
                  <a:pt x="18446" y="13833"/>
                  <a:pt x="18422" y="13883"/>
                  <a:pt x="18355" y="14015"/>
                </a:cubicBezTo>
              </a:path>
              <a:path w="1887" h="1290">
                <a:moveTo>
                  <a:pt x="19000" y="13543"/>
                </a:moveTo>
                <a:cubicBezTo>
                  <a:pt x="18908" y="13706"/>
                  <a:pt x="18809" y="13797"/>
                  <a:pt x="18777" y="13990"/>
                </a:cubicBezTo>
                <a:cubicBezTo>
                  <a:pt x="18966" y="13963"/>
                  <a:pt x="19211" y="13898"/>
                  <a:pt x="19050" y="13643"/>
                </a:cubicBezTo>
                <a:cubicBezTo>
                  <a:pt x="19017" y="13618"/>
                  <a:pt x="18984" y="13593"/>
                  <a:pt x="18951" y="13568"/>
                </a:cubicBezTo>
              </a:path>
              <a:path w="1887" h="1290">
                <a:moveTo>
                  <a:pt x="19323" y="13097"/>
                </a:moveTo>
                <a:cubicBezTo>
                  <a:pt x="19280" y="13204"/>
                  <a:pt x="19257" y="13228"/>
                  <a:pt x="19298" y="13295"/>
                </a:cubicBezTo>
                <a:cubicBezTo>
                  <a:pt x="19484" y="13308"/>
                  <a:pt x="19501" y="13266"/>
                  <a:pt x="19422" y="13097"/>
                </a:cubicBezTo>
              </a:path>
              <a:path w="1887" h="1290">
                <a:moveTo>
                  <a:pt x="19645" y="12750"/>
                </a:moveTo>
                <a:cubicBezTo>
                  <a:pt x="19803" y="13350"/>
                  <a:pt x="19735" y="13572"/>
                  <a:pt x="19348" y="1403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9246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 as a fraction or mixed number in simplest form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.08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62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)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.58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 the equivalent decimal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)      8 1/4                 16)     5/6                     17)     2 4/9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der the numbers from least to greatest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)    3/4,  0.77,  4/5,  0.07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)  4.06,  20/5,  4 33/50,  4.6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)  7/3,  0.733,  17/10,  0.0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21)  3.25,  3.205,  3.025,  .3025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08080" y="1652760"/>
            <a:ext cx="384120" cy="517320"/>
          </a:xfrm>
          <a:custGeom>
            <a:avLst/>
            <a:gdLst/>
            <a:ahLst/>
            <a:rect l="l" t="t" r="r" b="b"/>
            <a:pathLst>
              <a:path w="1067" h="1440">
                <a:moveTo>
                  <a:pt x="3522" y="4589"/>
                </a:moveTo>
                <a:cubicBezTo>
                  <a:pt x="3435" y="4753"/>
                  <a:pt x="3348" y="4915"/>
                  <a:pt x="3274" y="5085"/>
                </a:cubicBezTo>
                <a:cubicBezTo>
                  <a:pt x="3208" y="5236"/>
                  <a:pt x="3141" y="5346"/>
                  <a:pt x="3101" y="5507"/>
                </a:cubicBezTo>
                <a:cubicBezTo>
                  <a:pt x="3077" y="5605"/>
                  <a:pt x="3035" y="5787"/>
                  <a:pt x="3101" y="5879"/>
                </a:cubicBezTo>
                <a:cubicBezTo>
                  <a:pt x="3180" y="5990"/>
                  <a:pt x="3343" y="6036"/>
                  <a:pt x="3473" y="6028"/>
                </a:cubicBezTo>
                <a:cubicBezTo>
                  <a:pt x="3659" y="6017"/>
                  <a:pt x="3782" y="5937"/>
                  <a:pt x="3919" y="5829"/>
                </a:cubicBezTo>
                <a:cubicBezTo>
                  <a:pt x="3968" y="5790"/>
                  <a:pt x="4200" y="5592"/>
                  <a:pt x="4142" y="5507"/>
                </a:cubicBezTo>
                <a:cubicBezTo>
                  <a:pt x="4096" y="5439"/>
                  <a:pt x="3969" y="5395"/>
                  <a:pt x="3894" y="5383"/>
                </a:cubicBezTo>
                <a:cubicBezTo>
                  <a:pt x="3760" y="5361"/>
                  <a:pt x="3731" y="5502"/>
                  <a:pt x="3721" y="5606"/>
                </a:cubicBezTo>
                <a:cubicBezTo>
                  <a:pt x="3710" y="5725"/>
                  <a:pt x="3758" y="5815"/>
                  <a:pt x="3770" y="592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704960" y="1509840"/>
            <a:ext cx="1509840" cy="534960"/>
          </a:xfrm>
          <a:custGeom>
            <a:avLst/>
            <a:gdLst/>
            <a:ahLst/>
            <a:rect l="l" t="t" r="r" b="b"/>
            <a:pathLst>
              <a:path w="4193" h="1489">
                <a:moveTo>
                  <a:pt x="5482" y="4366"/>
                </a:moveTo>
                <a:cubicBezTo>
                  <a:pt x="5374" y="4393"/>
                  <a:pt x="5285" y="4419"/>
                  <a:pt x="5184" y="4465"/>
                </a:cubicBezTo>
                <a:cubicBezTo>
                  <a:pt x="5235" y="4539"/>
                  <a:pt x="5489" y="4721"/>
                  <a:pt x="5407" y="4812"/>
                </a:cubicBezTo>
                <a:cubicBezTo>
                  <a:pt x="5374" y="4829"/>
                  <a:pt x="5341" y="4845"/>
                  <a:pt x="5308" y="4862"/>
                </a:cubicBezTo>
                <a:cubicBezTo>
                  <a:pt x="5181" y="4733"/>
                  <a:pt x="5365" y="4628"/>
                  <a:pt x="5457" y="4514"/>
                </a:cubicBezTo>
                <a:cubicBezTo>
                  <a:pt x="5474" y="4489"/>
                  <a:pt x="5490" y="4465"/>
                  <a:pt x="5507" y="4440"/>
                </a:cubicBezTo>
              </a:path>
              <a:path w="4193" h="1489">
                <a:moveTo>
                  <a:pt x="5730" y="4390"/>
                </a:moveTo>
                <a:cubicBezTo>
                  <a:pt x="5720" y="4404"/>
                  <a:pt x="5549" y="4620"/>
                  <a:pt x="5730" y="4589"/>
                </a:cubicBezTo>
                <a:cubicBezTo>
                  <a:pt x="5763" y="4572"/>
                  <a:pt x="5796" y="4556"/>
                  <a:pt x="5829" y="4539"/>
                </a:cubicBezTo>
              </a:path>
              <a:path w="4193" h="1489">
                <a:moveTo>
                  <a:pt x="5928" y="4266"/>
                </a:moveTo>
                <a:cubicBezTo>
                  <a:pt x="5883" y="4448"/>
                  <a:pt x="5850" y="4632"/>
                  <a:pt x="5804" y="4812"/>
                </a:cubicBezTo>
              </a:path>
              <a:path w="4193" h="1489">
                <a:moveTo>
                  <a:pt x="4961" y="4738"/>
                </a:moveTo>
                <a:cubicBezTo>
                  <a:pt x="5252" y="4851"/>
                  <a:pt x="5542" y="4907"/>
                  <a:pt x="5854" y="4936"/>
                </a:cubicBezTo>
                <a:cubicBezTo>
                  <a:pt x="5920" y="4936"/>
                  <a:pt x="5937" y="4936"/>
                  <a:pt x="5978" y="4936"/>
                </a:cubicBezTo>
              </a:path>
              <a:path w="4193" h="1489">
                <a:moveTo>
                  <a:pt x="4911" y="5135"/>
                </a:moveTo>
                <a:cubicBezTo>
                  <a:pt x="4845" y="5317"/>
                  <a:pt x="4812" y="5509"/>
                  <a:pt x="4738" y="5680"/>
                </a:cubicBezTo>
              </a:path>
              <a:path w="4193" h="1489">
                <a:moveTo>
                  <a:pt x="5184" y="5184"/>
                </a:moveTo>
                <a:cubicBezTo>
                  <a:pt x="5141" y="5280"/>
                  <a:pt x="4988" y="5534"/>
                  <a:pt x="5085" y="5631"/>
                </a:cubicBezTo>
                <a:cubicBezTo>
                  <a:pt x="5102" y="5631"/>
                  <a:pt x="5118" y="5631"/>
                  <a:pt x="5135" y="5631"/>
                </a:cubicBezTo>
                <a:cubicBezTo>
                  <a:pt x="5194" y="5541"/>
                  <a:pt x="5387" y="5323"/>
                  <a:pt x="5259" y="5209"/>
                </a:cubicBezTo>
                <a:cubicBezTo>
                  <a:pt x="5234" y="5201"/>
                  <a:pt x="5209" y="5192"/>
                  <a:pt x="5184" y="5184"/>
                </a:cubicBezTo>
              </a:path>
              <a:path w="4193" h="1489">
                <a:moveTo>
                  <a:pt x="5556" y="5234"/>
                </a:moveTo>
                <a:cubicBezTo>
                  <a:pt x="5502" y="5373"/>
                  <a:pt x="5449" y="5484"/>
                  <a:pt x="5432" y="5631"/>
                </a:cubicBezTo>
                <a:cubicBezTo>
                  <a:pt x="5562" y="5561"/>
                  <a:pt x="5670" y="5465"/>
                  <a:pt x="5631" y="5283"/>
                </a:cubicBezTo>
                <a:cubicBezTo>
                  <a:pt x="5623" y="5275"/>
                  <a:pt x="5614" y="5267"/>
                  <a:pt x="5606" y="5259"/>
                </a:cubicBezTo>
              </a:path>
              <a:path w="4193" h="1489">
                <a:moveTo>
                  <a:pt x="5904" y="5234"/>
                </a:moveTo>
                <a:cubicBezTo>
                  <a:pt x="5841" y="5382"/>
                  <a:pt x="5804" y="5471"/>
                  <a:pt x="5804" y="5631"/>
                </a:cubicBezTo>
                <a:cubicBezTo>
                  <a:pt x="5958" y="5597"/>
                  <a:pt x="6039" y="5563"/>
                  <a:pt x="6052" y="5383"/>
                </a:cubicBezTo>
                <a:cubicBezTo>
                  <a:pt x="6058" y="5304"/>
                  <a:pt x="6039" y="5297"/>
                  <a:pt x="6003" y="5234"/>
                </a:cubicBezTo>
              </a:path>
              <a:path w="4193" h="1489">
                <a:moveTo>
                  <a:pt x="6524" y="4911"/>
                </a:moveTo>
                <a:cubicBezTo>
                  <a:pt x="6600" y="4896"/>
                  <a:pt x="6647" y="4887"/>
                  <a:pt x="6722" y="4887"/>
                </a:cubicBezTo>
              </a:path>
              <a:path w="4193" h="1489">
                <a:moveTo>
                  <a:pt x="6474" y="5110"/>
                </a:moveTo>
                <a:cubicBezTo>
                  <a:pt x="6541" y="5103"/>
                  <a:pt x="6605" y="5092"/>
                  <a:pt x="6672" y="5085"/>
                </a:cubicBezTo>
              </a:path>
              <a:path w="4193" h="1489">
                <a:moveTo>
                  <a:pt x="7169" y="4514"/>
                </a:moveTo>
                <a:cubicBezTo>
                  <a:pt x="7167" y="4513"/>
                  <a:pt x="7036" y="4746"/>
                  <a:pt x="6970" y="4936"/>
                </a:cubicBezTo>
                <a:cubicBezTo>
                  <a:pt x="6924" y="5067"/>
                  <a:pt x="6879" y="5182"/>
                  <a:pt x="6821" y="5308"/>
                </a:cubicBezTo>
                <a:cubicBezTo>
                  <a:pt x="6808" y="5336"/>
                  <a:pt x="6728" y="5476"/>
                  <a:pt x="6772" y="5507"/>
                </a:cubicBezTo>
                <a:cubicBezTo>
                  <a:pt x="6863" y="5572"/>
                  <a:pt x="6986" y="5556"/>
                  <a:pt x="7094" y="5556"/>
                </a:cubicBezTo>
                <a:cubicBezTo>
                  <a:pt x="7217" y="5556"/>
                  <a:pt x="7321" y="5537"/>
                  <a:pt x="7392" y="5432"/>
                </a:cubicBezTo>
                <a:cubicBezTo>
                  <a:pt x="7427" y="5380"/>
                  <a:pt x="7466" y="5316"/>
                  <a:pt x="7417" y="5259"/>
                </a:cubicBezTo>
                <a:cubicBezTo>
                  <a:pt x="7371" y="5205"/>
                  <a:pt x="7225" y="5186"/>
                  <a:pt x="7169" y="5234"/>
                </a:cubicBezTo>
                <a:cubicBezTo>
                  <a:pt x="7065" y="5322"/>
                  <a:pt x="7069" y="5434"/>
                  <a:pt x="7069" y="5556"/>
                </a:cubicBezTo>
                <a:cubicBezTo>
                  <a:pt x="7069" y="5573"/>
                  <a:pt x="7069" y="5589"/>
                  <a:pt x="7069" y="5606"/>
                </a:cubicBezTo>
              </a:path>
              <a:path w="4193" h="1489">
                <a:moveTo>
                  <a:pt x="7962" y="4266"/>
                </a:moveTo>
                <a:cubicBezTo>
                  <a:pt x="7987" y="4217"/>
                  <a:pt x="7996" y="4200"/>
                  <a:pt x="8037" y="4192"/>
                </a:cubicBezTo>
                <a:cubicBezTo>
                  <a:pt x="8163" y="4332"/>
                  <a:pt x="8162" y="4496"/>
                  <a:pt x="7962" y="4614"/>
                </a:cubicBezTo>
                <a:cubicBezTo>
                  <a:pt x="7877" y="4664"/>
                  <a:pt x="7785" y="4635"/>
                  <a:pt x="7739" y="4589"/>
                </a:cubicBezTo>
                <a:cubicBezTo>
                  <a:pt x="7804" y="4471"/>
                  <a:pt x="7858" y="4504"/>
                  <a:pt x="7987" y="4564"/>
                </a:cubicBezTo>
                <a:cubicBezTo>
                  <a:pt x="8069" y="4606"/>
                  <a:pt x="8094" y="4606"/>
                  <a:pt x="8111" y="4663"/>
                </a:cubicBezTo>
              </a:path>
              <a:path w="4193" h="1489">
                <a:moveTo>
                  <a:pt x="8508" y="4291"/>
                </a:moveTo>
                <a:cubicBezTo>
                  <a:pt x="8508" y="4283"/>
                  <a:pt x="8508" y="4274"/>
                  <a:pt x="8508" y="4266"/>
                </a:cubicBezTo>
              </a:path>
              <a:path w="4193" h="1489">
                <a:moveTo>
                  <a:pt x="8483" y="4316"/>
                </a:moveTo>
                <a:cubicBezTo>
                  <a:pt x="8476" y="4451"/>
                  <a:pt x="8458" y="4579"/>
                  <a:pt x="8434" y="4713"/>
                </a:cubicBezTo>
              </a:path>
              <a:path w="4193" h="1489">
                <a:moveTo>
                  <a:pt x="7739" y="4787"/>
                </a:moveTo>
                <a:cubicBezTo>
                  <a:pt x="7976" y="4679"/>
                  <a:pt x="8246" y="4785"/>
                  <a:pt x="8508" y="4812"/>
                </a:cubicBezTo>
                <a:cubicBezTo>
                  <a:pt x="8549" y="4812"/>
                  <a:pt x="8591" y="4812"/>
                  <a:pt x="8632" y="4812"/>
                </a:cubicBezTo>
              </a:path>
              <a:path w="4193" h="1489">
                <a:moveTo>
                  <a:pt x="7987" y="5011"/>
                </a:moveTo>
                <a:cubicBezTo>
                  <a:pt x="8077" y="5021"/>
                  <a:pt x="8188" y="5053"/>
                  <a:pt x="8161" y="5184"/>
                </a:cubicBezTo>
                <a:cubicBezTo>
                  <a:pt x="8125" y="5358"/>
                  <a:pt x="7901" y="5303"/>
                  <a:pt x="7789" y="5283"/>
                </a:cubicBezTo>
                <a:cubicBezTo>
                  <a:pt x="7838" y="5218"/>
                  <a:pt x="7999" y="5114"/>
                  <a:pt x="8111" y="5209"/>
                </a:cubicBezTo>
                <a:cubicBezTo>
                  <a:pt x="8154" y="5272"/>
                  <a:pt x="8170" y="5284"/>
                  <a:pt x="8161" y="5333"/>
                </a:cubicBezTo>
              </a:path>
              <a:path w="4193" h="1489">
                <a:moveTo>
                  <a:pt x="8508" y="5060"/>
                </a:moveTo>
                <a:cubicBezTo>
                  <a:pt x="8434" y="5015"/>
                  <a:pt x="8400" y="5029"/>
                  <a:pt x="8334" y="5085"/>
                </a:cubicBezTo>
                <a:cubicBezTo>
                  <a:pt x="8326" y="5093"/>
                  <a:pt x="8318" y="5102"/>
                  <a:pt x="8310" y="5110"/>
                </a:cubicBezTo>
                <a:cubicBezTo>
                  <a:pt x="8346" y="5128"/>
                  <a:pt x="8511" y="5180"/>
                  <a:pt x="8508" y="5234"/>
                </a:cubicBezTo>
                <a:cubicBezTo>
                  <a:pt x="8501" y="5368"/>
                  <a:pt x="8336" y="5346"/>
                  <a:pt x="8260" y="5308"/>
                </a:cubicBezTo>
              </a:path>
              <a:path w="4193" h="1489">
                <a:moveTo>
                  <a:pt x="8781" y="5085"/>
                </a:moveTo>
                <a:cubicBezTo>
                  <a:pt x="8717" y="5181"/>
                  <a:pt x="8694" y="5200"/>
                  <a:pt x="8682" y="5308"/>
                </a:cubicBezTo>
                <a:cubicBezTo>
                  <a:pt x="8796" y="5344"/>
                  <a:pt x="8944" y="5434"/>
                  <a:pt x="8930" y="5234"/>
                </a:cubicBezTo>
                <a:cubicBezTo>
                  <a:pt x="8910" y="5173"/>
                  <a:pt x="8912" y="5158"/>
                  <a:pt x="8880" y="5135"/>
                </a:cubicBezTo>
              </a:path>
              <a:path w="4193" h="1489">
                <a:moveTo>
                  <a:pt x="8508" y="4787"/>
                </a:moveTo>
                <a:cubicBezTo>
                  <a:pt x="8488" y="4866"/>
                  <a:pt x="8618" y="4854"/>
                  <a:pt x="8706" y="486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84760" y="1544760"/>
            <a:ext cx="428400" cy="330120"/>
          </a:xfrm>
          <a:custGeom>
            <a:avLst/>
            <a:gdLst/>
            <a:ahLst/>
            <a:rect l="l" t="t" r="r" b="b"/>
            <a:pathLst>
              <a:path w="1192" h="919">
                <a:moveTo>
                  <a:pt x="10914" y="4440"/>
                </a:moveTo>
                <a:cubicBezTo>
                  <a:pt x="10897" y="4560"/>
                  <a:pt x="10782" y="4735"/>
                  <a:pt x="10889" y="4837"/>
                </a:cubicBezTo>
                <a:cubicBezTo>
                  <a:pt x="10975" y="4919"/>
                  <a:pt x="11177" y="4841"/>
                  <a:pt x="11212" y="4738"/>
                </a:cubicBezTo>
                <a:cubicBezTo>
                  <a:pt x="11212" y="4721"/>
                  <a:pt x="11212" y="4705"/>
                  <a:pt x="11212" y="4688"/>
                </a:cubicBezTo>
                <a:cubicBezTo>
                  <a:pt x="11104" y="4688"/>
                  <a:pt x="11091" y="4749"/>
                  <a:pt x="11038" y="4837"/>
                </a:cubicBezTo>
              </a:path>
              <a:path w="1192" h="919">
                <a:moveTo>
                  <a:pt x="11435" y="4415"/>
                </a:moveTo>
                <a:cubicBezTo>
                  <a:pt x="11530" y="4442"/>
                  <a:pt x="11546" y="4539"/>
                  <a:pt x="11485" y="4638"/>
                </a:cubicBezTo>
                <a:cubicBezTo>
                  <a:pt x="11434" y="4720"/>
                  <a:pt x="11383" y="4704"/>
                  <a:pt x="11311" y="4688"/>
                </a:cubicBezTo>
                <a:cubicBezTo>
                  <a:pt x="11418" y="4688"/>
                  <a:pt x="11445" y="4700"/>
                  <a:pt x="11534" y="4738"/>
                </a:cubicBezTo>
                <a:cubicBezTo>
                  <a:pt x="11542" y="4738"/>
                  <a:pt x="11551" y="4738"/>
                  <a:pt x="11559" y="4738"/>
                </a:cubicBezTo>
              </a:path>
              <a:path w="1192" h="919">
                <a:moveTo>
                  <a:pt x="11658" y="4465"/>
                </a:moveTo>
                <a:cubicBezTo>
                  <a:pt x="11741" y="4493"/>
                  <a:pt x="11857" y="4487"/>
                  <a:pt x="11857" y="4614"/>
                </a:cubicBezTo>
                <a:cubicBezTo>
                  <a:pt x="11857" y="4692"/>
                  <a:pt x="11752" y="4663"/>
                  <a:pt x="11708" y="4663"/>
                </a:cubicBezTo>
              </a:path>
              <a:path w="1192" h="919">
                <a:moveTo>
                  <a:pt x="11733" y="4366"/>
                </a:moveTo>
                <a:cubicBezTo>
                  <a:pt x="11855" y="4317"/>
                  <a:pt x="11894" y="4301"/>
                  <a:pt x="11981" y="4291"/>
                </a:cubicBezTo>
              </a:path>
              <a:path w="1192" h="919">
                <a:moveTo>
                  <a:pt x="10790" y="5209"/>
                </a:moveTo>
                <a:cubicBezTo>
                  <a:pt x="11078" y="5085"/>
                  <a:pt x="11372" y="5012"/>
                  <a:pt x="11683" y="4961"/>
                </a:cubicBezTo>
                <a:cubicBezTo>
                  <a:pt x="11833" y="4942"/>
                  <a:pt x="11857" y="4955"/>
                  <a:pt x="11931" y="491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741840" y="1847880"/>
            <a:ext cx="527040" cy="196920"/>
          </a:xfrm>
          <a:custGeom>
            <a:avLst/>
            <a:gdLst/>
            <a:ahLst/>
            <a:rect l="l" t="t" r="r" b="b"/>
            <a:pathLst>
              <a:path w="1465" h="546">
                <a:moveTo>
                  <a:pt x="10616" y="5308"/>
                </a:moveTo>
                <a:cubicBezTo>
                  <a:pt x="10551" y="5445"/>
                  <a:pt x="10482" y="5557"/>
                  <a:pt x="10393" y="5680"/>
                </a:cubicBezTo>
              </a:path>
              <a:path w="1465" h="546">
                <a:moveTo>
                  <a:pt x="10964" y="5308"/>
                </a:moveTo>
                <a:cubicBezTo>
                  <a:pt x="10883" y="5389"/>
                  <a:pt x="10823" y="5433"/>
                  <a:pt x="10790" y="5531"/>
                </a:cubicBezTo>
                <a:cubicBezTo>
                  <a:pt x="10886" y="5560"/>
                  <a:pt x="11060" y="5579"/>
                  <a:pt x="11088" y="5432"/>
                </a:cubicBezTo>
                <a:cubicBezTo>
                  <a:pt x="11068" y="5372"/>
                  <a:pt x="11069" y="5357"/>
                  <a:pt x="11038" y="5333"/>
                </a:cubicBezTo>
              </a:path>
              <a:path w="1465" h="546">
                <a:moveTo>
                  <a:pt x="11286" y="5234"/>
                </a:moveTo>
                <a:cubicBezTo>
                  <a:pt x="11245" y="5259"/>
                  <a:pt x="11202" y="5314"/>
                  <a:pt x="11162" y="5358"/>
                </a:cubicBezTo>
                <a:cubicBezTo>
                  <a:pt x="11163" y="5358"/>
                  <a:pt x="11545" y="5434"/>
                  <a:pt x="11460" y="5283"/>
                </a:cubicBezTo>
                <a:cubicBezTo>
                  <a:pt x="11435" y="5267"/>
                  <a:pt x="11410" y="5250"/>
                  <a:pt x="11385" y="5234"/>
                </a:cubicBezTo>
              </a:path>
              <a:path w="1465" h="546">
                <a:moveTo>
                  <a:pt x="11683" y="5135"/>
                </a:moveTo>
                <a:cubicBezTo>
                  <a:pt x="11592" y="5190"/>
                  <a:pt x="11589" y="5260"/>
                  <a:pt x="11609" y="5358"/>
                </a:cubicBezTo>
                <a:cubicBezTo>
                  <a:pt x="11678" y="5379"/>
                  <a:pt x="11921" y="5403"/>
                  <a:pt x="11857" y="5234"/>
                </a:cubicBezTo>
                <a:cubicBezTo>
                  <a:pt x="11832" y="5217"/>
                  <a:pt x="11807" y="5201"/>
                  <a:pt x="11782" y="518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46720" y="1724040"/>
            <a:ext cx="134640" cy="88920"/>
          </a:xfrm>
          <a:custGeom>
            <a:avLst/>
            <a:gdLst/>
            <a:ahLst/>
            <a:rect l="l" t="t" r="r" b="b"/>
            <a:pathLst>
              <a:path w="373" h="249">
                <a:moveTo>
                  <a:pt x="12353" y="4787"/>
                </a:moveTo>
                <a:cubicBezTo>
                  <a:pt x="12453" y="4804"/>
                  <a:pt x="12546" y="4812"/>
                  <a:pt x="12650" y="4812"/>
                </a:cubicBezTo>
              </a:path>
              <a:path w="373" h="249">
                <a:moveTo>
                  <a:pt x="12502" y="5011"/>
                </a:moveTo>
                <a:cubicBezTo>
                  <a:pt x="12579" y="5022"/>
                  <a:pt x="12647" y="5035"/>
                  <a:pt x="12725" y="50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03840" y="1535040"/>
            <a:ext cx="241200" cy="519120"/>
          </a:xfrm>
          <a:custGeom>
            <a:avLst/>
            <a:gdLst/>
            <a:ahLst/>
            <a:rect l="l" t="t" r="r" b="b"/>
            <a:pathLst>
              <a:path w="671" h="1440">
                <a:moveTo>
                  <a:pt x="13618" y="4316"/>
                </a:moveTo>
                <a:cubicBezTo>
                  <a:pt x="13601" y="4349"/>
                  <a:pt x="13585" y="4382"/>
                  <a:pt x="13568" y="4415"/>
                </a:cubicBezTo>
                <a:cubicBezTo>
                  <a:pt x="13707" y="4499"/>
                  <a:pt x="13841" y="4590"/>
                  <a:pt x="13667" y="4738"/>
                </a:cubicBezTo>
                <a:cubicBezTo>
                  <a:pt x="13547" y="4840"/>
                  <a:pt x="13522" y="4828"/>
                  <a:pt x="13444" y="4738"/>
                </a:cubicBezTo>
              </a:path>
              <a:path w="671" h="1440">
                <a:moveTo>
                  <a:pt x="13568" y="4341"/>
                </a:moveTo>
                <a:cubicBezTo>
                  <a:pt x="13722" y="4302"/>
                  <a:pt x="13856" y="4286"/>
                  <a:pt x="14015" y="4266"/>
                </a:cubicBezTo>
              </a:path>
              <a:path w="671" h="1440">
                <a:moveTo>
                  <a:pt x="13395" y="5011"/>
                </a:moveTo>
                <a:cubicBezTo>
                  <a:pt x="13553" y="5005"/>
                  <a:pt x="13708" y="4993"/>
                  <a:pt x="13866" y="4986"/>
                </a:cubicBezTo>
              </a:path>
              <a:path w="671" h="1440">
                <a:moveTo>
                  <a:pt x="13618" y="5209"/>
                </a:moveTo>
                <a:cubicBezTo>
                  <a:pt x="13497" y="5190"/>
                  <a:pt x="13426" y="5190"/>
                  <a:pt x="13345" y="5283"/>
                </a:cubicBezTo>
                <a:cubicBezTo>
                  <a:pt x="13416" y="5344"/>
                  <a:pt x="13639" y="5506"/>
                  <a:pt x="13519" y="5631"/>
                </a:cubicBezTo>
                <a:cubicBezTo>
                  <a:pt x="13429" y="5675"/>
                  <a:pt x="13406" y="5688"/>
                  <a:pt x="13345" y="5705"/>
                </a:cubicBezTo>
                <a:cubicBezTo>
                  <a:pt x="13361" y="5530"/>
                  <a:pt x="13427" y="5463"/>
                  <a:pt x="13568" y="5358"/>
                </a:cubicBezTo>
                <a:cubicBezTo>
                  <a:pt x="13585" y="5350"/>
                  <a:pt x="13601" y="5341"/>
                  <a:pt x="13618" y="533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46880" y="1544760"/>
            <a:ext cx="590400" cy="376200"/>
          </a:xfrm>
          <a:custGeom>
            <a:avLst/>
            <a:gdLst/>
            <a:ahLst/>
            <a:rect l="l" t="t" r="r" b="b"/>
            <a:pathLst>
              <a:path w="1638" h="1043">
                <a:moveTo>
                  <a:pt x="18306" y="4812"/>
                </a:moveTo>
                <a:cubicBezTo>
                  <a:pt x="18271" y="4742"/>
                  <a:pt x="18217" y="4605"/>
                  <a:pt x="18107" y="4638"/>
                </a:cubicBezTo>
                <a:cubicBezTo>
                  <a:pt x="17951" y="4684"/>
                  <a:pt x="17941" y="4798"/>
                  <a:pt x="17934" y="4911"/>
                </a:cubicBezTo>
                <a:cubicBezTo>
                  <a:pt x="18098" y="4975"/>
                  <a:pt x="18179" y="4912"/>
                  <a:pt x="18331" y="4812"/>
                </a:cubicBezTo>
                <a:cubicBezTo>
                  <a:pt x="18356" y="4795"/>
                  <a:pt x="18380" y="4779"/>
                  <a:pt x="18405" y="4762"/>
                </a:cubicBezTo>
                <a:cubicBezTo>
                  <a:pt x="18357" y="4940"/>
                  <a:pt x="18291" y="5140"/>
                  <a:pt x="18207" y="5308"/>
                </a:cubicBezTo>
                <a:cubicBezTo>
                  <a:pt x="18199" y="5316"/>
                  <a:pt x="18190" y="5325"/>
                  <a:pt x="18182" y="5333"/>
                </a:cubicBezTo>
              </a:path>
              <a:path w="1638" h="1043">
                <a:moveTo>
                  <a:pt x="18876" y="4440"/>
                </a:moveTo>
                <a:cubicBezTo>
                  <a:pt x="18947" y="4499"/>
                  <a:pt x="19077" y="4567"/>
                  <a:pt x="19025" y="4688"/>
                </a:cubicBezTo>
                <a:cubicBezTo>
                  <a:pt x="18973" y="4807"/>
                  <a:pt x="18868" y="4776"/>
                  <a:pt x="18777" y="4762"/>
                </a:cubicBezTo>
              </a:path>
              <a:path w="1638" h="1043">
                <a:moveTo>
                  <a:pt x="18901" y="4390"/>
                </a:moveTo>
                <a:cubicBezTo>
                  <a:pt x="19007" y="4364"/>
                  <a:pt x="19048" y="4356"/>
                  <a:pt x="19124" y="4366"/>
                </a:cubicBezTo>
              </a:path>
              <a:path w="1638" h="1043">
                <a:moveTo>
                  <a:pt x="19546" y="4291"/>
                </a:moveTo>
                <a:cubicBezTo>
                  <a:pt x="19419" y="4291"/>
                  <a:pt x="19358" y="4307"/>
                  <a:pt x="19248" y="4366"/>
                </a:cubicBezTo>
                <a:cubicBezTo>
                  <a:pt x="19296" y="4473"/>
                  <a:pt x="19521" y="4539"/>
                  <a:pt x="19472" y="4688"/>
                </a:cubicBezTo>
                <a:cubicBezTo>
                  <a:pt x="19392" y="4767"/>
                  <a:pt x="19360" y="4793"/>
                  <a:pt x="19273" y="4787"/>
                </a:cubicBezTo>
                <a:cubicBezTo>
                  <a:pt x="19333" y="4630"/>
                  <a:pt x="19408" y="4522"/>
                  <a:pt x="19521" y="439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34080" y="1785960"/>
            <a:ext cx="438120" cy="268200"/>
          </a:xfrm>
          <a:custGeom>
            <a:avLst/>
            <a:gdLst/>
            <a:ahLst/>
            <a:rect l="l" t="t" r="r" b="b"/>
            <a:pathLst>
              <a:path w="1216" h="745">
                <a:moveTo>
                  <a:pt x="18827" y="5060"/>
                </a:moveTo>
                <a:cubicBezTo>
                  <a:pt x="19051" y="5031"/>
                  <a:pt x="19273" y="4996"/>
                  <a:pt x="19496" y="4961"/>
                </a:cubicBezTo>
              </a:path>
              <a:path w="1216" h="745">
                <a:moveTo>
                  <a:pt x="18703" y="5333"/>
                </a:moveTo>
                <a:cubicBezTo>
                  <a:pt x="18612" y="5458"/>
                  <a:pt x="18523" y="5582"/>
                  <a:pt x="18430" y="5705"/>
                </a:cubicBezTo>
              </a:path>
              <a:path w="1216" h="745">
                <a:moveTo>
                  <a:pt x="19100" y="5308"/>
                </a:moveTo>
                <a:cubicBezTo>
                  <a:pt x="19002" y="5386"/>
                  <a:pt x="18972" y="5444"/>
                  <a:pt x="18926" y="5556"/>
                </a:cubicBezTo>
                <a:cubicBezTo>
                  <a:pt x="19007" y="5556"/>
                  <a:pt x="19313" y="5524"/>
                  <a:pt x="19199" y="5358"/>
                </a:cubicBezTo>
                <a:cubicBezTo>
                  <a:pt x="19174" y="5341"/>
                  <a:pt x="19149" y="5325"/>
                  <a:pt x="19124" y="5308"/>
                </a:cubicBezTo>
              </a:path>
              <a:path w="1216" h="745">
                <a:moveTo>
                  <a:pt x="19397" y="5308"/>
                </a:moveTo>
                <a:cubicBezTo>
                  <a:pt x="19328" y="5401"/>
                  <a:pt x="19303" y="5426"/>
                  <a:pt x="19323" y="5507"/>
                </a:cubicBezTo>
                <a:cubicBezTo>
                  <a:pt x="19402" y="5526"/>
                  <a:pt x="19698" y="5576"/>
                  <a:pt x="19645" y="5383"/>
                </a:cubicBezTo>
                <a:cubicBezTo>
                  <a:pt x="19620" y="5358"/>
                  <a:pt x="19596" y="5333"/>
                  <a:pt x="19571" y="53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59760" y="1446120"/>
            <a:ext cx="876240" cy="581040"/>
          </a:xfrm>
          <a:custGeom>
            <a:avLst/>
            <a:gdLst/>
            <a:ahLst/>
            <a:rect l="l" t="t" r="r" b="b"/>
            <a:pathLst>
              <a:path w="2432" h="1614">
                <a:moveTo>
                  <a:pt x="20216" y="5110"/>
                </a:moveTo>
                <a:cubicBezTo>
                  <a:pt x="20289" y="5085"/>
                  <a:pt x="20313" y="5077"/>
                  <a:pt x="20365" y="5085"/>
                </a:cubicBezTo>
              </a:path>
              <a:path w="2432" h="1614">
                <a:moveTo>
                  <a:pt x="20166" y="5333"/>
                </a:moveTo>
                <a:cubicBezTo>
                  <a:pt x="20207" y="5325"/>
                  <a:pt x="20249" y="5316"/>
                  <a:pt x="20290" y="5308"/>
                </a:cubicBezTo>
              </a:path>
              <a:path w="2432" h="1614">
                <a:moveTo>
                  <a:pt x="21134" y="4936"/>
                </a:moveTo>
                <a:cubicBezTo>
                  <a:pt x="21209" y="4785"/>
                  <a:pt x="21191" y="4735"/>
                  <a:pt x="21109" y="4589"/>
                </a:cubicBezTo>
                <a:cubicBezTo>
                  <a:pt x="20940" y="4589"/>
                  <a:pt x="20765" y="4687"/>
                  <a:pt x="20786" y="4911"/>
                </a:cubicBezTo>
                <a:cubicBezTo>
                  <a:pt x="20803" y="5098"/>
                  <a:pt x="21109" y="4916"/>
                  <a:pt x="21158" y="4862"/>
                </a:cubicBezTo>
                <a:cubicBezTo>
                  <a:pt x="21166" y="4845"/>
                  <a:pt x="21175" y="4829"/>
                  <a:pt x="21183" y="4812"/>
                </a:cubicBezTo>
                <a:cubicBezTo>
                  <a:pt x="21061" y="5021"/>
                  <a:pt x="20976" y="5234"/>
                  <a:pt x="20886" y="5457"/>
                </a:cubicBezTo>
                <a:cubicBezTo>
                  <a:pt x="20878" y="5474"/>
                  <a:pt x="20869" y="5490"/>
                  <a:pt x="20861" y="5507"/>
                </a:cubicBezTo>
              </a:path>
              <a:path w="2432" h="1614">
                <a:moveTo>
                  <a:pt x="21903" y="4093"/>
                </a:moveTo>
                <a:cubicBezTo>
                  <a:pt x="21926" y="4045"/>
                  <a:pt x="21932" y="4028"/>
                  <a:pt x="21977" y="4043"/>
                </a:cubicBezTo>
                <a:cubicBezTo>
                  <a:pt x="22050" y="4276"/>
                  <a:pt x="21967" y="4440"/>
                  <a:pt x="21704" y="4514"/>
                </a:cubicBezTo>
                <a:cubicBezTo>
                  <a:pt x="21687" y="4506"/>
                  <a:pt x="21671" y="4498"/>
                  <a:pt x="21654" y="4490"/>
                </a:cubicBezTo>
                <a:cubicBezTo>
                  <a:pt x="21701" y="4350"/>
                  <a:pt x="21803" y="4325"/>
                  <a:pt x="21903" y="4465"/>
                </a:cubicBezTo>
                <a:cubicBezTo>
                  <a:pt x="21911" y="4490"/>
                  <a:pt x="21919" y="4514"/>
                  <a:pt x="21927" y="4539"/>
                </a:cubicBezTo>
              </a:path>
              <a:path w="2432" h="1614">
                <a:moveTo>
                  <a:pt x="22448" y="4043"/>
                </a:moveTo>
                <a:cubicBezTo>
                  <a:pt x="22389" y="4034"/>
                  <a:pt x="22075" y="4038"/>
                  <a:pt x="22175" y="4192"/>
                </a:cubicBezTo>
                <a:cubicBezTo>
                  <a:pt x="22236" y="4286"/>
                  <a:pt x="22387" y="4142"/>
                  <a:pt x="22423" y="4118"/>
                </a:cubicBezTo>
                <a:cubicBezTo>
                  <a:pt x="22370" y="4276"/>
                  <a:pt x="22327" y="4419"/>
                  <a:pt x="22250" y="4564"/>
                </a:cubicBezTo>
              </a:path>
              <a:path w="2432" h="1614">
                <a:moveTo>
                  <a:pt x="21580" y="4887"/>
                </a:moveTo>
                <a:cubicBezTo>
                  <a:pt x="21858" y="4836"/>
                  <a:pt x="22142" y="4815"/>
                  <a:pt x="22423" y="4787"/>
                </a:cubicBezTo>
                <a:cubicBezTo>
                  <a:pt x="22431" y="4787"/>
                  <a:pt x="22440" y="4787"/>
                  <a:pt x="22448" y="4787"/>
                </a:cubicBezTo>
              </a:path>
              <a:path w="2432" h="1614">
                <a:moveTo>
                  <a:pt x="21878" y="5234"/>
                </a:moveTo>
                <a:cubicBezTo>
                  <a:pt x="21726" y="5199"/>
                  <a:pt x="21760" y="5210"/>
                  <a:pt x="21654" y="5333"/>
                </a:cubicBezTo>
                <a:cubicBezTo>
                  <a:pt x="21737" y="5354"/>
                  <a:pt x="21969" y="5370"/>
                  <a:pt x="21952" y="5507"/>
                </a:cubicBezTo>
                <a:cubicBezTo>
                  <a:pt x="21930" y="5683"/>
                  <a:pt x="21670" y="5649"/>
                  <a:pt x="21555" y="5606"/>
                </a:cubicBezTo>
                <a:cubicBezTo>
                  <a:pt x="21530" y="5589"/>
                  <a:pt x="21506" y="5573"/>
                  <a:pt x="21481" y="5556"/>
                </a:cubicBezTo>
              </a:path>
              <a:path w="2432" h="1614">
                <a:moveTo>
                  <a:pt x="22374" y="5234"/>
                </a:moveTo>
                <a:cubicBezTo>
                  <a:pt x="22291" y="5309"/>
                  <a:pt x="22266" y="5349"/>
                  <a:pt x="22225" y="5457"/>
                </a:cubicBezTo>
                <a:cubicBezTo>
                  <a:pt x="22346" y="5518"/>
                  <a:pt x="22514" y="5528"/>
                  <a:pt x="22597" y="5383"/>
                </a:cubicBezTo>
                <a:cubicBezTo>
                  <a:pt x="22597" y="5292"/>
                  <a:pt x="22584" y="5257"/>
                  <a:pt x="22498" y="523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41280" y="3241800"/>
            <a:ext cx="231840" cy="214200"/>
          </a:xfrm>
          <a:custGeom>
            <a:avLst/>
            <a:gdLst/>
            <a:ahLst/>
            <a:rect l="l" t="t" r="r" b="b"/>
            <a:pathLst>
              <a:path w="646" h="596">
                <a:moveTo>
                  <a:pt x="3746" y="9029"/>
                </a:moveTo>
                <a:cubicBezTo>
                  <a:pt x="3609" y="9004"/>
                  <a:pt x="3578" y="9039"/>
                  <a:pt x="3448" y="9103"/>
                </a:cubicBezTo>
                <a:cubicBezTo>
                  <a:pt x="3561" y="9256"/>
                  <a:pt x="3800" y="9364"/>
                  <a:pt x="3621" y="9575"/>
                </a:cubicBezTo>
                <a:cubicBezTo>
                  <a:pt x="3556" y="9596"/>
                  <a:pt x="3531" y="9614"/>
                  <a:pt x="3547" y="9550"/>
                </a:cubicBezTo>
                <a:cubicBezTo>
                  <a:pt x="3604" y="9373"/>
                  <a:pt x="3670" y="9243"/>
                  <a:pt x="3795" y="9103"/>
                </a:cubicBezTo>
              </a:path>
              <a:path w="646" h="596">
                <a:moveTo>
                  <a:pt x="4093" y="9525"/>
                </a:moveTo>
                <a:lnTo>
                  <a:pt x="4093" y="9525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616040" y="3205080"/>
            <a:ext cx="322200" cy="216000"/>
          </a:xfrm>
          <a:custGeom>
            <a:avLst/>
            <a:gdLst/>
            <a:ahLst/>
            <a:rect l="l" t="t" r="r" b="b"/>
            <a:pathLst>
              <a:path w="894" h="596">
                <a:moveTo>
                  <a:pt x="4564" y="9103"/>
                </a:moveTo>
                <a:cubicBezTo>
                  <a:pt x="4615" y="9053"/>
                  <a:pt x="4633" y="9037"/>
                  <a:pt x="4688" y="9054"/>
                </a:cubicBezTo>
                <a:cubicBezTo>
                  <a:pt x="4761" y="9259"/>
                  <a:pt x="4734" y="9346"/>
                  <a:pt x="4539" y="9475"/>
                </a:cubicBezTo>
                <a:cubicBezTo>
                  <a:pt x="4511" y="9475"/>
                  <a:pt x="4501" y="9473"/>
                  <a:pt x="4490" y="9451"/>
                </a:cubicBezTo>
                <a:cubicBezTo>
                  <a:pt x="4526" y="9342"/>
                  <a:pt x="4666" y="9332"/>
                  <a:pt x="4787" y="9426"/>
                </a:cubicBezTo>
                <a:cubicBezTo>
                  <a:pt x="4804" y="9451"/>
                  <a:pt x="4820" y="9475"/>
                  <a:pt x="4837" y="9500"/>
                </a:cubicBezTo>
              </a:path>
              <a:path w="894" h="596">
                <a:moveTo>
                  <a:pt x="5159" y="8905"/>
                </a:moveTo>
                <a:cubicBezTo>
                  <a:pt x="5003" y="8917"/>
                  <a:pt x="5029" y="8958"/>
                  <a:pt x="4961" y="9103"/>
                </a:cubicBezTo>
                <a:cubicBezTo>
                  <a:pt x="5089" y="9167"/>
                  <a:pt x="5193" y="9057"/>
                  <a:pt x="5333" y="9153"/>
                </a:cubicBezTo>
                <a:cubicBezTo>
                  <a:pt x="5519" y="9280"/>
                  <a:pt x="5204" y="9482"/>
                  <a:pt x="5085" y="9475"/>
                </a:cubicBezTo>
                <a:cubicBezTo>
                  <a:pt x="5035" y="9459"/>
                  <a:pt x="4986" y="9442"/>
                  <a:pt x="4936" y="942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33640" y="5581800"/>
            <a:ext cx="455400" cy="169560"/>
          </a:xfrm>
          <a:custGeom>
            <a:avLst/>
            <a:gdLst/>
            <a:ahLst/>
            <a:rect l="l" t="t" r="r" b="b"/>
            <a:pathLst>
              <a:path w="1266" h="472">
                <a:moveTo>
                  <a:pt x="3175" y="15677"/>
                </a:moveTo>
                <a:cubicBezTo>
                  <a:pt x="3223" y="15629"/>
                  <a:pt x="3242" y="15610"/>
                  <a:pt x="3299" y="15577"/>
                </a:cubicBezTo>
                <a:cubicBezTo>
                  <a:pt x="3308" y="15763"/>
                  <a:pt x="3291" y="15847"/>
                  <a:pt x="3150" y="15974"/>
                </a:cubicBezTo>
                <a:cubicBezTo>
                  <a:pt x="3245" y="15967"/>
                  <a:pt x="3329" y="15948"/>
                  <a:pt x="3423" y="15925"/>
                </a:cubicBezTo>
              </a:path>
              <a:path w="1266" h="472">
                <a:moveTo>
                  <a:pt x="3646" y="15776"/>
                </a:moveTo>
                <a:lnTo>
                  <a:pt x="3646" y="15776"/>
                </a:lnTo>
              </a:path>
              <a:path w="1266" h="472">
                <a:moveTo>
                  <a:pt x="3820" y="15553"/>
                </a:moveTo>
                <a:cubicBezTo>
                  <a:pt x="3928" y="15537"/>
                  <a:pt x="3880" y="15588"/>
                  <a:pt x="3845" y="15677"/>
                </a:cubicBezTo>
                <a:cubicBezTo>
                  <a:pt x="3919" y="15677"/>
                  <a:pt x="3944" y="15677"/>
                  <a:pt x="3994" y="15677"/>
                </a:cubicBezTo>
                <a:cubicBezTo>
                  <a:pt x="3982" y="15773"/>
                  <a:pt x="3952" y="15799"/>
                  <a:pt x="3870" y="15850"/>
                </a:cubicBezTo>
              </a:path>
              <a:path w="1266" h="472">
                <a:moveTo>
                  <a:pt x="4043" y="15553"/>
                </a:moveTo>
                <a:cubicBezTo>
                  <a:pt x="4080" y="15538"/>
                  <a:pt x="4379" y="15413"/>
                  <a:pt x="4242" y="15602"/>
                </a:cubicBezTo>
                <a:cubicBezTo>
                  <a:pt x="4217" y="15619"/>
                  <a:pt x="4192" y="15635"/>
                  <a:pt x="4167" y="15652"/>
                </a:cubicBezTo>
                <a:cubicBezTo>
                  <a:pt x="4296" y="15660"/>
                  <a:pt x="4518" y="15660"/>
                  <a:pt x="4366" y="15850"/>
                </a:cubicBezTo>
                <a:cubicBezTo>
                  <a:pt x="4341" y="15867"/>
                  <a:pt x="4316" y="15883"/>
                  <a:pt x="4291" y="1590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170080" y="4991040"/>
            <a:ext cx="187200" cy="366840"/>
          </a:xfrm>
          <a:custGeom>
            <a:avLst/>
            <a:gdLst/>
            <a:ahLst/>
            <a:rect l="l" t="t" r="r" b="b"/>
            <a:pathLst>
              <a:path w="521" h="1018">
                <a:moveTo>
                  <a:pt x="6152" y="13940"/>
                </a:moveTo>
                <a:cubicBezTo>
                  <a:pt x="6197" y="14054"/>
                  <a:pt x="6191" y="14035"/>
                  <a:pt x="6325" y="14015"/>
                </a:cubicBezTo>
              </a:path>
              <a:path w="521" h="1018">
                <a:moveTo>
                  <a:pt x="6375" y="13866"/>
                </a:moveTo>
                <a:cubicBezTo>
                  <a:pt x="6333" y="13966"/>
                  <a:pt x="6305" y="14058"/>
                  <a:pt x="6276" y="14163"/>
                </a:cubicBezTo>
              </a:path>
              <a:path w="521" h="1018">
                <a:moveTo>
                  <a:pt x="6077" y="14312"/>
                </a:moveTo>
                <a:cubicBezTo>
                  <a:pt x="6238" y="14278"/>
                  <a:pt x="6385" y="14251"/>
                  <a:pt x="6548" y="14238"/>
                </a:cubicBezTo>
              </a:path>
              <a:path w="521" h="1018">
                <a:moveTo>
                  <a:pt x="6276" y="14436"/>
                </a:moveTo>
                <a:cubicBezTo>
                  <a:pt x="6206" y="14467"/>
                  <a:pt x="6161" y="14490"/>
                  <a:pt x="6102" y="14536"/>
                </a:cubicBezTo>
                <a:cubicBezTo>
                  <a:pt x="6151" y="14649"/>
                  <a:pt x="6268" y="14574"/>
                  <a:pt x="6350" y="14660"/>
                </a:cubicBezTo>
                <a:cubicBezTo>
                  <a:pt x="6468" y="14784"/>
                  <a:pt x="6224" y="14873"/>
                  <a:pt x="6152" y="14883"/>
                </a:cubicBezTo>
                <a:cubicBezTo>
                  <a:pt x="6111" y="14883"/>
                  <a:pt x="6069" y="14883"/>
                  <a:pt x="6028" y="1488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17840" y="4500720"/>
            <a:ext cx="223920" cy="160200"/>
          </a:xfrm>
          <a:custGeom>
            <a:avLst/>
            <a:gdLst/>
            <a:ahLst/>
            <a:rect l="l" t="t" r="r" b="b"/>
            <a:pathLst>
              <a:path w="621" h="447">
                <a:moveTo>
                  <a:pt x="6995" y="12774"/>
                </a:moveTo>
                <a:cubicBezTo>
                  <a:pt x="7012" y="12799"/>
                  <a:pt x="7028" y="12824"/>
                  <a:pt x="7045" y="12849"/>
                </a:cubicBezTo>
              </a:path>
              <a:path w="621" h="447">
                <a:moveTo>
                  <a:pt x="7615" y="12526"/>
                </a:moveTo>
                <a:cubicBezTo>
                  <a:pt x="7526" y="12519"/>
                  <a:pt x="7460" y="12543"/>
                  <a:pt x="7367" y="12576"/>
                </a:cubicBezTo>
                <a:cubicBezTo>
                  <a:pt x="7367" y="12703"/>
                  <a:pt x="7475" y="12699"/>
                  <a:pt x="7541" y="12799"/>
                </a:cubicBezTo>
                <a:cubicBezTo>
                  <a:pt x="7564" y="12871"/>
                  <a:pt x="7574" y="12894"/>
                  <a:pt x="7516" y="12923"/>
                </a:cubicBezTo>
                <a:cubicBezTo>
                  <a:pt x="7345" y="12996"/>
                  <a:pt x="7486" y="12787"/>
                  <a:pt x="7516" y="12725"/>
                </a:cubicBezTo>
                <a:cubicBezTo>
                  <a:pt x="7554" y="12648"/>
                  <a:pt x="7553" y="12633"/>
                  <a:pt x="7590" y="1260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867040" y="3062160"/>
            <a:ext cx="1089000" cy="1243080"/>
          </a:xfrm>
          <a:custGeom>
            <a:avLst/>
            <a:gdLst/>
            <a:ahLst/>
            <a:rect l="l" t="t" r="r" b="b"/>
            <a:pathLst>
              <a:path w="3027" h="3449">
                <a:moveTo>
                  <a:pt x="9054" y="9451"/>
                </a:moveTo>
                <a:cubicBezTo>
                  <a:pt x="8950" y="9525"/>
                  <a:pt x="8843" y="9523"/>
                  <a:pt x="8830" y="9649"/>
                </a:cubicBezTo>
                <a:cubicBezTo>
                  <a:pt x="8830" y="9666"/>
                  <a:pt x="8830" y="9682"/>
                  <a:pt x="8830" y="9699"/>
                </a:cubicBezTo>
                <a:cubicBezTo>
                  <a:pt x="8961" y="9681"/>
                  <a:pt x="9170" y="9715"/>
                  <a:pt x="9128" y="9922"/>
                </a:cubicBezTo>
                <a:cubicBezTo>
                  <a:pt x="9092" y="10099"/>
                  <a:pt x="8892" y="10032"/>
                  <a:pt x="8781" y="10021"/>
                </a:cubicBezTo>
              </a:path>
              <a:path w="3027" h="3449">
                <a:moveTo>
                  <a:pt x="8632" y="10220"/>
                </a:moveTo>
                <a:cubicBezTo>
                  <a:pt x="8598" y="10016"/>
                  <a:pt x="8611" y="9804"/>
                  <a:pt x="8582" y="9599"/>
                </a:cubicBezTo>
                <a:cubicBezTo>
                  <a:pt x="8550" y="9373"/>
                  <a:pt x="8966" y="9479"/>
                  <a:pt x="9103" y="9475"/>
                </a:cubicBezTo>
                <a:cubicBezTo>
                  <a:pt x="9359" y="9467"/>
                  <a:pt x="9600" y="9431"/>
                  <a:pt x="9847" y="9376"/>
                </a:cubicBezTo>
              </a:path>
              <a:path w="3027" h="3449">
                <a:moveTo>
                  <a:pt x="8086" y="9748"/>
                </a:moveTo>
                <a:cubicBezTo>
                  <a:pt x="8026" y="9870"/>
                  <a:pt x="7938" y="10001"/>
                  <a:pt x="7962" y="10145"/>
                </a:cubicBezTo>
                <a:cubicBezTo>
                  <a:pt x="7994" y="10338"/>
                  <a:pt x="8180" y="10199"/>
                  <a:pt x="8235" y="10120"/>
                </a:cubicBezTo>
                <a:cubicBezTo>
                  <a:pt x="8272" y="10047"/>
                  <a:pt x="8289" y="10042"/>
                  <a:pt x="8285" y="9996"/>
                </a:cubicBezTo>
                <a:cubicBezTo>
                  <a:pt x="8160" y="10052"/>
                  <a:pt x="8139" y="10111"/>
                  <a:pt x="8161" y="10244"/>
                </a:cubicBezTo>
              </a:path>
              <a:path w="3027" h="3449">
                <a:moveTo>
                  <a:pt x="9302" y="9971"/>
                </a:moveTo>
                <a:lnTo>
                  <a:pt x="9302" y="9971"/>
                </a:lnTo>
              </a:path>
              <a:path w="3027" h="3449">
                <a:moveTo>
                  <a:pt x="9227" y="9252"/>
                </a:moveTo>
                <a:lnTo>
                  <a:pt x="9227" y="9252"/>
                </a:lnTo>
              </a:path>
              <a:path w="3027" h="3449">
                <a:moveTo>
                  <a:pt x="9599" y="9599"/>
                </a:moveTo>
                <a:cubicBezTo>
                  <a:pt x="9533" y="9734"/>
                  <a:pt x="9472" y="9849"/>
                  <a:pt x="9451" y="9996"/>
                </a:cubicBezTo>
                <a:cubicBezTo>
                  <a:pt x="9585" y="9996"/>
                  <a:pt x="9693" y="9992"/>
                  <a:pt x="9699" y="9823"/>
                </a:cubicBezTo>
                <a:cubicBezTo>
                  <a:pt x="9691" y="9798"/>
                  <a:pt x="9682" y="9773"/>
                  <a:pt x="9674" y="9748"/>
                </a:cubicBezTo>
              </a:path>
              <a:path w="3027" h="3449">
                <a:moveTo>
                  <a:pt x="9550" y="8954"/>
                </a:moveTo>
                <a:cubicBezTo>
                  <a:pt x="9502" y="8871"/>
                  <a:pt x="9443" y="8849"/>
                  <a:pt x="9376" y="8930"/>
                </a:cubicBezTo>
                <a:cubicBezTo>
                  <a:pt x="9319" y="9041"/>
                  <a:pt x="9569" y="8994"/>
                  <a:pt x="9624" y="9079"/>
                </a:cubicBezTo>
                <a:cubicBezTo>
                  <a:pt x="9716" y="9222"/>
                  <a:pt x="9494" y="9217"/>
                  <a:pt x="9426" y="9227"/>
                </a:cubicBezTo>
                <a:cubicBezTo>
                  <a:pt x="9452" y="9141"/>
                  <a:pt x="9503" y="9063"/>
                  <a:pt x="9550" y="8979"/>
                </a:cubicBezTo>
              </a:path>
              <a:path w="3027" h="3449">
                <a:moveTo>
                  <a:pt x="8830" y="10220"/>
                </a:moveTo>
                <a:cubicBezTo>
                  <a:pt x="8773" y="10309"/>
                  <a:pt x="8758" y="10303"/>
                  <a:pt x="8781" y="10393"/>
                </a:cubicBezTo>
                <a:cubicBezTo>
                  <a:pt x="8849" y="10355"/>
                  <a:pt x="8885" y="10329"/>
                  <a:pt x="8930" y="10269"/>
                </a:cubicBezTo>
              </a:path>
              <a:path w="3027" h="3449">
                <a:moveTo>
                  <a:pt x="8880" y="10145"/>
                </a:moveTo>
                <a:cubicBezTo>
                  <a:pt x="8847" y="10254"/>
                  <a:pt x="8819" y="10331"/>
                  <a:pt x="8806" y="10443"/>
                </a:cubicBezTo>
              </a:path>
              <a:path w="3027" h="3449">
                <a:moveTo>
                  <a:pt x="9451" y="10145"/>
                </a:moveTo>
                <a:cubicBezTo>
                  <a:pt x="9261" y="10335"/>
                  <a:pt x="9431" y="10225"/>
                  <a:pt x="9475" y="10418"/>
                </a:cubicBezTo>
                <a:cubicBezTo>
                  <a:pt x="9467" y="10435"/>
                  <a:pt x="9459" y="10451"/>
                  <a:pt x="9451" y="10468"/>
                </a:cubicBezTo>
                <a:cubicBezTo>
                  <a:pt x="9426" y="10484"/>
                  <a:pt x="9401" y="10501"/>
                  <a:pt x="9376" y="10517"/>
                </a:cubicBezTo>
                <a:cubicBezTo>
                  <a:pt x="9365" y="10358"/>
                  <a:pt x="9423" y="10379"/>
                  <a:pt x="9475" y="10244"/>
                </a:cubicBezTo>
                <a:cubicBezTo>
                  <a:pt x="9475" y="10236"/>
                  <a:pt x="9475" y="10228"/>
                  <a:pt x="9475" y="10220"/>
                </a:cubicBezTo>
              </a:path>
              <a:path w="3027" h="3449">
                <a:moveTo>
                  <a:pt x="8706" y="10691"/>
                </a:moveTo>
                <a:cubicBezTo>
                  <a:pt x="8938" y="10646"/>
                  <a:pt x="9173" y="10605"/>
                  <a:pt x="9401" y="10542"/>
                </a:cubicBezTo>
                <a:cubicBezTo>
                  <a:pt x="9451" y="10525"/>
                  <a:pt x="9500" y="10509"/>
                  <a:pt x="9550" y="10492"/>
                </a:cubicBezTo>
              </a:path>
              <a:path w="3027" h="3449">
                <a:moveTo>
                  <a:pt x="9575" y="10666"/>
                </a:moveTo>
                <a:cubicBezTo>
                  <a:pt x="9608" y="10666"/>
                  <a:pt x="9624" y="10666"/>
                  <a:pt x="9649" y="10666"/>
                </a:cubicBezTo>
                <a:cubicBezTo>
                  <a:pt x="9617" y="10807"/>
                  <a:pt x="9537" y="10852"/>
                  <a:pt x="9451" y="10964"/>
                </a:cubicBezTo>
                <a:cubicBezTo>
                  <a:pt x="9551" y="10964"/>
                  <a:pt x="9585" y="10964"/>
                  <a:pt x="9649" y="10939"/>
                </a:cubicBezTo>
              </a:path>
              <a:path w="3027" h="3449">
                <a:moveTo>
                  <a:pt x="9922" y="10691"/>
                </a:moveTo>
                <a:cubicBezTo>
                  <a:pt x="9855" y="10757"/>
                  <a:pt x="9839" y="10773"/>
                  <a:pt x="9798" y="10815"/>
                </a:cubicBezTo>
                <a:cubicBezTo>
                  <a:pt x="9875" y="10841"/>
                  <a:pt x="10047" y="10867"/>
                  <a:pt x="10096" y="10765"/>
                </a:cubicBezTo>
                <a:cubicBezTo>
                  <a:pt x="10096" y="10652"/>
                  <a:pt x="10086" y="10609"/>
                  <a:pt x="9996" y="10567"/>
                </a:cubicBezTo>
              </a:path>
              <a:path w="3027" h="3449">
                <a:moveTo>
                  <a:pt x="10046" y="9575"/>
                </a:moveTo>
                <a:cubicBezTo>
                  <a:pt x="9968" y="9613"/>
                  <a:pt x="9931" y="9752"/>
                  <a:pt x="9947" y="9847"/>
                </a:cubicBezTo>
                <a:cubicBezTo>
                  <a:pt x="9958" y="9915"/>
                  <a:pt x="10146" y="9808"/>
                  <a:pt x="10170" y="9798"/>
                </a:cubicBezTo>
                <a:cubicBezTo>
                  <a:pt x="10140" y="9738"/>
                  <a:pt x="10123" y="9715"/>
                  <a:pt x="10071" y="9699"/>
                </a:cubicBezTo>
              </a:path>
              <a:path w="3027" h="3449">
                <a:moveTo>
                  <a:pt x="10046" y="10220"/>
                </a:moveTo>
                <a:cubicBezTo>
                  <a:pt x="10046" y="10329"/>
                  <a:pt x="10051" y="10356"/>
                  <a:pt x="10021" y="10418"/>
                </a:cubicBezTo>
              </a:path>
              <a:path w="3027" h="3449">
                <a:moveTo>
                  <a:pt x="9996" y="9351"/>
                </a:moveTo>
                <a:cubicBezTo>
                  <a:pt x="10181" y="9329"/>
                  <a:pt x="10233" y="9325"/>
                  <a:pt x="10344" y="9277"/>
                </a:cubicBezTo>
              </a:path>
              <a:path w="3027" h="3449">
                <a:moveTo>
                  <a:pt x="9897" y="8830"/>
                </a:moveTo>
                <a:cubicBezTo>
                  <a:pt x="9921" y="8806"/>
                  <a:pt x="10160" y="8631"/>
                  <a:pt x="10120" y="8781"/>
                </a:cubicBezTo>
                <a:cubicBezTo>
                  <a:pt x="10074" y="8874"/>
                  <a:pt x="10063" y="8903"/>
                  <a:pt x="9996" y="8930"/>
                </a:cubicBezTo>
                <a:cubicBezTo>
                  <a:pt x="10071" y="8930"/>
                  <a:pt x="10095" y="8930"/>
                  <a:pt x="10145" y="8930"/>
                </a:cubicBezTo>
                <a:cubicBezTo>
                  <a:pt x="10107" y="9131"/>
                  <a:pt x="10050" y="9154"/>
                  <a:pt x="9847" y="9178"/>
                </a:cubicBezTo>
              </a:path>
              <a:path w="3027" h="3449">
                <a:moveTo>
                  <a:pt x="9748" y="8533"/>
                </a:moveTo>
                <a:cubicBezTo>
                  <a:pt x="9830" y="8525"/>
                  <a:pt x="9895" y="8519"/>
                  <a:pt x="9971" y="8533"/>
                </a:cubicBezTo>
              </a:path>
              <a:path w="3027" h="3449">
                <a:moveTo>
                  <a:pt x="9699" y="11807"/>
                </a:moveTo>
                <a:cubicBezTo>
                  <a:pt x="9870" y="11775"/>
                  <a:pt x="10021" y="11804"/>
                  <a:pt x="10195" y="11807"/>
                </a:cubicBezTo>
                <a:cubicBezTo>
                  <a:pt x="10372" y="11810"/>
                  <a:pt x="10541" y="11788"/>
                  <a:pt x="10716" y="11782"/>
                </a:cubicBezTo>
                <a:cubicBezTo>
                  <a:pt x="10765" y="11780"/>
                  <a:pt x="10815" y="11782"/>
                  <a:pt x="10864" y="11782"/>
                </a:cubicBezTo>
              </a:path>
              <a:path w="3027" h="3449">
                <a:moveTo>
                  <a:pt x="9996" y="11956"/>
                </a:moveTo>
                <a:cubicBezTo>
                  <a:pt x="10273" y="11956"/>
                  <a:pt x="10517" y="11904"/>
                  <a:pt x="10790" y="11881"/>
                </a:cubicBezTo>
                <a:cubicBezTo>
                  <a:pt x="10906" y="11881"/>
                  <a:pt x="10922" y="11881"/>
                  <a:pt x="10988" y="1188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14880" y="33750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1708" y="9376"/>
                </a:moveTo>
                <a:lnTo>
                  <a:pt x="11708" y="9376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456080" y="3044880"/>
            <a:ext cx="330120" cy="312840"/>
          </a:xfrm>
          <a:custGeom>
            <a:avLst/>
            <a:gdLst/>
            <a:ahLst/>
            <a:rect l="l" t="t" r="r" b="b"/>
            <a:pathLst>
              <a:path w="918" h="870">
                <a:moveTo>
                  <a:pt x="12675" y="8682"/>
                </a:moveTo>
                <a:cubicBezTo>
                  <a:pt x="12533" y="8729"/>
                  <a:pt x="12251" y="8804"/>
                  <a:pt x="12452" y="8979"/>
                </a:cubicBezTo>
                <a:cubicBezTo>
                  <a:pt x="12650" y="9151"/>
                  <a:pt x="12633" y="9108"/>
                  <a:pt x="12502" y="9327"/>
                </a:cubicBezTo>
                <a:cubicBezTo>
                  <a:pt x="12461" y="9327"/>
                  <a:pt x="12419" y="9327"/>
                  <a:pt x="12378" y="9327"/>
                </a:cubicBezTo>
                <a:cubicBezTo>
                  <a:pt x="12442" y="9151"/>
                  <a:pt x="12568" y="9008"/>
                  <a:pt x="12725" y="8880"/>
                </a:cubicBezTo>
              </a:path>
              <a:path w="918" h="870">
                <a:moveTo>
                  <a:pt x="12874" y="8706"/>
                </a:moveTo>
                <a:cubicBezTo>
                  <a:pt x="13083" y="8679"/>
                  <a:pt x="13274" y="8661"/>
                  <a:pt x="13047" y="8905"/>
                </a:cubicBezTo>
                <a:cubicBezTo>
                  <a:pt x="13022" y="8921"/>
                  <a:pt x="12998" y="8938"/>
                  <a:pt x="12973" y="8954"/>
                </a:cubicBezTo>
                <a:cubicBezTo>
                  <a:pt x="13144" y="8995"/>
                  <a:pt x="13348" y="9165"/>
                  <a:pt x="13047" y="9277"/>
                </a:cubicBezTo>
                <a:cubicBezTo>
                  <a:pt x="12890" y="9300"/>
                  <a:pt x="12846" y="9318"/>
                  <a:pt x="12774" y="9227"/>
                </a:cubicBezTo>
              </a:path>
              <a:path w="918" h="870">
                <a:moveTo>
                  <a:pt x="13072" y="8483"/>
                </a:moveTo>
                <a:cubicBezTo>
                  <a:pt x="13196" y="8462"/>
                  <a:pt x="13220" y="8454"/>
                  <a:pt x="13295" y="845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518240" y="2482920"/>
            <a:ext cx="1019160" cy="1027080"/>
          </a:xfrm>
          <a:custGeom>
            <a:avLst/>
            <a:gdLst/>
            <a:ahLst/>
            <a:rect l="l" t="t" r="r" b="b"/>
            <a:pathLst>
              <a:path w="2828" h="2853">
                <a:moveTo>
                  <a:pt x="22151" y="8062"/>
                </a:moveTo>
                <a:cubicBezTo>
                  <a:pt x="22126" y="8201"/>
                  <a:pt x="22087" y="8264"/>
                  <a:pt x="22002" y="8384"/>
                </a:cubicBezTo>
                <a:cubicBezTo>
                  <a:pt x="22133" y="8428"/>
                  <a:pt x="22266" y="8478"/>
                  <a:pt x="22399" y="8508"/>
                </a:cubicBezTo>
              </a:path>
              <a:path w="2828" h="2853">
                <a:moveTo>
                  <a:pt x="22498" y="8086"/>
                </a:moveTo>
                <a:cubicBezTo>
                  <a:pt x="22385" y="8302"/>
                  <a:pt x="22361" y="8545"/>
                  <a:pt x="22250" y="8756"/>
                </a:cubicBezTo>
                <a:cubicBezTo>
                  <a:pt x="22233" y="8773"/>
                  <a:pt x="22217" y="8789"/>
                  <a:pt x="22200" y="8806"/>
                </a:cubicBezTo>
              </a:path>
              <a:path w="2828" h="2853">
                <a:moveTo>
                  <a:pt x="21803" y="9004"/>
                </a:moveTo>
                <a:cubicBezTo>
                  <a:pt x="21752" y="8794"/>
                  <a:pt x="21765" y="8529"/>
                  <a:pt x="21779" y="8310"/>
                </a:cubicBezTo>
                <a:cubicBezTo>
                  <a:pt x="21788" y="8172"/>
                  <a:pt x="21690" y="7993"/>
                  <a:pt x="21803" y="7913"/>
                </a:cubicBezTo>
                <a:cubicBezTo>
                  <a:pt x="22009" y="7766"/>
                  <a:pt x="22584" y="7888"/>
                  <a:pt x="22820" y="7888"/>
                </a:cubicBezTo>
                <a:cubicBezTo>
                  <a:pt x="23094" y="7888"/>
                  <a:pt x="23152" y="7881"/>
                  <a:pt x="23316" y="7913"/>
                </a:cubicBezTo>
              </a:path>
              <a:path w="2828" h="2853">
                <a:moveTo>
                  <a:pt x="21208" y="8285"/>
                </a:moveTo>
                <a:cubicBezTo>
                  <a:pt x="21256" y="8225"/>
                  <a:pt x="21251" y="8232"/>
                  <a:pt x="21233" y="8161"/>
                </a:cubicBezTo>
                <a:cubicBezTo>
                  <a:pt x="21104" y="8135"/>
                  <a:pt x="20904" y="8215"/>
                  <a:pt x="20886" y="8384"/>
                </a:cubicBezTo>
                <a:cubicBezTo>
                  <a:pt x="20859" y="8646"/>
                  <a:pt x="21208" y="8379"/>
                  <a:pt x="21258" y="8334"/>
                </a:cubicBezTo>
                <a:cubicBezTo>
                  <a:pt x="21266" y="8326"/>
                  <a:pt x="21274" y="8318"/>
                  <a:pt x="21282" y="8310"/>
                </a:cubicBezTo>
                <a:cubicBezTo>
                  <a:pt x="21273" y="8451"/>
                  <a:pt x="21251" y="8597"/>
                  <a:pt x="21233" y="8731"/>
                </a:cubicBezTo>
                <a:cubicBezTo>
                  <a:pt x="21233" y="8748"/>
                  <a:pt x="21233" y="8764"/>
                  <a:pt x="21233" y="8781"/>
                </a:cubicBezTo>
              </a:path>
              <a:path w="2828" h="2853">
                <a:moveTo>
                  <a:pt x="22622" y="8731"/>
                </a:moveTo>
                <a:lnTo>
                  <a:pt x="22622" y="8731"/>
                </a:lnTo>
              </a:path>
              <a:path w="2828" h="2853">
                <a:moveTo>
                  <a:pt x="22920" y="7789"/>
                </a:moveTo>
                <a:cubicBezTo>
                  <a:pt x="22920" y="7781"/>
                  <a:pt x="22920" y="7772"/>
                  <a:pt x="22920" y="7764"/>
                </a:cubicBezTo>
              </a:path>
              <a:path w="2828" h="2853">
                <a:moveTo>
                  <a:pt x="23118" y="8334"/>
                </a:moveTo>
                <a:cubicBezTo>
                  <a:pt x="22983" y="8375"/>
                  <a:pt x="22860" y="8456"/>
                  <a:pt x="22820" y="8607"/>
                </a:cubicBezTo>
                <a:cubicBezTo>
                  <a:pt x="22820" y="8690"/>
                  <a:pt x="22820" y="8706"/>
                  <a:pt x="22820" y="8756"/>
                </a:cubicBezTo>
                <a:cubicBezTo>
                  <a:pt x="22986" y="8730"/>
                  <a:pt x="23159" y="8714"/>
                  <a:pt x="23192" y="8533"/>
                </a:cubicBezTo>
                <a:cubicBezTo>
                  <a:pt x="23192" y="8470"/>
                  <a:pt x="23181" y="8446"/>
                  <a:pt x="23118" y="8434"/>
                </a:cubicBezTo>
              </a:path>
              <a:path w="2828" h="2853">
                <a:moveTo>
                  <a:pt x="22870" y="7714"/>
                </a:moveTo>
                <a:cubicBezTo>
                  <a:pt x="22870" y="7739"/>
                  <a:pt x="22870" y="7764"/>
                  <a:pt x="22870" y="7789"/>
                </a:cubicBezTo>
              </a:path>
              <a:path w="2828" h="2853">
                <a:moveTo>
                  <a:pt x="23143" y="7144"/>
                </a:moveTo>
                <a:cubicBezTo>
                  <a:pt x="23129" y="7191"/>
                  <a:pt x="22988" y="7367"/>
                  <a:pt x="23068" y="7417"/>
                </a:cubicBezTo>
                <a:cubicBezTo>
                  <a:pt x="23183" y="7445"/>
                  <a:pt x="23232" y="7450"/>
                  <a:pt x="23316" y="7417"/>
                </a:cubicBezTo>
              </a:path>
              <a:path w="2828" h="2853">
                <a:moveTo>
                  <a:pt x="23416" y="7045"/>
                </a:moveTo>
                <a:cubicBezTo>
                  <a:pt x="23399" y="7260"/>
                  <a:pt x="23371" y="7472"/>
                  <a:pt x="23366" y="7689"/>
                </a:cubicBezTo>
                <a:cubicBezTo>
                  <a:pt x="23366" y="7706"/>
                  <a:pt x="23366" y="7722"/>
                  <a:pt x="23366" y="7739"/>
                </a:cubicBezTo>
              </a:path>
              <a:path w="2828" h="2853">
                <a:moveTo>
                  <a:pt x="22027" y="9748"/>
                </a:moveTo>
                <a:cubicBezTo>
                  <a:pt x="22364" y="9704"/>
                  <a:pt x="22687" y="9590"/>
                  <a:pt x="23019" y="9500"/>
                </a:cubicBezTo>
              </a:path>
              <a:path w="2828" h="2853">
                <a:moveTo>
                  <a:pt x="23515" y="8434"/>
                </a:moveTo>
                <a:cubicBezTo>
                  <a:pt x="23402" y="8573"/>
                  <a:pt x="23380" y="8549"/>
                  <a:pt x="23440" y="8706"/>
                </a:cubicBezTo>
                <a:cubicBezTo>
                  <a:pt x="23672" y="8707"/>
                  <a:pt x="23725" y="8642"/>
                  <a:pt x="23639" y="8434"/>
                </a:cubicBezTo>
              </a:path>
              <a:path w="2828" h="2853">
                <a:moveTo>
                  <a:pt x="23490" y="8930"/>
                </a:moveTo>
                <a:cubicBezTo>
                  <a:pt x="23484" y="9163"/>
                  <a:pt x="23472" y="9392"/>
                  <a:pt x="23465" y="9624"/>
                </a:cubicBezTo>
              </a:path>
              <a:path w="2828" h="2853">
                <a:moveTo>
                  <a:pt x="22969" y="6945"/>
                </a:moveTo>
                <a:cubicBezTo>
                  <a:pt x="23111" y="6922"/>
                  <a:pt x="23245" y="6900"/>
                  <a:pt x="23391" y="6896"/>
                </a:cubicBezTo>
                <a:cubicBezTo>
                  <a:pt x="23416" y="6896"/>
                  <a:pt x="23440" y="6896"/>
                  <a:pt x="23465" y="689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74840" y="4491000"/>
            <a:ext cx="287280" cy="135000"/>
          </a:xfrm>
          <a:custGeom>
            <a:avLst/>
            <a:gdLst/>
            <a:ahLst/>
            <a:rect l="l" t="t" r="r" b="b"/>
            <a:pathLst>
              <a:path w="795" h="373">
                <a:moveTo>
                  <a:pt x="3845" y="12750"/>
                </a:moveTo>
                <a:cubicBezTo>
                  <a:pt x="3837" y="12775"/>
                  <a:pt x="3828" y="12799"/>
                  <a:pt x="3820" y="12824"/>
                </a:cubicBezTo>
              </a:path>
              <a:path w="795" h="373">
                <a:moveTo>
                  <a:pt x="4043" y="12551"/>
                </a:moveTo>
                <a:cubicBezTo>
                  <a:pt x="4106" y="12524"/>
                  <a:pt x="4167" y="12526"/>
                  <a:pt x="4242" y="12526"/>
                </a:cubicBezTo>
                <a:cubicBezTo>
                  <a:pt x="4236" y="12610"/>
                  <a:pt x="4224" y="12690"/>
                  <a:pt x="4217" y="12774"/>
                </a:cubicBezTo>
              </a:path>
              <a:path w="795" h="373">
                <a:moveTo>
                  <a:pt x="4390" y="12551"/>
                </a:moveTo>
                <a:cubicBezTo>
                  <a:pt x="4407" y="12593"/>
                  <a:pt x="4598" y="12623"/>
                  <a:pt x="4614" y="12725"/>
                </a:cubicBezTo>
                <a:cubicBezTo>
                  <a:pt x="4630" y="12823"/>
                  <a:pt x="4500" y="12829"/>
                  <a:pt x="4440" y="12849"/>
                </a:cubicBezTo>
              </a:path>
              <a:path w="795" h="373">
                <a:moveTo>
                  <a:pt x="4415" y="12551"/>
                </a:moveTo>
                <a:cubicBezTo>
                  <a:pt x="4481" y="12513"/>
                  <a:pt x="4514" y="12490"/>
                  <a:pt x="4589" y="1247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902720" y="3241800"/>
            <a:ext cx="384120" cy="187200"/>
          </a:xfrm>
          <a:custGeom>
            <a:avLst/>
            <a:gdLst/>
            <a:ahLst/>
            <a:rect l="l" t="t" r="r" b="b"/>
            <a:pathLst>
              <a:path w="1068" h="522">
                <a:moveTo>
                  <a:pt x="22002" y="9079"/>
                </a:moveTo>
                <a:cubicBezTo>
                  <a:pt x="22141" y="9013"/>
                  <a:pt x="22136" y="8987"/>
                  <a:pt x="22275" y="9029"/>
                </a:cubicBezTo>
                <a:cubicBezTo>
                  <a:pt x="22199" y="9170"/>
                  <a:pt x="22175" y="9173"/>
                  <a:pt x="22027" y="9227"/>
                </a:cubicBezTo>
                <a:cubicBezTo>
                  <a:pt x="22210" y="9228"/>
                  <a:pt x="22367" y="9300"/>
                  <a:pt x="22151" y="9475"/>
                </a:cubicBezTo>
                <a:cubicBezTo>
                  <a:pt x="22047" y="9559"/>
                  <a:pt x="22016" y="9525"/>
                  <a:pt x="21952" y="9451"/>
                </a:cubicBezTo>
              </a:path>
              <a:path w="1068" h="522">
                <a:moveTo>
                  <a:pt x="22721" y="9004"/>
                </a:moveTo>
                <a:cubicBezTo>
                  <a:pt x="22691" y="9130"/>
                  <a:pt x="22663" y="9230"/>
                  <a:pt x="22671" y="9351"/>
                </a:cubicBezTo>
                <a:cubicBezTo>
                  <a:pt x="22876" y="9419"/>
                  <a:pt x="22933" y="9373"/>
                  <a:pt x="23019" y="9178"/>
                </a:cubicBezTo>
                <a:cubicBezTo>
                  <a:pt x="22808" y="9162"/>
                  <a:pt x="22784" y="9286"/>
                  <a:pt x="22721" y="947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2760" y="4946760"/>
            <a:ext cx="9360" cy="36360"/>
          </a:xfrm>
          <a:custGeom>
            <a:avLst/>
            <a:gdLst/>
            <a:ahLst/>
            <a:rect l="l" t="t" r="r" b="b"/>
            <a:pathLst>
              <a:path w="26" h="100">
                <a:moveTo>
                  <a:pt x="1339" y="13742"/>
                </a:moveTo>
                <a:cubicBezTo>
                  <a:pt x="1347" y="13775"/>
                  <a:pt x="1356" y="13808"/>
                  <a:pt x="1364" y="1384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5320" y="4822920"/>
            <a:ext cx="320760" cy="293760"/>
          </a:xfrm>
          <a:custGeom>
            <a:avLst/>
            <a:gdLst/>
            <a:ahLst/>
            <a:rect l="l" t="t" r="r" b="b"/>
            <a:pathLst>
              <a:path w="894" h="819">
                <a:moveTo>
                  <a:pt x="1860" y="13395"/>
                </a:moveTo>
                <a:cubicBezTo>
                  <a:pt x="1793" y="13560"/>
                  <a:pt x="1753" y="13668"/>
                  <a:pt x="1736" y="13841"/>
                </a:cubicBezTo>
                <a:cubicBezTo>
                  <a:pt x="1821" y="13847"/>
                  <a:pt x="2127" y="13813"/>
                  <a:pt x="2084" y="13643"/>
                </a:cubicBezTo>
                <a:cubicBezTo>
                  <a:pt x="2013" y="13572"/>
                  <a:pt x="1993" y="13550"/>
                  <a:pt x="1935" y="13519"/>
                </a:cubicBezTo>
              </a:path>
              <a:path w="894" h="819">
                <a:moveTo>
                  <a:pt x="2059" y="13395"/>
                </a:moveTo>
                <a:cubicBezTo>
                  <a:pt x="2129" y="13395"/>
                  <a:pt x="2337" y="13361"/>
                  <a:pt x="2356" y="13419"/>
                </a:cubicBezTo>
                <a:cubicBezTo>
                  <a:pt x="2401" y="13553"/>
                  <a:pt x="2355" y="13681"/>
                  <a:pt x="2332" y="13816"/>
                </a:cubicBezTo>
              </a:path>
              <a:path w="894" h="819">
                <a:moveTo>
                  <a:pt x="2629" y="13965"/>
                </a:moveTo>
                <a:cubicBezTo>
                  <a:pt x="2603" y="14095"/>
                  <a:pt x="2591" y="14141"/>
                  <a:pt x="2530" y="142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27080" y="4956120"/>
            <a:ext cx="9720" cy="9720"/>
          </a:xfrm>
          <a:custGeom>
            <a:avLst/>
            <a:gdLst/>
            <a:ahLst/>
            <a:rect l="l" t="t" r="r" b="b"/>
            <a:pathLst>
              <a:path w="25" h="25">
                <a:moveTo>
                  <a:pt x="2853" y="13767"/>
                </a:moveTo>
                <a:cubicBezTo>
                  <a:pt x="2861" y="13775"/>
                  <a:pt x="2869" y="13783"/>
                  <a:pt x="2877" y="137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776840"/>
            <a:ext cx="312840" cy="322200"/>
          </a:xfrm>
          <a:custGeom>
            <a:avLst/>
            <a:gdLst/>
            <a:ahLst/>
            <a:rect l="l" t="t" r="r" b="b"/>
            <a:pathLst>
              <a:path w="869" h="893">
                <a:moveTo>
                  <a:pt x="3175" y="13395"/>
                </a:moveTo>
                <a:cubicBezTo>
                  <a:pt x="3250" y="13422"/>
                  <a:pt x="3349" y="13393"/>
                  <a:pt x="3373" y="13494"/>
                </a:cubicBezTo>
                <a:cubicBezTo>
                  <a:pt x="3393" y="13582"/>
                  <a:pt x="3359" y="13682"/>
                  <a:pt x="3349" y="13767"/>
                </a:cubicBezTo>
              </a:path>
              <a:path w="869" h="893">
                <a:moveTo>
                  <a:pt x="3696" y="13320"/>
                </a:moveTo>
                <a:cubicBezTo>
                  <a:pt x="3611" y="13349"/>
                  <a:pt x="3576" y="13384"/>
                  <a:pt x="3547" y="13469"/>
                </a:cubicBezTo>
                <a:cubicBezTo>
                  <a:pt x="3590" y="13483"/>
                  <a:pt x="3902" y="13602"/>
                  <a:pt x="3770" y="13717"/>
                </a:cubicBezTo>
                <a:cubicBezTo>
                  <a:pt x="3729" y="13725"/>
                  <a:pt x="3687" y="13734"/>
                  <a:pt x="3646" y="13742"/>
                </a:cubicBezTo>
              </a:path>
              <a:path w="869" h="893">
                <a:moveTo>
                  <a:pt x="3795" y="13271"/>
                </a:moveTo>
                <a:cubicBezTo>
                  <a:pt x="3836" y="13271"/>
                  <a:pt x="3878" y="13271"/>
                  <a:pt x="3919" y="13271"/>
                </a:cubicBezTo>
              </a:path>
              <a:path w="869" h="893">
                <a:moveTo>
                  <a:pt x="4043" y="13940"/>
                </a:moveTo>
                <a:cubicBezTo>
                  <a:pt x="3997" y="14057"/>
                  <a:pt x="3984" y="14092"/>
                  <a:pt x="3944" y="141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16040" y="491976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4490" y="13667"/>
                </a:moveTo>
                <a:lnTo>
                  <a:pt x="4490" y="13667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704960" y="4776840"/>
            <a:ext cx="295200" cy="304920"/>
          </a:xfrm>
          <a:custGeom>
            <a:avLst/>
            <a:gdLst/>
            <a:ahLst/>
            <a:rect l="l" t="t" r="r" b="b"/>
            <a:pathLst>
              <a:path w="819" h="844">
                <a:moveTo>
                  <a:pt x="4738" y="13271"/>
                </a:moveTo>
                <a:cubicBezTo>
                  <a:pt x="4824" y="13294"/>
                  <a:pt x="4939" y="13305"/>
                  <a:pt x="4961" y="13419"/>
                </a:cubicBezTo>
                <a:cubicBezTo>
                  <a:pt x="4985" y="13542"/>
                  <a:pt x="4932" y="13629"/>
                  <a:pt x="4911" y="13742"/>
                </a:cubicBezTo>
              </a:path>
              <a:path w="819" h="844">
                <a:moveTo>
                  <a:pt x="5060" y="13295"/>
                </a:moveTo>
                <a:cubicBezTo>
                  <a:pt x="5126" y="13276"/>
                  <a:pt x="5253" y="13233"/>
                  <a:pt x="5308" y="13295"/>
                </a:cubicBezTo>
                <a:cubicBezTo>
                  <a:pt x="5399" y="13397"/>
                  <a:pt x="5313" y="13583"/>
                  <a:pt x="5259" y="13692"/>
                </a:cubicBezTo>
                <a:cubicBezTo>
                  <a:pt x="5242" y="13717"/>
                  <a:pt x="5226" y="13742"/>
                  <a:pt x="5209" y="13767"/>
                </a:cubicBezTo>
              </a:path>
              <a:path w="819" h="844">
                <a:moveTo>
                  <a:pt x="5531" y="13791"/>
                </a:moveTo>
                <a:lnTo>
                  <a:pt x="5531" y="13791"/>
                </a:lnTo>
              </a:path>
              <a:path w="819" h="844">
                <a:moveTo>
                  <a:pt x="5556" y="13816"/>
                </a:moveTo>
                <a:cubicBezTo>
                  <a:pt x="5529" y="13990"/>
                  <a:pt x="5520" y="13995"/>
                  <a:pt x="5383" y="1411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52800" y="492912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5978" y="13692"/>
                </a:moveTo>
                <a:lnTo>
                  <a:pt x="5978" y="13692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51080" y="4776840"/>
            <a:ext cx="106200" cy="179280"/>
          </a:xfrm>
          <a:custGeom>
            <a:avLst/>
            <a:gdLst/>
            <a:ahLst/>
            <a:rect l="l" t="t" r="r" b="b"/>
            <a:pathLst>
              <a:path w="298" h="497">
                <a:moveTo>
                  <a:pt x="6449" y="13271"/>
                </a:moveTo>
                <a:cubicBezTo>
                  <a:pt x="6370" y="13277"/>
                  <a:pt x="6324" y="13288"/>
                  <a:pt x="6251" y="13320"/>
                </a:cubicBezTo>
                <a:cubicBezTo>
                  <a:pt x="6318" y="13438"/>
                  <a:pt x="6434" y="13497"/>
                  <a:pt x="6474" y="13643"/>
                </a:cubicBezTo>
                <a:cubicBezTo>
                  <a:pt x="6474" y="13729"/>
                  <a:pt x="6463" y="13760"/>
                  <a:pt x="6375" y="13767"/>
                </a:cubicBezTo>
                <a:cubicBezTo>
                  <a:pt x="6155" y="13745"/>
                  <a:pt x="6357" y="13591"/>
                  <a:pt x="6424" y="13494"/>
                </a:cubicBezTo>
                <a:cubicBezTo>
                  <a:pt x="6489" y="13386"/>
                  <a:pt x="6504" y="13360"/>
                  <a:pt x="6548" y="1329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188200" y="3500280"/>
            <a:ext cx="366840" cy="214560"/>
          </a:xfrm>
          <a:custGeom>
            <a:avLst/>
            <a:gdLst/>
            <a:ahLst/>
            <a:rect l="l" t="t" r="r" b="b"/>
            <a:pathLst>
              <a:path w="1018" h="597">
                <a:moveTo>
                  <a:pt x="22870" y="9723"/>
                </a:moveTo>
                <a:cubicBezTo>
                  <a:pt x="22809" y="9853"/>
                  <a:pt x="22743" y="9959"/>
                  <a:pt x="22771" y="10096"/>
                </a:cubicBezTo>
                <a:cubicBezTo>
                  <a:pt x="22882" y="10096"/>
                  <a:pt x="22925" y="10092"/>
                  <a:pt x="22994" y="10046"/>
                </a:cubicBezTo>
              </a:path>
              <a:path w="1018" h="597">
                <a:moveTo>
                  <a:pt x="23118" y="9798"/>
                </a:moveTo>
                <a:cubicBezTo>
                  <a:pt x="23070" y="9972"/>
                  <a:pt x="23028" y="10142"/>
                  <a:pt x="22994" y="10319"/>
                </a:cubicBezTo>
              </a:path>
              <a:path w="1018" h="597">
                <a:moveTo>
                  <a:pt x="23639" y="9823"/>
                </a:moveTo>
                <a:cubicBezTo>
                  <a:pt x="23509" y="9960"/>
                  <a:pt x="23451" y="10023"/>
                  <a:pt x="23391" y="10195"/>
                </a:cubicBezTo>
                <a:cubicBezTo>
                  <a:pt x="23535" y="10246"/>
                  <a:pt x="23757" y="10253"/>
                  <a:pt x="23763" y="10021"/>
                </a:cubicBezTo>
                <a:cubicBezTo>
                  <a:pt x="23705" y="9905"/>
                  <a:pt x="23671" y="9864"/>
                  <a:pt x="23564" y="984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19080" y="5965920"/>
            <a:ext cx="295200" cy="160200"/>
          </a:xfrm>
          <a:custGeom>
            <a:avLst/>
            <a:gdLst/>
            <a:ahLst/>
            <a:rect l="l" t="t" r="r" b="b"/>
            <a:pathLst>
              <a:path w="819" h="447">
                <a:moveTo>
                  <a:pt x="2555" y="16842"/>
                </a:moveTo>
                <a:cubicBezTo>
                  <a:pt x="2555" y="16910"/>
                  <a:pt x="2559" y="16953"/>
                  <a:pt x="2580" y="17016"/>
                </a:cubicBezTo>
              </a:path>
              <a:path w="819" h="447">
                <a:moveTo>
                  <a:pt x="2927" y="16669"/>
                </a:moveTo>
                <a:cubicBezTo>
                  <a:pt x="2803" y="16706"/>
                  <a:pt x="2814" y="16777"/>
                  <a:pt x="2803" y="16917"/>
                </a:cubicBezTo>
                <a:cubicBezTo>
                  <a:pt x="2860" y="16921"/>
                  <a:pt x="3098" y="16915"/>
                  <a:pt x="3051" y="16768"/>
                </a:cubicBezTo>
                <a:cubicBezTo>
                  <a:pt x="3035" y="16718"/>
                  <a:pt x="2895" y="16718"/>
                  <a:pt x="2853" y="16718"/>
                </a:cubicBezTo>
              </a:path>
              <a:path w="819" h="447">
                <a:moveTo>
                  <a:pt x="3125" y="16594"/>
                </a:moveTo>
                <a:cubicBezTo>
                  <a:pt x="3272" y="16574"/>
                  <a:pt x="3326" y="16511"/>
                  <a:pt x="3373" y="16694"/>
                </a:cubicBezTo>
                <a:cubicBezTo>
                  <a:pt x="3373" y="16785"/>
                  <a:pt x="3373" y="16809"/>
                  <a:pt x="3373" y="1686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12920" y="5973840"/>
            <a:ext cx="71280" cy="241200"/>
          </a:xfrm>
          <a:custGeom>
            <a:avLst/>
            <a:gdLst/>
            <a:ahLst/>
            <a:rect l="l" t="t" r="r" b="b"/>
            <a:pathLst>
              <a:path w="200" h="671">
                <a:moveTo>
                  <a:pt x="3646" y="16594"/>
                </a:moveTo>
                <a:lnTo>
                  <a:pt x="3646" y="16594"/>
                </a:lnTo>
              </a:path>
              <a:path w="200" h="671">
                <a:moveTo>
                  <a:pt x="3820" y="16942"/>
                </a:moveTo>
                <a:cubicBezTo>
                  <a:pt x="3837" y="17083"/>
                  <a:pt x="3825" y="17131"/>
                  <a:pt x="3770" y="1726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17760" y="5956200"/>
            <a:ext cx="161640" cy="125640"/>
          </a:xfrm>
          <a:custGeom>
            <a:avLst/>
            <a:gdLst/>
            <a:ahLst/>
            <a:rect l="l" t="t" r="r" b="b"/>
            <a:pathLst>
              <a:path w="447" h="348">
                <a:moveTo>
                  <a:pt x="4266" y="16892"/>
                </a:moveTo>
                <a:cubicBezTo>
                  <a:pt x="4250" y="16892"/>
                  <a:pt x="4233" y="16892"/>
                  <a:pt x="4217" y="16892"/>
                </a:cubicBezTo>
              </a:path>
              <a:path w="447" h="348">
                <a:moveTo>
                  <a:pt x="4390" y="16545"/>
                </a:moveTo>
                <a:cubicBezTo>
                  <a:pt x="4473" y="16545"/>
                  <a:pt x="4555" y="16545"/>
                  <a:pt x="4638" y="16545"/>
                </a:cubicBezTo>
                <a:cubicBezTo>
                  <a:pt x="4653" y="16658"/>
                  <a:pt x="4663" y="16754"/>
                  <a:pt x="4663" y="1686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76240" y="5919840"/>
            <a:ext cx="223920" cy="162000"/>
          </a:xfrm>
          <a:custGeom>
            <a:avLst/>
            <a:gdLst/>
            <a:ahLst/>
            <a:rect l="l" t="t" r="r" b="b"/>
            <a:pathLst>
              <a:path w="621" h="447">
                <a:moveTo>
                  <a:pt x="4936" y="16470"/>
                </a:moveTo>
                <a:cubicBezTo>
                  <a:pt x="4988" y="16470"/>
                  <a:pt x="5006" y="16469"/>
                  <a:pt x="5035" y="16446"/>
                </a:cubicBezTo>
                <a:cubicBezTo>
                  <a:pt x="5019" y="16558"/>
                  <a:pt x="5037" y="16543"/>
                  <a:pt x="4961" y="16619"/>
                </a:cubicBezTo>
                <a:cubicBezTo>
                  <a:pt x="5042" y="16619"/>
                  <a:pt x="5139" y="16597"/>
                  <a:pt x="5135" y="16718"/>
                </a:cubicBezTo>
                <a:cubicBezTo>
                  <a:pt x="5131" y="16845"/>
                  <a:pt x="5042" y="16874"/>
                  <a:pt x="4936" y="16892"/>
                </a:cubicBezTo>
              </a:path>
              <a:path w="621" h="447">
                <a:moveTo>
                  <a:pt x="5234" y="16495"/>
                </a:moveTo>
                <a:cubicBezTo>
                  <a:pt x="5273" y="16476"/>
                  <a:pt x="5407" y="16386"/>
                  <a:pt x="5407" y="16495"/>
                </a:cubicBezTo>
                <a:cubicBezTo>
                  <a:pt x="5385" y="16563"/>
                  <a:pt x="5384" y="16584"/>
                  <a:pt x="5333" y="16594"/>
                </a:cubicBezTo>
                <a:cubicBezTo>
                  <a:pt x="5424" y="16619"/>
                  <a:pt x="5610" y="16644"/>
                  <a:pt x="5556" y="16793"/>
                </a:cubicBezTo>
                <a:cubicBezTo>
                  <a:pt x="5516" y="16904"/>
                  <a:pt x="5411" y="16872"/>
                  <a:pt x="5333" y="1686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125800" y="6081840"/>
            <a:ext cx="1440" cy="88920"/>
          </a:xfrm>
          <a:custGeom>
            <a:avLst/>
            <a:gdLst/>
            <a:ahLst/>
            <a:rect l="l" t="t" r="r" b="b"/>
            <a:pathLst>
              <a:path w="1" h="249">
                <a:moveTo>
                  <a:pt x="5904" y="16892"/>
                </a:moveTo>
                <a:cubicBezTo>
                  <a:pt x="5904" y="16975"/>
                  <a:pt x="5904" y="17057"/>
                  <a:pt x="5904" y="1714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14720" y="5919840"/>
            <a:ext cx="411120" cy="277920"/>
          </a:xfrm>
          <a:custGeom>
            <a:avLst/>
            <a:gdLst/>
            <a:ahLst/>
            <a:rect l="l" t="t" r="r" b="b"/>
            <a:pathLst>
              <a:path w="1142" h="769">
                <a:moveTo>
                  <a:pt x="6152" y="16495"/>
                </a:moveTo>
                <a:cubicBezTo>
                  <a:pt x="6204" y="16615"/>
                  <a:pt x="6243" y="16728"/>
                  <a:pt x="6300" y="16842"/>
                </a:cubicBezTo>
              </a:path>
              <a:path w="1142" h="769">
                <a:moveTo>
                  <a:pt x="6524" y="16743"/>
                </a:moveTo>
                <a:lnTo>
                  <a:pt x="6524" y="16743"/>
                </a:lnTo>
              </a:path>
              <a:path w="1142" h="769">
                <a:moveTo>
                  <a:pt x="6747" y="16495"/>
                </a:moveTo>
                <a:cubicBezTo>
                  <a:pt x="6832" y="16477"/>
                  <a:pt x="6913" y="16464"/>
                  <a:pt x="6995" y="16446"/>
                </a:cubicBezTo>
                <a:cubicBezTo>
                  <a:pt x="7072" y="16429"/>
                  <a:pt x="7045" y="16721"/>
                  <a:pt x="7045" y="16768"/>
                </a:cubicBezTo>
              </a:path>
              <a:path w="1142" h="769">
                <a:moveTo>
                  <a:pt x="7293" y="16867"/>
                </a:moveTo>
                <a:cubicBezTo>
                  <a:pt x="7293" y="16892"/>
                  <a:pt x="7293" y="16917"/>
                  <a:pt x="7293" y="16942"/>
                </a:cubicBezTo>
              </a:path>
              <a:path w="1142" h="769">
                <a:moveTo>
                  <a:pt x="7243" y="16917"/>
                </a:moveTo>
                <a:cubicBezTo>
                  <a:pt x="7243" y="17067"/>
                  <a:pt x="7242" y="17084"/>
                  <a:pt x="7169" y="1721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741760" y="5848200"/>
            <a:ext cx="465120" cy="216000"/>
          </a:xfrm>
          <a:custGeom>
            <a:avLst/>
            <a:gdLst/>
            <a:ahLst/>
            <a:rect l="l" t="t" r="r" b="b"/>
            <a:pathLst>
              <a:path w="1291" h="596">
                <a:moveTo>
                  <a:pt x="7615" y="16446"/>
                </a:moveTo>
                <a:cubicBezTo>
                  <a:pt x="7701" y="16446"/>
                  <a:pt x="7858" y="16435"/>
                  <a:pt x="7813" y="16594"/>
                </a:cubicBezTo>
                <a:cubicBezTo>
                  <a:pt x="7793" y="16666"/>
                  <a:pt x="7714" y="16758"/>
                  <a:pt x="7665" y="16818"/>
                </a:cubicBezTo>
                <a:cubicBezTo>
                  <a:pt x="7761" y="16830"/>
                  <a:pt x="7817" y="16827"/>
                  <a:pt x="7913" y="16818"/>
                </a:cubicBezTo>
              </a:path>
              <a:path w="1291" h="596">
                <a:moveTo>
                  <a:pt x="8186" y="16396"/>
                </a:moveTo>
                <a:cubicBezTo>
                  <a:pt x="8255" y="16382"/>
                  <a:pt x="8470" y="16315"/>
                  <a:pt x="8384" y="16470"/>
                </a:cubicBezTo>
                <a:cubicBezTo>
                  <a:pt x="8367" y="16487"/>
                  <a:pt x="8351" y="16503"/>
                  <a:pt x="8334" y="16520"/>
                </a:cubicBezTo>
                <a:cubicBezTo>
                  <a:pt x="8397" y="16520"/>
                  <a:pt x="8564" y="16527"/>
                  <a:pt x="8533" y="16644"/>
                </a:cubicBezTo>
                <a:cubicBezTo>
                  <a:pt x="8521" y="16688"/>
                  <a:pt x="8444" y="16703"/>
                  <a:pt x="8409" y="16718"/>
                </a:cubicBezTo>
              </a:path>
              <a:path w="1291" h="596">
                <a:moveTo>
                  <a:pt x="8706" y="16297"/>
                </a:moveTo>
                <a:cubicBezTo>
                  <a:pt x="8885" y="16214"/>
                  <a:pt x="8843" y="16284"/>
                  <a:pt x="8781" y="16421"/>
                </a:cubicBezTo>
                <a:cubicBezTo>
                  <a:pt x="8764" y="16429"/>
                  <a:pt x="8748" y="16438"/>
                  <a:pt x="8731" y="16446"/>
                </a:cubicBezTo>
                <a:cubicBezTo>
                  <a:pt x="8827" y="16425"/>
                  <a:pt x="8933" y="16385"/>
                  <a:pt x="8880" y="16520"/>
                </a:cubicBezTo>
                <a:cubicBezTo>
                  <a:pt x="8843" y="16615"/>
                  <a:pt x="8768" y="16615"/>
                  <a:pt x="8682" y="16644"/>
                </a:cubicBezTo>
              </a:path>
              <a:path w="1291" h="596">
                <a:moveTo>
                  <a:pt x="8136" y="16842"/>
                </a:moveTo>
                <a:cubicBezTo>
                  <a:pt x="8091" y="16842"/>
                  <a:pt x="8078" y="16846"/>
                  <a:pt x="8062" y="1681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36920" y="5643720"/>
            <a:ext cx="71280" cy="134640"/>
          </a:xfrm>
          <a:custGeom>
            <a:avLst/>
            <a:gdLst/>
            <a:ahLst/>
            <a:rect l="l" t="t" r="r" b="b"/>
            <a:pathLst>
              <a:path w="199" h="373">
                <a:moveTo>
                  <a:pt x="7045" y="15726"/>
                </a:moveTo>
                <a:cubicBezTo>
                  <a:pt x="7053" y="15710"/>
                  <a:pt x="7061" y="15693"/>
                  <a:pt x="7069" y="15677"/>
                </a:cubicBezTo>
                <a:cubicBezTo>
                  <a:pt x="7129" y="15795"/>
                  <a:pt x="7215" y="15925"/>
                  <a:pt x="7243" y="1604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741760" y="5616720"/>
            <a:ext cx="133200" cy="98280"/>
          </a:xfrm>
          <a:custGeom>
            <a:avLst/>
            <a:gdLst/>
            <a:ahLst/>
            <a:rect l="l" t="t" r="r" b="b"/>
            <a:pathLst>
              <a:path w="373" h="274">
                <a:moveTo>
                  <a:pt x="7615" y="15875"/>
                </a:moveTo>
                <a:lnTo>
                  <a:pt x="7615" y="15875"/>
                </a:lnTo>
              </a:path>
              <a:path w="373" h="274">
                <a:moveTo>
                  <a:pt x="7689" y="15677"/>
                </a:moveTo>
                <a:cubicBezTo>
                  <a:pt x="7762" y="15659"/>
                  <a:pt x="7839" y="15628"/>
                  <a:pt x="7913" y="15602"/>
                </a:cubicBezTo>
                <a:cubicBezTo>
                  <a:pt x="7943" y="15700"/>
                  <a:pt x="7959" y="15782"/>
                  <a:pt x="7987" y="1587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41280" y="6367320"/>
            <a:ext cx="322560" cy="276480"/>
          </a:xfrm>
          <a:custGeom>
            <a:avLst/>
            <a:gdLst/>
            <a:ahLst/>
            <a:rect l="l" t="t" r="r" b="b"/>
            <a:pathLst>
              <a:path w="894" h="770">
                <a:moveTo>
                  <a:pt x="4341" y="18231"/>
                </a:moveTo>
                <a:cubicBezTo>
                  <a:pt x="4317" y="18350"/>
                  <a:pt x="4311" y="18387"/>
                  <a:pt x="4266" y="18455"/>
                </a:cubicBezTo>
              </a:path>
              <a:path w="894" h="770">
                <a:moveTo>
                  <a:pt x="3448" y="18231"/>
                </a:moveTo>
                <a:lnTo>
                  <a:pt x="3448" y="18231"/>
                </a:lnTo>
              </a:path>
              <a:path w="894" h="770">
                <a:moveTo>
                  <a:pt x="3646" y="17884"/>
                </a:moveTo>
                <a:cubicBezTo>
                  <a:pt x="3630" y="18061"/>
                  <a:pt x="3595" y="18082"/>
                  <a:pt x="3721" y="18182"/>
                </a:cubicBezTo>
                <a:cubicBezTo>
                  <a:pt x="3838" y="18135"/>
                  <a:pt x="4014" y="18030"/>
                  <a:pt x="3820" y="17909"/>
                </a:cubicBezTo>
                <a:cubicBezTo>
                  <a:pt x="3787" y="17901"/>
                  <a:pt x="3754" y="17892"/>
                  <a:pt x="3721" y="17884"/>
                </a:cubicBezTo>
              </a:path>
              <a:path w="894" h="770">
                <a:moveTo>
                  <a:pt x="3894" y="17711"/>
                </a:moveTo>
                <a:cubicBezTo>
                  <a:pt x="3990" y="17682"/>
                  <a:pt x="4150" y="17628"/>
                  <a:pt x="4167" y="17785"/>
                </a:cubicBezTo>
                <a:cubicBezTo>
                  <a:pt x="4179" y="17896"/>
                  <a:pt x="4142" y="17990"/>
                  <a:pt x="4167" y="1810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724040" y="6296040"/>
            <a:ext cx="438120" cy="231840"/>
          </a:xfrm>
          <a:custGeom>
            <a:avLst/>
            <a:gdLst/>
            <a:ahLst/>
            <a:rect l="l" t="t" r="r" b="b"/>
            <a:pathLst>
              <a:path w="1217" h="646">
                <a:moveTo>
                  <a:pt x="6003" y="17909"/>
                </a:moveTo>
                <a:cubicBezTo>
                  <a:pt x="6003" y="17942"/>
                  <a:pt x="6003" y="17975"/>
                  <a:pt x="6003" y="18008"/>
                </a:cubicBezTo>
              </a:path>
              <a:path w="1217" h="646">
                <a:moveTo>
                  <a:pt x="4787" y="18132"/>
                </a:moveTo>
                <a:lnTo>
                  <a:pt x="4787" y="18132"/>
                </a:lnTo>
              </a:path>
              <a:path w="1217" h="646">
                <a:moveTo>
                  <a:pt x="4812" y="17785"/>
                </a:moveTo>
                <a:cubicBezTo>
                  <a:pt x="4866" y="17746"/>
                  <a:pt x="4925" y="17716"/>
                  <a:pt x="4986" y="17686"/>
                </a:cubicBezTo>
                <a:cubicBezTo>
                  <a:pt x="5007" y="17806"/>
                  <a:pt x="5011" y="17910"/>
                  <a:pt x="5011" y="18033"/>
                </a:cubicBezTo>
              </a:path>
              <a:path w="1217" h="646">
                <a:moveTo>
                  <a:pt x="5110" y="17636"/>
                </a:moveTo>
                <a:cubicBezTo>
                  <a:pt x="5140" y="17625"/>
                  <a:pt x="5298" y="17548"/>
                  <a:pt x="5333" y="17587"/>
                </a:cubicBezTo>
                <a:cubicBezTo>
                  <a:pt x="5399" y="17663"/>
                  <a:pt x="5327" y="17710"/>
                  <a:pt x="5283" y="17760"/>
                </a:cubicBezTo>
                <a:cubicBezTo>
                  <a:pt x="5403" y="17730"/>
                  <a:pt x="5589" y="17731"/>
                  <a:pt x="5457" y="17909"/>
                </a:cubicBezTo>
                <a:cubicBezTo>
                  <a:pt x="5383" y="17983"/>
                  <a:pt x="5359" y="18007"/>
                  <a:pt x="5283" y="18008"/>
                </a:cubicBezTo>
              </a:path>
              <a:path w="1217" h="646">
                <a:moveTo>
                  <a:pt x="5457" y="17537"/>
                </a:moveTo>
                <a:cubicBezTo>
                  <a:pt x="5557" y="17497"/>
                  <a:pt x="5587" y="17457"/>
                  <a:pt x="5606" y="17537"/>
                </a:cubicBezTo>
                <a:cubicBezTo>
                  <a:pt x="5565" y="17701"/>
                  <a:pt x="5625" y="17631"/>
                  <a:pt x="5804" y="17661"/>
                </a:cubicBezTo>
                <a:cubicBezTo>
                  <a:pt x="5749" y="17761"/>
                  <a:pt x="5711" y="17824"/>
                  <a:pt x="5606" y="1785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76640" y="6215040"/>
            <a:ext cx="223560" cy="322200"/>
          </a:xfrm>
          <a:custGeom>
            <a:avLst/>
            <a:gdLst/>
            <a:ahLst/>
            <a:rect l="l" t="t" r="r" b="b"/>
            <a:pathLst>
              <a:path w="621" h="894">
                <a:moveTo>
                  <a:pt x="6325" y="17363"/>
                </a:moveTo>
                <a:cubicBezTo>
                  <a:pt x="6325" y="17447"/>
                  <a:pt x="6327" y="17481"/>
                  <a:pt x="6350" y="17537"/>
                </a:cubicBezTo>
              </a:path>
              <a:path w="621" h="894">
                <a:moveTo>
                  <a:pt x="6548" y="17289"/>
                </a:moveTo>
                <a:cubicBezTo>
                  <a:pt x="6726" y="17244"/>
                  <a:pt x="6708" y="17273"/>
                  <a:pt x="6697" y="17438"/>
                </a:cubicBezTo>
                <a:cubicBezTo>
                  <a:pt x="6697" y="17463"/>
                  <a:pt x="6697" y="17487"/>
                  <a:pt x="6697" y="17512"/>
                </a:cubicBezTo>
              </a:path>
              <a:path w="621" h="894">
                <a:moveTo>
                  <a:pt x="6375" y="17735"/>
                </a:moveTo>
                <a:cubicBezTo>
                  <a:pt x="6542" y="17684"/>
                  <a:pt x="6700" y="17630"/>
                  <a:pt x="6871" y="17611"/>
                </a:cubicBezTo>
              </a:path>
              <a:path w="621" h="894">
                <a:moveTo>
                  <a:pt x="6524" y="17909"/>
                </a:moveTo>
                <a:cubicBezTo>
                  <a:pt x="6504" y="17992"/>
                  <a:pt x="6485" y="18073"/>
                  <a:pt x="6474" y="18157"/>
                </a:cubicBezTo>
              </a:path>
              <a:path w="621" h="894">
                <a:moveTo>
                  <a:pt x="6796" y="17835"/>
                </a:moveTo>
                <a:cubicBezTo>
                  <a:pt x="6767" y="17900"/>
                  <a:pt x="6671" y="18148"/>
                  <a:pt x="6871" y="18033"/>
                </a:cubicBezTo>
                <a:cubicBezTo>
                  <a:pt x="6954" y="17986"/>
                  <a:pt x="6936" y="17928"/>
                  <a:pt x="6921" y="1785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741760" y="6446880"/>
            <a:ext cx="1440" cy="46080"/>
          </a:xfrm>
          <a:custGeom>
            <a:avLst/>
            <a:gdLst/>
            <a:ahLst/>
            <a:rect l="l" t="t" r="r" b="b"/>
            <a:pathLst>
              <a:path w="1" h="125">
                <a:moveTo>
                  <a:pt x="7615" y="17909"/>
                </a:moveTo>
                <a:cubicBezTo>
                  <a:pt x="7615" y="17950"/>
                  <a:pt x="7615" y="17992"/>
                  <a:pt x="7615" y="1803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884320" y="6205680"/>
            <a:ext cx="214560" cy="349200"/>
          </a:xfrm>
          <a:custGeom>
            <a:avLst/>
            <a:gdLst/>
            <a:ahLst/>
            <a:rect l="l" t="t" r="r" b="b"/>
            <a:pathLst>
              <a:path w="596" h="969">
                <a:moveTo>
                  <a:pt x="8012" y="17314"/>
                </a:moveTo>
                <a:cubicBezTo>
                  <a:pt x="8107" y="17282"/>
                  <a:pt x="8213" y="17290"/>
                  <a:pt x="8310" y="17264"/>
                </a:cubicBezTo>
                <a:cubicBezTo>
                  <a:pt x="8437" y="17230"/>
                  <a:pt x="8316" y="17459"/>
                  <a:pt x="8285" y="17537"/>
                </a:cubicBezTo>
              </a:path>
              <a:path w="596" h="969">
                <a:moveTo>
                  <a:pt x="8235" y="17661"/>
                </a:moveTo>
                <a:cubicBezTo>
                  <a:pt x="8358" y="17624"/>
                  <a:pt x="8482" y="17583"/>
                  <a:pt x="8607" y="17562"/>
                </a:cubicBezTo>
              </a:path>
              <a:path w="596" h="969">
                <a:moveTo>
                  <a:pt x="8310" y="17835"/>
                </a:moveTo>
                <a:cubicBezTo>
                  <a:pt x="8404" y="17808"/>
                  <a:pt x="8620" y="17699"/>
                  <a:pt x="8483" y="17884"/>
                </a:cubicBezTo>
                <a:cubicBezTo>
                  <a:pt x="8458" y="17909"/>
                  <a:pt x="8434" y="17934"/>
                  <a:pt x="8409" y="17959"/>
                </a:cubicBezTo>
                <a:cubicBezTo>
                  <a:pt x="8507" y="17934"/>
                  <a:pt x="8539" y="17926"/>
                  <a:pt x="8607" y="17934"/>
                </a:cubicBezTo>
                <a:cubicBezTo>
                  <a:pt x="8607" y="18110"/>
                  <a:pt x="8577" y="18105"/>
                  <a:pt x="8434" y="1820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759280" y="3152880"/>
            <a:ext cx="768600" cy="490320"/>
          </a:xfrm>
          <a:custGeom>
            <a:avLst/>
            <a:gdLst/>
            <a:ahLst/>
            <a:rect l="l" t="t" r="r" b="b"/>
            <a:pathLst>
              <a:path w="2134" h="1365">
                <a:moveTo>
                  <a:pt x="16297" y="9252"/>
                </a:moveTo>
                <a:cubicBezTo>
                  <a:pt x="16432" y="9178"/>
                  <a:pt x="16520" y="9122"/>
                  <a:pt x="16669" y="9103"/>
                </a:cubicBezTo>
                <a:cubicBezTo>
                  <a:pt x="16689" y="9381"/>
                  <a:pt x="16439" y="9562"/>
                  <a:pt x="16272" y="9773"/>
                </a:cubicBezTo>
                <a:cubicBezTo>
                  <a:pt x="16180" y="9890"/>
                  <a:pt x="16105" y="10027"/>
                  <a:pt x="15999" y="10120"/>
                </a:cubicBezTo>
                <a:cubicBezTo>
                  <a:pt x="16269" y="9991"/>
                  <a:pt x="16423" y="9903"/>
                  <a:pt x="16718" y="9971"/>
                </a:cubicBezTo>
                <a:cubicBezTo>
                  <a:pt x="16743" y="9979"/>
                  <a:pt x="16768" y="9988"/>
                  <a:pt x="16793" y="9996"/>
                </a:cubicBezTo>
              </a:path>
              <a:path w="2134" h="1365">
                <a:moveTo>
                  <a:pt x="17190" y="9748"/>
                </a:moveTo>
                <a:cubicBezTo>
                  <a:pt x="17068" y="9797"/>
                  <a:pt x="17090" y="9895"/>
                  <a:pt x="17140" y="9847"/>
                </a:cubicBezTo>
                <a:cubicBezTo>
                  <a:pt x="17132" y="9839"/>
                  <a:pt x="17123" y="9831"/>
                  <a:pt x="17115" y="9823"/>
                </a:cubicBezTo>
              </a:path>
              <a:path w="2134" h="1365">
                <a:moveTo>
                  <a:pt x="17661" y="9227"/>
                </a:moveTo>
                <a:cubicBezTo>
                  <a:pt x="17694" y="9227"/>
                  <a:pt x="17710" y="9227"/>
                  <a:pt x="17735" y="9227"/>
                </a:cubicBezTo>
                <a:cubicBezTo>
                  <a:pt x="17712" y="9281"/>
                  <a:pt x="17549" y="9532"/>
                  <a:pt x="17711" y="9550"/>
                </a:cubicBezTo>
                <a:cubicBezTo>
                  <a:pt x="17861" y="9525"/>
                  <a:pt x="17913" y="9516"/>
                  <a:pt x="18008" y="9475"/>
                </a:cubicBezTo>
              </a:path>
              <a:path w="2134" h="1365">
                <a:moveTo>
                  <a:pt x="18033" y="9128"/>
                </a:moveTo>
                <a:cubicBezTo>
                  <a:pt x="17952" y="9423"/>
                  <a:pt x="17897" y="9720"/>
                  <a:pt x="17835" y="10021"/>
                </a:cubicBezTo>
              </a:path>
              <a:path w="2134" h="1365">
                <a:moveTo>
                  <a:pt x="17760" y="8806"/>
                </a:moveTo>
                <a:cubicBezTo>
                  <a:pt x="17891" y="8806"/>
                  <a:pt x="18005" y="8790"/>
                  <a:pt x="18132" y="87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98720" y="5062680"/>
            <a:ext cx="142560" cy="331560"/>
          </a:xfrm>
          <a:custGeom>
            <a:avLst/>
            <a:gdLst/>
            <a:ahLst/>
            <a:rect l="l" t="t" r="r" b="b"/>
            <a:pathLst>
              <a:path w="398" h="919">
                <a:moveTo>
                  <a:pt x="3150" y="14163"/>
                </a:moveTo>
                <a:cubicBezTo>
                  <a:pt x="3194" y="14098"/>
                  <a:pt x="3200" y="14079"/>
                  <a:pt x="3249" y="14064"/>
                </a:cubicBezTo>
                <a:cubicBezTo>
                  <a:pt x="3368" y="14132"/>
                  <a:pt x="3262" y="14147"/>
                  <a:pt x="3349" y="14213"/>
                </a:cubicBezTo>
                <a:cubicBezTo>
                  <a:pt x="3357" y="14221"/>
                  <a:pt x="3365" y="14230"/>
                  <a:pt x="3373" y="14238"/>
                </a:cubicBezTo>
                <a:cubicBezTo>
                  <a:pt x="3341" y="14367"/>
                  <a:pt x="3271" y="14371"/>
                  <a:pt x="3150" y="14362"/>
                </a:cubicBezTo>
              </a:path>
              <a:path w="398" h="919">
                <a:moveTo>
                  <a:pt x="3125" y="14486"/>
                </a:moveTo>
                <a:cubicBezTo>
                  <a:pt x="3291" y="14486"/>
                  <a:pt x="3340" y="14486"/>
                  <a:pt x="3448" y="14486"/>
                </a:cubicBezTo>
              </a:path>
              <a:path w="398" h="919">
                <a:moveTo>
                  <a:pt x="3125" y="14660"/>
                </a:moveTo>
                <a:cubicBezTo>
                  <a:pt x="3036" y="14799"/>
                  <a:pt x="3001" y="14783"/>
                  <a:pt x="3150" y="14808"/>
                </a:cubicBezTo>
              </a:path>
              <a:path w="398" h="919">
                <a:moveTo>
                  <a:pt x="3299" y="14660"/>
                </a:moveTo>
                <a:cubicBezTo>
                  <a:pt x="3277" y="14769"/>
                  <a:pt x="3255" y="14875"/>
                  <a:pt x="3225" y="1498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626160" y="4010040"/>
            <a:ext cx="133560" cy="249120"/>
          </a:xfrm>
          <a:custGeom>
            <a:avLst/>
            <a:gdLst/>
            <a:ahLst/>
            <a:rect l="l" t="t" r="r" b="b"/>
            <a:pathLst>
              <a:path w="373" h="696">
                <a:moveTo>
                  <a:pt x="18479" y="11311"/>
                </a:moveTo>
                <a:cubicBezTo>
                  <a:pt x="18515" y="11365"/>
                  <a:pt x="18446" y="11501"/>
                  <a:pt x="18405" y="11584"/>
                </a:cubicBezTo>
                <a:cubicBezTo>
                  <a:pt x="18501" y="11584"/>
                  <a:pt x="18584" y="11596"/>
                  <a:pt x="18678" y="11609"/>
                </a:cubicBezTo>
              </a:path>
              <a:path w="373" h="696">
                <a:moveTo>
                  <a:pt x="18777" y="11137"/>
                </a:moveTo>
                <a:cubicBezTo>
                  <a:pt x="18724" y="11371"/>
                  <a:pt x="18688" y="11593"/>
                  <a:pt x="18678" y="1183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180200" y="3946680"/>
            <a:ext cx="473040" cy="250560"/>
          </a:xfrm>
          <a:custGeom>
            <a:avLst/>
            <a:gdLst/>
            <a:ahLst/>
            <a:rect l="l" t="t" r="r" b="b"/>
            <a:pathLst>
              <a:path w="1316" h="695">
                <a:moveTo>
                  <a:pt x="19993" y="11162"/>
                </a:moveTo>
                <a:cubicBezTo>
                  <a:pt x="19911" y="11352"/>
                  <a:pt x="19959" y="11337"/>
                  <a:pt x="20141" y="11286"/>
                </a:cubicBezTo>
              </a:path>
              <a:path w="1316" h="695">
                <a:moveTo>
                  <a:pt x="20191" y="11013"/>
                </a:moveTo>
                <a:cubicBezTo>
                  <a:pt x="20180" y="11199"/>
                  <a:pt x="20170" y="11401"/>
                  <a:pt x="20141" y="11584"/>
                </a:cubicBezTo>
                <a:cubicBezTo>
                  <a:pt x="20133" y="11609"/>
                  <a:pt x="20125" y="11633"/>
                  <a:pt x="20117" y="11658"/>
                </a:cubicBezTo>
              </a:path>
              <a:path w="1316" h="695">
                <a:moveTo>
                  <a:pt x="20389" y="11509"/>
                </a:moveTo>
                <a:lnTo>
                  <a:pt x="20389" y="11509"/>
                </a:lnTo>
              </a:path>
              <a:path w="1316" h="695">
                <a:moveTo>
                  <a:pt x="20638" y="11063"/>
                </a:moveTo>
                <a:cubicBezTo>
                  <a:pt x="20579" y="11239"/>
                  <a:pt x="20528" y="11368"/>
                  <a:pt x="20588" y="11534"/>
                </a:cubicBezTo>
                <a:cubicBezTo>
                  <a:pt x="20640" y="11541"/>
                  <a:pt x="21012" y="11450"/>
                  <a:pt x="20886" y="11336"/>
                </a:cubicBezTo>
                <a:cubicBezTo>
                  <a:pt x="20791" y="11250"/>
                  <a:pt x="20726" y="11498"/>
                  <a:pt x="20712" y="11534"/>
                </a:cubicBezTo>
              </a:path>
              <a:path w="1316" h="695">
                <a:moveTo>
                  <a:pt x="21010" y="10964"/>
                </a:moveTo>
                <a:cubicBezTo>
                  <a:pt x="20953" y="11156"/>
                  <a:pt x="20925" y="11288"/>
                  <a:pt x="20960" y="11485"/>
                </a:cubicBezTo>
                <a:cubicBezTo>
                  <a:pt x="21120" y="11469"/>
                  <a:pt x="21177" y="11418"/>
                  <a:pt x="21258" y="11286"/>
                </a:cubicBezTo>
                <a:cubicBezTo>
                  <a:pt x="21108" y="11253"/>
                  <a:pt x="21118" y="11322"/>
                  <a:pt x="21109" y="1146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22960" y="4545000"/>
            <a:ext cx="1204920" cy="312840"/>
          </a:xfrm>
          <a:custGeom>
            <a:avLst/>
            <a:gdLst/>
            <a:ahLst/>
            <a:rect l="l" t="t" r="r" b="b"/>
            <a:pathLst>
              <a:path w="3349" h="869">
                <a:moveTo>
                  <a:pt x="14858" y="12898"/>
                </a:moveTo>
                <a:cubicBezTo>
                  <a:pt x="14832" y="12874"/>
                  <a:pt x="14797" y="12989"/>
                  <a:pt x="14784" y="13047"/>
                </a:cubicBezTo>
                <a:cubicBezTo>
                  <a:pt x="14887" y="13040"/>
                  <a:pt x="14980" y="13021"/>
                  <a:pt x="15081" y="12998"/>
                </a:cubicBezTo>
              </a:path>
              <a:path w="3349" h="869">
                <a:moveTo>
                  <a:pt x="15081" y="12799"/>
                </a:moveTo>
                <a:cubicBezTo>
                  <a:pt x="15066" y="12949"/>
                  <a:pt x="15040" y="13095"/>
                  <a:pt x="15032" y="13246"/>
                </a:cubicBezTo>
              </a:path>
              <a:path w="3349" h="869">
                <a:moveTo>
                  <a:pt x="15329" y="12923"/>
                </a:moveTo>
                <a:cubicBezTo>
                  <a:pt x="15350" y="13066"/>
                  <a:pt x="15350" y="13175"/>
                  <a:pt x="15329" y="13320"/>
                </a:cubicBezTo>
              </a:path>
              <a:path w="3349" h="869">
                <a:moveTo>
                  <a:pt x="15280" y="12725"/>
                </a:moveTo>
                <a:lnTo>
                  <a:pt x="15280" y="12725"/>
                </a:lnTo>
              </a:path>
              <a:path w="3349" h="869">
                <a:moveTo>
                  <a:pt x="15577" y="12774"/>
                </a:moveTo>
                <a:cubicBezTo>
                  <a:pt x="15621" y="12907"/>
                  <a:pt x="15572" y="12931"/>
                  <a:pt x="15726" y="12948"/>
                </a:cubicBezTo>
                <a:cubicBezTo>
                  <a:pt x="15768" y="12953"/>
                  <a:pt x="15809" y="12930"/>
                  <a:pt x="15850" y="12923"/>
                </a:cubicBezTo>
              </a:path>
              <a:path w="3349" h="869">
                <a:moveTo>
                  <a:pt x="15825" y="12700"/>
                </a:moveTo>
                <a:cubicBezTo>
                  <a:pt x="15825" y="12852"/>
                  <a:pt x="15839" y="13026"/>
                  <a:pt x="15825" y="13171"/>
                </a:cubicBezTo>
                <a:cubicBezTo>
                  <a:pt x="15817" y="13188"/>
                  <a:pt x="15809" y="13204"/>
                  <a:pt x="15801" y="13221"/>
                </a:cubicBezTo>
              </a:path>
              <a:path w="3349" h="869">
                <a:moveTo>
                  <a:pt x="16049" y="13122"/>
                </a:moveTo>
                <a:lnTo>
                  <a:pt x="16049" y="13122"/>
                </a:lnTo>
              </a:path>
              <a:path w="3349" h="869">
                <a:moveTo>
                  <a:pt x="16272" y="12799"/>
                </a:moveTo>
                <a:cubicBezTo>
                  <a:pt x="16172" y="12785"/>
                  <a:pt x="16134" y="12904"/>
                  <a:pt x="16148" y="13022"/>
                </a:cubicBezTo>
                <a:cubicBezTo>
                  <a:pt x="16156" y="13039"/>
                  <a:pt x="16165" y="13055"/>
                  <a:pt x="16173" y="13072"/>
                </a:cubicBezTo>
                <a:cubicBezTo>
                  <a:pt x="16264" y="13056"/>
                  <a:pt x="16319" y="13016"/>
                  <a:pt x="16346" y="12923"/>
                </a:cubicBezTo>
                <a:cubicBezTo>
                  <a:pt x="16346" y="12907"/>
                  <a:pt x="16346" y="12890"/>
                  <a:pt x="16346" y="12874"/>
                </a:cubicBezTo>
              </a:path>
              <a:path w="3349" h="869">
                <a:moveTo>
                  <a:pt x="16371" y="12675"/>
                </a:moveTo>
                <a:cubicBezTo>
                  <a:pt x="16379" y="12743"/>
                  <a:pt x="16378" y="13004"/>
                  <a:pt x="16446" y="13047"/>
                </a:cubicBezTo>
                <a:cubicBezTo>
                  <a:pt x="16553" y="13114"/>
                  <a:pt x="16653" y="13005"/>
                  <a:pt x="16694" y="12923"/>
                </a:cubicBezTo>
                <a:cubicBezTo>
                  <a:pt x="16602" y="12946"/>
                  <a:pt x="16611" y="12956"/>
                  <a:pt x="16570" y="13047"/>
                </a:cubicBezTo>
              </a:path>
              <a:path w="3349" h="869">
                <a:moveTo>
                  <a:pt x="16867" y="12675"/>
                </a:moveTo>
                <a:lnTo>
                  <a:pt x="16867" y="12675"/>
                </a:lnTo>
              </a:path>
              <a:path w="3349" h="869">
                <a:moveTo>
                  <a:pt x="16942" y="13271"/>
                </a:moveTo>
                <a:cubicBezTo>
                  <a:pt x="16942" y="13388"/>
                  <a:pt x="16944" y="13422"/>
                  <a:pt x="16917" y="13494"/>
                </a:cubicBezTo>
              </a:path>
              <a:path w="3349" h="869">
                <a:moveTo>
                  <a:pt x="17264" y="12799"/>
                </a:moveTo>
                <a:cubicBezTo>
                  <a:pt x="17216" y="12877"/>
                  <a:pt x="17183" y="12934"/>
                  <a:pt x="17165" y="13022"/>
                </a:cubicBezTo>
                <a:cubicBezTo>
                  <a:pt x="17271" y="13049"/>
                  <a:pt x="17310" y="13053"/>
                  <a:pt x="17363" y="12973"/>
                </a:cubicBezTo>
              </a:path>
              <a:path w="3349" h="869">
                <a:moveTo>
                  <a:pt x="17363" y="12626"/>
                </a:moveTo>
                <a:cubicBezTo>
                  <a:pt x="17326" y="12827"/>
                  <a:pt x="17313" y="12971"/>
                  <a:pt x="17363" y="13171"/>
                </a:cubicBezTo>
              </a:path>
              <a:path w="3349" h="869">
                <a:moveTo>
                  <a:pt x="17587" y="12973"/>
                </a:moveTo>
                <a:lnTo>
                  <a:pt x="17587" y="12973"/>
                </a:lnTo>
              </a:path>
              <a:path w="3349" h="869">
                <a:moveTo>
                  <a:pt x="17835" y="12650"/>
                </a:moveTo>
                <a:cubicBezTo>
                  <a:pt x="17804" y="12742"/>
                  <a:pt x="17724" y="12956"/>
                  <a:pt x="17810" y="13047"/>
                </a:cubicBezTo>
                <a:cubicBezTo>
                  <a:pt x="17943" y="13188"/>
                  <a:pt x="18087" y="12983"/>
                  <a:pt x="18132" y="12898"/>
                </a:cubicBezTo>
                <a:cubicBezTo>
                  <a:pt x="18014" y="12899"/>
                  <a:pt x="18031" y="12929"/>
                  <a:pt x="17983" y="1304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34080" y="4554360"/>
            <a:ext cx="54000" cy="249480"/>
          </a:xfrm>
          <a:custGeom>
            <a:avLst/>
            <a:gdLst/>
            <a:ahLst/>
            <a:rect l="l" t="t" r="r" b="b"/>
            <a:pathLst>
              <a:path w="150" h="696">
                <a:moveTo>
                  <a:pt x="18430" y="12650"/>
                </a:moveTo>
                <a:lnTo>
                  <a:pt x="18430" y="12650"/>
                </a:lnTo>
              </a:path>
              <a:path w="150" h="696">
                <a:moveTo>
                  <a:pt x="18579" y="13097"/>
                </a:moveTo>
                <a:cubicBezTo>
                  <a:pt x="18553" y="13227"/>
                  <a:pt x="18541" y="13274"/>
                  <a:pt x="18479" y="1334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796080" y="4500720"/>
            <a:ext cx="561960" cy="206280"/>
          </a:xfrm>
          <a:custGeom>
            <a:avLst/>
            <a:gdLst/>
            <a:ahLst/>
            <a:rect l="l" t="t" r="r" b="b"/>
            <a:pathLst>
              <a:path w="1564" h="571">
                <a:moveTo>
                  <a:pt x="18876" y="12750"/>
                </a:moveTo>
                <a:cubicBezTo>
                  <a:pt x="18934" y="12913"/>
                  <a:pt x="18925" y="12889"/>
                  <a:pt x="19100" y="12849"/>
                </a:cubicBezTo>
              </a:path>
              <a:path w="1564" h="571">
                <a:moveTo>
                  <a:pt x="19100" y="12650"/>
                </a:moveTo>
                <a:cubicBezTo>
                  <a:pt x="19084" y="12794"/>
                  <a:pt x="19075" y="12927"/>
                  <a:pt x="19075" y="13072"/>
                </a:cubicBezTo>
              </a:path>
              <a:path w="1564" h="571">
                <a:moveTo>
                  <a:pt x="19298" y="12923"/>
                </a:moveTo>
                <a:lnTo>
                  <a:pt x="19298" y="12923"/>
                </a:lnTo>
              </a:path>
              <a:path w="1564" h="571">
                <a:moveTo>
                  <a:pt x="19596" y="12551"/>
                </a:moveTo>
                <a:cubicBezTo>
                  <a:pt x="19571" y="12668"/>
                  <a:pt x="19486" y="12890"/>
                  <a:pt x="19621" y="12948"/>
                </a:cubicBezTo>
                <a:cubicBezTo>
                  <a:pt x="19740" y="12948"/>
                  <a:pt x="19788" y="12936"/>
                  <a:pt x="19844" y="12849"/>
                </a:cubicBezTo>
                <a:cubicBezTo>
                  <a:pt x="19978" y="12644"/>
                  <a:pt x="19765" y="12895"/>
                  <a:pt x="19745" y="12923"/>
                </a:cubicBezTo>
              </a:path>
              <a:path w="1564" h="571">
                <a:moveTo>
                  <a:pt x="20042" y="12502"/>
                </a:moveTo>
                <a:cubicBezTo>
                  <a:pt x="20042" y="12624"/>
                  <a:pt x="19984" y="12787"/>
                  <a:pt x="20042" y="12898"/>
                </a:cubicBezTo>
                <a:cubicBezTo>
                  <a:pt x="20108" y="13024"/>
                  <a:pt x="20427" y="12840"/>
                  <a:pt x="20439" y="12750"/>
                </a:cubicBezTo>
                <a:cubicBezTo>
                  <a:pt x="20447" y="12693"/>
                  <a:pt x="20303" y="12890"/>
                  <a:pt x="20290" y="129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180040" y="4902120"/>
            <a:ext cx="357120" cy="366840"/>
          </a:xfrm>
          <a:custGeom>
            <a:avLst/>
            <a:gdLst/>
            <a:ahLst/>
            <a:rect l="l" t="t" r="r" b="b"/>
            <a:pathLst>
              <a:path w="993" h="1018">
                <a:moveTo>
                  <a:pt x="14412" y="13717"/>
                </a:moveTo>
                <a:cubicBezTo>
                  <a:pt x="14412" y="13661"/>
                  <a:pt x="14417" y="13639"/>
                  <a:pt x="14461" y="13618"/>
                </a:cubicBezTo>
                <a:cubicBezTo>
                  <a:pt x="14481" y="13738"/>
                  <a:pt x="14462" y="13786"/>
                  <a:pt x="14387" y="13891"/>
                </a:cubicBezTo>
                <a:cubicBezTo>
                  <a:pt x="14478" y="13916"/>
                  <a:pt x="14584" y="13872"/>
                  <a:pt x="14684" y="13841"/>
                </a:cubicBezTo>
              </a:path>
              <a:path w="993" h="1018">
                <a:moveTo>
                  <a:pt x="14684" y="13618"/>
                </a:moveTo>
                <a:cubicBezTo>
                  <a:pt x="14633" y="13721"/>
                  <a:pt x="14617" y="13759"/>
                  <a:pt x="14635" y="13841"/>
                </a:cubicBezTo>
                <a:cubicBezTo>
                  <a:pt x="14736" y="13869"/>
                  <a:pt x="14962" y="13875"/>
                  <a:pt x="14932" y="13692"/>
                </a:cubicBezTo>
                <a:cubicBezTo>
                  <a:pt x="14916" y="13684"/>
                  <a:pt x="14899" y="13675"/>
                  <a:pt x="14883" y="13667"/>
                </a:cubicBezTo>
              </a:path>
              <a:path w="993" h="1018">
                <a:moveTo>
                  <a:pt x="14585" y="14114"/>
                </a:moveTo>
                <a:cubicBezTo>
                  <a:pt x="14705" y="14077"/>
                  <a:pt x="14804" y="14055"/>
                  <a:pt x="14908" y="13990"/>
                </a:cubicBezTo>
              </a:path>
              <a:path w="993" h="1018">
                <a:moveTo>
                  <a:pt x="14660" y="14213"/>
                </a:moveTo>
                <a:cubicBezTo>
                  <a:pt x="14620" y="14394"/>
                  <a:pt x="14708" y="14322"/>
                  <a:pt x="14833" y="14337"/>
                </a:cubicBezTo>
                <a:cubicBezTo>
                  <a:pt x="14995" y="14357"/>
                  <a:pt x="14863" y="14570"/>
                  <a:pt x="14759" y="14585"/>
                </a:cubicBezTo>
                <a:cubicBezTo>
                  <a:pt x="14726" y="14577"/>
                  <a:pt x="14693" y="14568"/>
                  <a:pt x="14660" y="14560"/>
                </a:cubicBezTo>
              </a:path>
              <a:path w="993" h="1018">
                <a:moveTo>
                  <a:pt x="14858" y="14114"/>
                </a:moveTo>
                <a:cubicBezTo>
                  <a:pt x="14899" y="14097"/>
                  <a:pt x="14941" y="14081"/>
                  <a:pt x="14982" y="14064"/>
                </a:cubicBezTo>
              </a:path>
              <a:path w="993" h="1018">
                <a:moveTo>
                  <a:pt x="15280" y="13940"/>
                </a:moveTo>
                <a:lnTo>
                  <a:pt x="15280" y="13940"/>
                </a:lnTo>
              </a:path>
              <a:path w="993" h="1018">
                <a:moveTo>
                  <a:pt x="15354" y="14263"/>
                </a:moveTo>
                <a:cubicBezTo>
                  <a:pt x="15385" y="14467"/>
                  <a:pt x="15386" y="14458"/>
                  <a:pt x="15280" y="146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643720" y="4911840"/>
            <a:ext cx="571320" cy="249120"/>
          </a:xfrm>
          <a:custGeom>
            <a:avLst/>
            <a:gdLst/>
            <a:ahLst/>
            <a:rect l="l" t="t" r="r" b="b"/>
            <a:pathLst>
              <a:path w="1588" h="695">
                <a:moveTo>
                  <a:pt x="15677" y="13791"/>
                </a:moveTo>
                <a:cubicBezTo>
                  <a:pt x="15677" y="14028"/>
                  <a:pt x="15697" y="14023"/>
                  <a:pt x="15925" y="13965"/>
                </a:cubicBezTo>
              </a:path>
              <a:path w="1588" h="695">
                <a:moveTo>
                  <a:pt x="15925" y="13643"/>
                </a:moveTo>
                <a:cubicBezTo>
                  <a:pt x="15905" y="13811"/>
                  <a:pt x="15900" y="13970"/>
                  <a:pt x="15900" y="14139"/>
                </a:cubicBezTo>
              </a:path>
              <a:path w="1588" h="695">
                <a:moveTo>
                  <a:pt x="16222" y="14039"/>
                </a:moveTo>
                <a:lnTo>
                  <a:pt x="16222" y="14039"/>
                </a:lnTo>
              </a:path>
              <a:path w="1588" h="695">
                <a:moveTo>
                  <a:pt x="16371" y="13692"/>
                </a:moveTo>
                <a:cubicBezTo>
                  <a:pt x="16357" y="13831"/>
                  <a:pt x="16333" y="13865"/>
                  <a:pt x="16421" y="13965"/>
                </a:cubicBezTo>
                <a:cubicBezTo>
                  <a:pt x="16581" y="13850"/>
                  <a:pt x="16614" y="13809"/>
                  <a:pt x="16446" y="13692"/>
                </a:cubicBezTo>
              </a:path>
              <a:path w="1588" h="695">
                <a:moveTo>
                  <a:pt x="16644" y="13717"/>
                </a:moveTo>
                <a:cubicBezTo>
                  <a:pt x="16685" y="13865"/>
                  <a:pt x="16737" y="14013"/>
                  <a:pt x="16917" y="13866"/>
                </a:cubicBezTo>
                <a:cubicBezTo>
                  <a:pt x="17014" y="13787"/>
                  <a:pt x="16867" y="13769"/>
                  <a:pt x="16867" y="13965"/>
                </a:cubicBezTo>
              </a:path>
              <a:path w="1588" h="695">
                <a:moveTo>
                  <a:pt x="17214" y="13667"/>
                </a:moveTo>
                <a:lnTo>
                  <a:pt x="17214" y="13667"/>
                </a:lnTo>
              </a:path>
              <a:path w="1588" h="695">
                <a:moveTo>
                  <a:pt x="17264" y="14114"/>
                </a:moveTo>
                <a:cubicBezTo>
                  <a:pt x="17236" y="14223"/>
                  <a:pt x="17224" y="14266"/>
                  <a:pt x="17190" y="143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357960" y="4867200"/>
            <a:ext cx="322200" cy="214560"/>
          </a:xfrm>
          <a:custGeom>
            <a:avLst/>
            <a:gdLst/>
            <a:ahLst/>
            <a:rect l="l" t="t" r="r" b="b"/>
            <a:pathLst>
              <a:path w="894" h="596">
                <a:moveTo>
                  <a:pt x="17661" y="13618"/>
                </a:moveTo>
                <a:cubicBezTo>
                  <a:pt x="17694" y="13695"/>
                  <a:pt x="17681" y="13732"/>
                  <a:pt x="17661" y="13816"/>
                </a:cubicBezTo>
                <a:cubicBezTo>
                  <a:pt x="17778" y="13816"/>
                  <a:pt x="17812" y="13818"/>
                  <a:pt x="17884" y="13791"/>
                </a:cubicBezTo>
              </a:path>
              <a:path w="894" h="596">
                <a:moveTo>
                  <a:pt x="17909" y="13519"/>
                </a:moveTo>
                <a:cubicBezTo>
                  <a:pt x="17874" y="13714"/>
                  <a:pt x="17884" y="13914"/>
                  <a:pt x="17884" y="14114"/>
                </a:cubicBezTo>
              </a:path>
              <a:path w="894" h="596">
                <a:moveTo>
                  <a:pt x="18132" y="13990"/>
                </a:moveTo>
                <a:lnTo>
                  <a:pt x="18132" y="13990"/>
                </a:lnTo>
              </a:path>
              <a:path w="894" h="596">
                <a:moveTo>
                  <a:pt x="18306" y="13543"/>
                </a:moveTo>
                <a:cubicBezTo>
                  <a:pt x="18283" y="13652"/>
                  <a:pt x="18236" y="13837"/>
                  <a:pt x="18306" y="13940"/>
                </a:cubicBezTo>
                <a:cubicBezTo>
                  <a:pt x="18366" y="14028"/>
                  <a:pt x="18532" y="13909"/>
                  <a:pt x="18554" y="13841"/>
                </a:cubicBezTo>
                <a:cubicBezTo>
                  <a:pt x="18574" y="13779"/>
                  <a:pt x="18492" y="13951"/>
                  <a:pt x="18479" y="1401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23080" y="4884840"/>
            <a:ext cx="27000" cy="276120"/>
          </a:xfrm>
          <a:custGeom>
            <a:avLst/>
            <a:gdLst/>
            <a:ahLst/>
            <a:rect l="l" t="t" r="r" b="b"/>
            <a:pathLst>
              <a:path w="75" h="770">
                <a:moveTo>
                  <a:pt x="18951" y="13568"/>
                </a:moveTo>
                <a:lnTo>
                  <a:pt x="18951" y="13568"/>
                </a:lnTo>
              </a:path>
              <a:path w="75" h="770">
                <a:moveTo>
                  <a:pt x="19025" y="14139"/>
                </a:moveTo>
                <a:cubicBezTo>
                  <a:pt x="19025" y="14246"/>
                  <a:pt x="19020" y="14286"/>
                  <a:pt x="18951" y="143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072200" y="4875120"/>
            <a:ext cx="108000" cy="196920"/>
          </a:xfrm>
          <a:custGeom>
            <a:avLst/>
            <a:gdLst/>
            <a:ahLst/>
            <a:rect l="l" t="t" r="r" b="b"/>
            <a:pathLst>
              <a:path w="299" h="547">
                <a:moveTo>
                  <a:pt x="19720" y="13543"/>
                </a:moveTo>
                <a:cubicBezTo>
                  <a:pt x="19710" y="13664"/>
                  <a:pt x="19683" y="13752"/>
                  <a:pt x="19645" y="13866"/>
                </a:cubicBezTo>
                <a:cubicBezTo>
                  <a:pt x="19739" y="13927"/>
                  <a:pt x="19785" y="13937"/>
                  <a:pt x="19869" y="13866"/>
                </a:cubicBezTo>
              </a:path>
              <a:path w="299" h="547">
                <a:moveTo>
                  <a:pt x="19943" y="13643"/>
                </a:moveTo>
                <a:cubicBezTo>
                  <a:pt x="19925" y="13792"/>
                  <a:pt x="19903" y="13940"/>
                  <a:pt x="19893" y="1408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286760" y="4714920"/>
            <a:ext cx="349200" cy="446040"/>
          </a:xfrm>
          <a:custGeom>
            <a:avLst/>
            <a:gdLst/>
            <a:ahLst/>
            <a:rect l="l" t="t" r="r" b="b"/>
            <a:pathLst>
              <a:path w="968" h="1241">
                <a:moveTo>
                  <a:pt x="20241" y="13246"/>
                </a:moveTo>
                <a:cubicBezTo>
                  <a:pt x="20340" y="13226"/>
                  <a:pt x="20487" y="13170"/>
                  <a:pt x="20389" y="13345"/>
                </a:cubicBezTo>
                <a:cubicBezTo>
                  <a:pt x="20373" y="13362"/>
                  <a:pt x="20356" y="13378"/>
                  <a:pt x="20340" y="13395"/>
                </a:cubicBezTo>
                <a:cubicBezTo>
                  <a:pt x="20570" y="13435"/>
                  <a:pt x="20526" y="13494"/>
                  <a:pt x="20340" y="13593"/>
                </a:cubicBezTo>
              </a:path>
              <a:path w="968" h="1241">
                <a:moveTo>
                  <a:pt x="20638" y="13146"/>
                </a:moveTo>
                <a:cubicBezTo>
                  <a:pt x="20703" y="13103"/>
                  <a:pt x="20718" y="13082"/>
                  <a:pt x="20762" y="13122"/>
                </a:cubicBezTo>
                <a:cubicBezTo>
                  <a:pt x="20684" y="13245"/>
                  <a:pt x="20623" y="13209"/>
                  <a:pt x="20762" y="13271"/>
                </a:cubicBezTo>
                <a:cubicBezTo>
                  <a:pt x="21009" y="13382"/>
                  <a:pt x="20772" y="13476"/>
                  <a:pt x="20638" y="13519"/>
                </a:cubicBezTo>
              </a:path>
              <a:path w="968" h="1241">
                <a:moveTo>
                  <a:pt x="20439" y="13791"/>
                </a:moveTo>
                <a:cubicBezTo>
                  <a:pt x="20660" y="13693"/>
                  <a:pt x="20731" y="13661"/>
                  <a:pt x="20886" y="13618"/>
                </a:cubicBezTo>
              </a:path>
              <a:path w="968" h="1241">
                <a:moveTo>
                  <a:pt x="20414" y="14039"/>
                </a:moveTo>
                <a:cubicBezTo>
                  <a:pt x="20377" y="14096"/>
                  <a:pt x="20360" y="14099"/>
                  <a:pt x="20365" y="14139"/>
                </a:cubicBezTo>
                <a:cubicBezTo>
                  <a:pt x="20401" y="14146"/>
                  <a:pt x="20690" y="14139"/>
                  <a:pt x="20638" y="14238"/>
                </a:cubicBezTo>
                <a:cubicBezTo>
                  <a:pt x="20544" y="14300"/>
                  <a:pt x="20498" y="14324"/>
                  <a:pt x="20414" y="14337"/>
                </a:cubicBezTo>
              </a:path>
              <a:path w="968" h="1241">
                <a:moveTo>
                  <a:pt x="20588" y="13915"/>
                </a:moveTo>
                <a:cubicBezTo>
                  <a:pt x="20735" y="13891"/>
                  <a:pt x="20874" y="13877"/>
                  <a:pt x="21010" y="13816"/>
                </a:cubicBezTo>
                <a:cubicBezTo>
                  <a:pt x="20982" y="13926"/>
                  <a:pt x="20951" y="14029"/>
                  <a:pt x="20935" y="14139"/>
                </a:cubicBezTo>
                <a:cubicBezTo>
                  <a:pt x="21130" y="14152"/>
                  <a:pt x="21173" y="14102"/>
                  <a:pt x="21208" y="1391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473800" y="5759280"/>
            <a:ext cx="696960" cy="304920"/>
          </a:xfrm>
          <a:custGeom>
            <a:avLst/>
            <a:gdLst/>
            <a:ahLst/>
            <a:rect l="l" t="t" r="r" b="b"/>
            <a:pathLst>
              <a:path w="1936" h="844">
                <a:moveTo>
                  <a:pt x="15205" y="16470"/>
                </a:moveTo>
                <a:lnTo>
                  <a:pt x="15205" y="16470"/>
                </a:lnTo>
              </a:path>
              <a:path w="1936" h="844">
                <a:moveTo>
                  <a:pt x="15478" y="16073"/>
                </a:moveTo>
                <a:cubicBezTo>
                  <a:pt x="15556" y="16067"/>
                  <a:pt x="15769" y="15994"/>
                  <a:pt x="15726" y="16148"/>
                </a:cubicBezTo>
                <a:cubicBezTo>
                  <a:pt x="15704" y="16228"/>
                  <a:pt x="15661" y="16255"/>
                  <a:pt x="15602" y="16272"/>
                </a:cubicBezTo>
                <a:cubicBezTo>
                  <a:pt x="15635" y="16255"/>
                  <a:pt x="15668" y="16239"/>
                  <a:pt x="15701" y="16222"/>
                </a:cubicBezTo>
                <a:cubicBezTo>
                  <a:pt x="15795" y="16315"/>
                  <a:pt x="15791" y="16439"/>
                  <a:pt x="15652" y="16520"/>
                </a:cubicBezTo>
                <a:cubicBezTo>
                  <a:pt x="15557" y="16544"/>
                  <a:pt x="15527" y="16555"/>
                  <a:pt x="15478" y="16495"/>
                </a:cubicBezTo>
              </a:path>
              <a:path w="1936" h="844">
                <a:moveTo>
                  <a:pt x="15974" y="16073"/>
                </a:moveTo>
                <a:cubicBezTo>
                  <a:pt x="15908" y="16185"/>
                  <a:pt x="15906" y="16253"/>
                  <a:pt x="15999" y="16346"/>
                </a:cubicBezTo>
                <a:cubicBezTo>
                  <a:pt x="16114" y="16321"/>
                  <a:pt x="16198" y="16230"/>
                  <a:pt x="16073" y="16123"/>
                </a:cubicBezTo>
                <a:cubicBezTo>
                  <a:pt x="16006" y="16100"/>
                  <a:pt x="15988" y="16089"/>
                  <a:pt x="15949" y="16123"/>
                </a:cubicBezTo>
              </a:path>
              <a:path w="1936" h="844">
                <a:moveTo>
                  <a:pt x="16197" y="16073"/>
                </a:moveTo>
                <a:cubicBezTo>
                  <a:pt x="16289" y="16102"/>
                  <a:pt x="16530" y="16159"/>
                  <a:pt x="16446" y="16321"/>
                </a:cubicBezTo>
                <a:cubicBezTo>
                  <a:pt x="16376" y="16457"/>
                  <a:pt x="16291" y="16458"/>
                  <a:pt x="16197" y="16421"/>
                </a:cubicBezTo>
                <a:cubicBezTo>
                  <a:pt x="16234" y="16296"/>
                  <a:pt x="16330" y="16292"/>
                  <a:pt x="16470" y="16346"/>
                </a:cubicBezTo>
                <a:cubicBezTo>
                  <a:pt x="16478" y="16354"/>
                  <a:pt x="16487" y="16363"/>
                  <a:pt x="16495" y="16371"/>
                </a:cubicBezTo>
              </a:path>
              <a:path w="1936" h="844">
                <a:moveTo>
                  <a:pt x="16694" y="15999"/>
                </a:moveTo>
                <a:cubicBezTo>
                  <a:pt x="16602" y="16029"/>
                  <a:pt x="16570" y="16048"/>
                  <a:pt x="16570" y="16148"/>
                </a:cubicBezTo>
                <a:cubicBezTo>
                  <a:pt x="16670" y="16129"/>
                  <a:pt x="16862" y="16074"/>
                  <a:pt x="16867" y="16247"/>
                </a:cubicBezTo>
                <a:cubicBezTo>
                  <a:pt x="16873" y="16473"/>
                  <a:pt x="16704" y="16462"/>
                  <a:pt x="16545" y="16446"/>
                </a:cubicBezTo>
              </a:path>
              <a:path w="1936" h="844">
                <a:moveTo>
                  <a:pt x="17115" y="16495"/>
                </a:moveTo>
                <a:cubicBezTo>
                  <a:pt x="17129" y="16632"/>
                  <a:pt x="17122" y="16707"/>
                  <a:pt x="17090" y="1684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286680" y="5759280"/>
            <a:ext cx="803160" cy="268560"/>
          </a:xfrm>
          <a:custGeom>
            <a:avLst/>
            <a:gdLst/>
            <a:ahLst/>
            <a:rect l="l" t="t" r="r" b="b"/>
            <a:pathLst>
              <a:path w="2234" h="745">
                <a:moveTo>
                  <a:pt x="17462" y="16123"/>
                </a:moveTo>
                <a:cubicBezTo>
                  <a:pt x="17544" y="16090"/>
                  <a:pt x="17624" y="16070"/>
                  <a:pt x="17711" y="16049"/>
                </a:cubicBezTo>
                <a:cubicBezTo>
                  <a:pt x="17791" y="16191"/>
                  <a:pt x="17733" y="16233"/>
                  <a:pt x="17636" y="16346"/>
                </a:cubicBezTo>
                <a:cubicBezTo>
                  <a:pt x="17762" y="16279"/>
                  <a:pt x="17925" y="16292"/>
                  <a:pt x="17884" y="16495"/>
                </a:cubicBezTo>
                <a:cubicBezTo>
                  <a:pt x="17868" y="16572"/>
                  <a:pt x="17723" y="16504"/>
                  <a:pt x="17686" y="16495"/>
                </a:cubicBezTo>
              </a:path>
              <a:path w="2234" h="745">
                <a:moveTo>
                  <a:pt x="18157" y="16371"/>
                </a:moveTo>
                <a:lnTo>
                  <a:pt x="18157" y="16371"/>
                </a:lnTo>
              </a:path>
              <a:path w="2234" h="745">
                <a:moveTo>
                  <a:pt x="18405" y="16098"/>
                </a:moveTo>
                <a:cubicBezTo>
                  <a:pt x="18368" y="16196"/>
                  <a:pt x="18293" y="16446"/>
                  <a:pt x="18504" y="16446"/>
                </a:cubicBezTo>
                <a:cubicBezTo>
                  <a:pt x="18645" y="16446"/>
                  <a:pt x="18673" y="16167"/>
                  <a:pt x="18579" y="16098"/>
                </a:cubicBezTo>
                <a:cubicBezTo>
                  <a:pt x="18546" y="16090"/>
                  <a:pt x="18512" y="16081"/>
                  <a:pt x="18479" y="16073"/>
                </a:cubicBezTo>
              </a:path>
              <a:path w="2234" h="745">
                <a:moveTo>
                  <a:pt x="18802" y="16073"/>
                </a:moveTo>
                <a:cubicBezTo>
                  <a:pt x="18879" y="16106"/>
                  <a:pt x="19159" y="16177"/>
                  <a:pt x="19000" y="16297"/>
                </a:cubicBezTo>
                <a:cubicBezTo>
                  <a:pt x="18903" y="16345"/>
                  <a:pt x="18873" y="16362"/>
                  <a:pt x="18802" y="16321"/>
                </a:cubicBezTo>
                <a:cubicBezTo>
                  <a:pt x="18802" y="16279"/>
                  <a:pt x="18808" y="16253"/>
                  <a:pt x="18827" y="16222"/>
                </a:cubicBezTo>
                <a:cubicBezTo>
                  <a:pt x="18952" y="16201"/>
                  <a:pt x="18981" y="16211"/>
                  <a:pt x="19050" y="16321"/>
                </a:cubicBezTo>
              </a:path>
              <a:path w="2234" h="745">
                <a:moveTo>
                  <a:pt x="19273" y="15999"/>
                </a:moveTo>
                <a:cubicBezTo>
                  <a:pt x="19172" y="16012"/>
                  <a:pt x="19150" y="16026"/>
                  <a:pt x="19174" y="16123"/>
                </a:cubicBezTo>
                <a:cubicBezTo>
                  <a:pt x="19237" y="16110"/>
                  <a:pt x="19311" y="16065"/>
                  <a:pt x="19372" y="16123"/>
                </a:cubicBezTo>
                <a:cubicBezTo>
                  <a:pt x="19443" y="16189"/>
                  <a:pt x="19413" y="16346"/>
                  <a:pt x="19298" y="16346"/>
                </a:cubicBezTo>
                <a:cubicBezTo>
                  <a:pt x="19257" y="16338"/>
                  <a:pt x="19215" y="16329"/>
                  <a:pt x="19174" y="16321"/>
                </a:cubicBezTo>
              </a:path>
              <a:path w="2234" h="745">
                <a:moveTo>
                  <a:pt x="19695" y="16520"/>
                </a:moveTo>
                <a:cubicBezTo>
                  <a:pt x="19695" y="16640"/>
                  <a:pt x="19697" y="16677"/>
                  <a:pt x="19645" y="1674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205760" y="5776920"/>
            <a:ext cx="179280" cy="152280"/>
          </a:xfrm>
          <a:custGeom>
            <a:avLst/>
            <a:gdLst/>
            <a:ahLst/>
            <a:rect l="l" t="t" r="r" b="b"/>
            <a:pathLst>
              <a:path w="497" h="422">
                <a:moveTo>
                  <a:pt x="20017" y="16049"/>
                </a:moveTo>
                <a:cubicBezTo>
                  <a:pt x="20072" y="16049"/>
                  <a:pt x="20240" y="16008"/>
                  <a:pt x="20216" y="16123"/>
                </a:cubicBezTo>
                <a:cubicBezTo>
                  <a:pt x="20162" y="16203"/>
                  <a:pt x="20139" y="16231"/>
                  <a:pt x="20067" y="16247"/>
                </a:cubicBezTo>
                <a:cubicBezTo>
                  <a:pt x="20191" y="16231"/>
                  <a:pt x="20205" y="16212"/>
                  <a:pt x="20290" y="16297"/>
                </a:cubicBezTo>
                <a:cubicBezTo>
                  <a:pt x="20203" y="16419"/>
                  <a:pt x="20189" y="16425"/>
                  <a:pt x="20042" y="16470"/>
                </a:cubicBezTo>
              </a:path>
              <a:path w="497" h="422">
                <a:moveTo>
                  <a:pt x="20513" y="16346"/>
                </a:moveTo>
                <a:lnTo>
                  <a:pt x="20513" y="16346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491240" y="5742000"/>
            <a:ext cx="501840" cy="258840"/>
          </a:xfrm>
          <a:custGeom>
            <a:avLst/>
            <a:gdLst/>
            <a:ahLst/>
            <a:rect l="l" t="t" r="r" b="b"/>
            <a:pathLst>
              <a:path w="1390" h="721">
                <a:moveTo>
                  <a:pt x="20910" y="16024"/>
                </a:moveTo>
                <a:cubicBezTo>
                  <a:pt x="21038" y="16115"/>
                  <a:pt x="21146" y="16259"/>
                  <a:pt x="20960" y="16396"/>
                </a:cubicBezTo>
                <a:cubicBezTo>
                  <a:pt x="20871" y="16418"/>
                  <a:pt x="20846" y="16434"/>
                  <a:pt x="20811" y="16371"/>
                </a:cubicBezTo>
                <a:cubicBezTo>
                  <a:pt x="20894" y="16205"/>
                  <a:pt x="20893" y="16227"/>
                  <a:pt x="21034" y="16297"/>
                </a:cubicBezTo>
                <a:cubicBezTo>
                  <a:pt x="21059" y="16305"/>
                  <a:pt x="21084" y="16313"/>
                  <a:pt x="21109" y="16321"/>
                </a:cubicBezTo>
              </a:path>
              <a:path w="1390" h="721">
                <a:moveTo>
                  <a:pt x="21332" y="15999"/>
                </a:moveTo>
                <a:cubicBezTo>
                  <a:pt x="21274" y="16080"/>
                  <a:pt x="21207" y="16136"/>
                  <a:pt x="21183" y="16247"/>
                </a:cubicBezTo>
                <a:cubicBezTo>
                  <a:pt x="21143" y="16429"/>
                  <a:pt x="21422" y="16300"/>
                  <a:pt x="21456" y="16197"/>
                </a:cubicBezTo>
                <a:cubicBezTo>
                  <a:pt x="21456" y="16096"/>
                  <a:pt x="21477" y="16064"/>
                  <a:pt x="21406" y="16049"/>
                </a:cubicBezTo>
              </a:path>
              <a:path w="1390" h="721">
                <a:moveTo>
                  <a:pt x="21779" y="15974"/>
                </a:moveTo>
                <a:cubicBezTo>
                  <a:pt x="21729" y="16024"/>
                  <a:pt x="21713" y="16040"/>
                  <a:pt x="21679" y="16073"/>
                </a:cubicBezTo>
                <a:cubicBezTo>
                  <a:pt x="21746" y="16038"/>
                  <a:pt x="21958" y="15932"/>
                  <a:pt x="21927" y="16123"/>
                </a:cubicBezTo>
                <a:cubicBezTo>
                  <a:pt x="21899" y="16296"/>
                  <a:pt x="21771" y="16253"/>
                  <a:pt x="21654" y="16247"/>
                </a:cubicBezTo>
              </a:path>
              <a:path w="1390" h="721">
                <a:moveTo>
                  <a:pt x="21803" y="15974"/>
                </a:moveTo>
                <a:cubicBezTo>
                  <a:pt x="21876" y="15950"/>
                  <a:pt x="21900" y="15941"/>
                  <a:pt x="21952" y="15949"/>
                </a:cubicBezTo>
              </a:path>
              <a:path w="1390" h="721">
                <a:moveTo>
                  <a:pt x="22175" y="16421"/>
                </a:moveTo>
                <a:cubicBezTo>
                  <a:pt x="22200" y="16545"/>
                  <a:pt x="22208" y="16586"/>
                  <a:pt x="22175" y="1666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116920" y="5732640"/>
            <a:ext cx="108000" cy="161640"/>
          </a:xfrm>
          <a:custGeom>
            <a:avLst/>
            <a:gdLst/>
            <a:ahLst/>
            <a:rect l="l" t="t" r="r" b="b"/>
            <a:pathLst>
              <a:path w="299" h="447">
                <a:moveTo>
                  <a:pt x="22647" y="15925"/>
                </a:moveTo>
                <a:cubicBezTo>
                  <a:pt x="22601" y="16077"/>
                  <a:pt x="22683" y="16040"/>
                  <a:pt x="22820" y="16049"/>
                </a:cubicBezTo>
                <a:cubicBezTo>
                  <a:pt x="22779" y="16082"/>
                  <a:pt x="22737" y="16115"/>
                  <a:pt x="22696" y="16148"/>
                </a:cubicBezTo>
                <a:cubicBezTo>
                  <a:pt x="22660" y="16184"/>
                  <a:pt x="22762" y="16061"/>
                  <a:pt x="22820" y="16173"/>
                </a:cubicBezTo>
                <a:cubicBezTo>
                  <a:pt x="22886" y="16298"/>
                  <a:pt x="22703" y="16371"/>
                  <a:pt x="22597" y="16371"/>
                </a:cubicBezTo>
                <a:cubicBezTo>
                  <a:pt x="22580" y="16363"/>
                  <a:pt x="22564" y="16354"/>
                  <a:pt x="22547" y="163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340840" y="5653080"/>
            <a:ext cx="374400" cy="196920"/>
          </a:xfrm>
          <a:custGeom>
            <a:avLst/>
            <a:gdLst/>
            <a:ahLst/>
            <a:rect l="l" t="t" r="r" b="b"/>
            <a:pathLst>
              <a:path w="1042" h="547">
                <a:moveTo>
                  <a:pt x="23168" y="16173"/>
                </a:moveTo>
                <a:lnTo>
                  <a:pt x="23168" y="16173"/>
                </a:lnTo>
              </a:path>
              <a:path w="1042" h="547">
                <a:moveTo>
                  <a:pt x="23416" y="15900"/>
                </a:moveTo>
                <a:cubicBezTo>
                  <a:pt x="23465" y="15939"/>
                  <a:pt x="23661" y="16030"/>
                  <a:pt x="23664" y="16098"/>
                </a:cubicBezTo>
                <a:cubicBezTo>
                  <a:pt x="23669" y="16230"/>
                  <a:pt x="23564" y="16236"/>
                  <a:pt x="23465" y="16247"/>
                </a:cubicBezTo>
                <a:cubicBezTo>
                  <a:pt x="23536" y="16164"/>
                  <a:pt x="23577" y="16148"/>
                  <a:pt x="23664" y="16222"/>
                </a:cubicBezTo>
                <a:cubicBezTo>
                  <a:pt x="23672" y="16230"/>
                  <a:pt x="23680" y="16239"/>
                  <a:pt x="23688" y="16247"/>
                </a:cubicBezTo>
              </a:path>
              <a:path w="1042" h="547">
                <a:moveTo>
                  <a:pt x="24011" y="15875"/>
                </a:moveTo>
                <a:cubicBezTo>
                  <a:pt x="23976" y="15895"/>
                  <a:pt x="23832" y="16043"/>
                  <a:pt x="23937" y="15999"/>
                </a:cubicBezTo>
                <a:cubicBezTo>
                  <a:pt x="24014" y="15960"/>
                  <a:pt x="24029" y="15926"/>
                  <a:pt x="24061" y="15974"/>
                </a:cubicBezTo>
                <a:cubicBezTo>
                  <a:pt x="23941" y="15998"/>
                  <a:pt x="23952" y="16063"/>
                  <a:pt x="23912" y="16148"/>
                </a:cubicBezTo>
                <a:cubicBezTo>
                  <a:pt x="23866" y="16194"/>
                  <a:pt x="23827" y="16209"/>
                  <a:pt x="23763" y="16197"/>
                </a:cubicBezTo>
              </a:path>
              <a:path w="1042" h="547">
                <a:moveTo>
                  <a:pt x="24135" y="15701"/>
                </a:moveTo>
                <a:cubicBezTo>
                  <a:pt x="24259" y="15742"/>
                  <a:pt x="24023" y="15721"/>
                  <a:pt x="23986" y="15751"/>
                </a:cubicBezTo>
                <a:cubicBezTo>
                  <a:pt x="23978" y="15768"/>
                  <a:pt x="23969" y="15784"/>
                  <a:pt x="23961" y="15801"/>
                </a:cubicBezTo>
                <a:cubicBezTo>
                  <a:pt x="24018" y="15885"/>
                  <a:pt x="23961" y="15997"/>
                  <a:pt x="23986" y="16049"/>
                </a:cubicBezTo>
                <a:cubicBezTo>
                  <a:pt x="24005" y="16089"/>
                  <a:pt x="24145" y="16039"/>
                  <a:pt x="24185" y="16049"/>
                </a:cubicBezTo>
                <a:cubicBezTo>
                  <a:pt x="24193" y="16065"/>
                  <a:pt x="24201" y="16082"/>
                  <a:pt x="24209" y="16098"/>
                </a:cubicBezTo>
                <a:cubicBezTo>
                  <a:pt x="24114" y="16124"/>
                  <a:pt x="23997" y="16158"/>
                  <a:pt x="23912" y="16173"/>
                </a:cubicBezTo>
                <a:cubicBezTo>
                  <a:pt x="23870" y="16173"/>
                  <a:pt x="23862" y="16173"/>
                  <a:pt x="23837" y="1617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.  Write the ratio 3:7 as a fraction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.  Find the value of x that makes the ratios equivalent.  4 : 9 ,  16 : 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x = _____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.  Write 8/9 as a decimal.  _________________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.  Find 20% of 360.  ___________ (Extra Credit)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.  Michael bought a football on sale for 1/2 off.  What is the percent of discount for the ball?  __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iral Review – Find the quoti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nded to the nearest hundredth if necessary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.  8.44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.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.  321.29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56080" y="214200"/>
            <a:ext cx="258840" cy="687600"/>
          </a:xfrm>
          <a:custGeom>
            <a:avLst/>
            <a:gdLst/>
            <a:ahLst/>
            <a:rect l="l" t="t" r="r" b="b"/>
            <a:pathLst>
              <a:path w="720" h="1911">
                <a:moveTo>
                  <a:pt x="12502" y="670"/>
                </a:moveTo>
                <a:cubicBezTo>
                  <a:pt x="12569" y="633"/>
                  <a:pt x="12776" y="519"/>
                  <a:pt x="12849" y="620"/>
                </a:cubicBezTo>
                <a:cubicBezTo>
                  <a:pt x="12912" y="707"/>
                  <a:pt x="12665" y="838"/>
                  <a:pt x="12626" y="868"/>
                </a:cubicBezTo>
                <a:cubicBezTo>
                  <a:pt x="12609" y="876"/>
                  <a:pt x="12593" y="885"/>
                  <a:pt x="12576" y="893"/>
                </a:cubicBezTo>
                <a:cubicBezTo>
                  <a:pt x="12697" y="873"/>
                  <a:pt x="12798" y="853"/>
                  <a:pt x="12923" y="843"/>
                </a:cubicBezTo>
                <a:cubicBezTo>
                  <a:pt x="12909" y="1095"/>
                  <a:pt x="12761" y="1129"/>
                  <a:pt x="12526" y="1215"/>
                </a:cubicBezTo>
              </a:path>
              <a:path w="720" h="1911">
                <a:moveTo>
                  <a:pt x="12378" y="1488"/>
                </a:moveTo>
                <a:cubicBezTo>
                  <a:pt x="12618" y="1422"/>
                  <a:pt x="12853" y="1360"/>
                  <a:pt x="13097" y="1315"/>
                </a:cubicBezTo>
              </a:path>
              <a:path w="720" h="1911">
                <a:moveTo>
                  <a:pt x="12502" y="1786"/>
                </a:moveTo>
                <a:cubicBezTo>
                  <a:pt x="12650" y="1740"/>
                  <a:pt x="12797" y="1700"/>
                  <a:pt x="12948" y="1662"/>
                </a:cubicBezTo>
                <a:cubicBezTo>
                  <a:pt x="12929" y="1920"/>
                  <a:pt x="12841" y="2134"/>
                  <a:pt x="12774" y="2381"/>
                </a:cubicBezTo>
                <a:cubicBezTo>
                  <a:pt x="12766" y="2422"/>
                  <a:pt x="12758" y="2464"/>
                  <a:pt x="12750" y="250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224920" y="1170000"/>
            <a:ext cx="455400" cy="258840"/>
          </a:xfrm>
          <a:custGeom>
            <a:avLst/>
            <a:gdLst/>
            <a:ahLst/>
            <a:rect l="l" t="t" r="r" b="b"/>
            <a:pathLst>
              <a:path w="1266" h="721">
                <a:moveTo>
                  <a:pt x="22845" y="3349"/>
                </a:moveTo>
                <a:cubicBezTo>
                  <a:pt x="22919" y="3331"/>
                  <a:pt x="23151" y="3284"/>
                  <a:pt x="23093" y="3448"/>
                </a:cubicBezTo>
                <a:cubicBezTo>
                  <a:pt x="23053" y="3563"/>
                  <a:pt x="22977" y="3550"/>
                  <a:pt x="22895" y="3597"/>
                </a:cubicBezTo>
                <a:cubicBezTo>
                  <a:pt x="23061" y="3587"/>
                  <a:pt x="23331" y="3657"/>
                  <a:pt x="23118" y="3894"/>
                </a:cubicBezTo>
                <a:cubicBezTo>
                  <a:pt x="22982" y="3963"/>
                  <a:pt x="22946" y="3988"/>
                  <a:pt x="22845" y="3969"/>
                </a:cubicBezTo>
              </a:path>
              <a:path w="1266" h="721">
                <a:moveTo>
                  <a:pt x="23416" y="3249"/>
                </a:moveTo>
                <a:cubicBezTo>
                  <a:pt x="23407" y="3402"/>
                  <a:pt x="23367" y="3567"/>
                  <a:pt x="23391" y="3721"/>
                </a:cubicBezTo>
                <a:cubicBezTo>
                  <a:pt x="23422" y="3918"/>
                  <a:pt x="23722" y="3912"/>
                  <a:pt x="23862" y="3870"/>
                </a:cubicBezTo>
                <a:cubicBezTo>
                  <a:pt x="23976" y="3836"/>
                  <a:pt x="24046" y="3781"/>
                  <a:pt x="24110" y="3696"/>
                </a:cubicBezTo>
                <a:cubicBezTo>
                  <a:pt x="24009" y="3539"/>
                  <a:pt x="23904" y="3449"/>
                  <a:pt x="23738" y="3621"/>
                </a:cubicBezTo>
                <a:cubicBezTo>
                  <a:pt x="23663" y="3747"/>
                  <a:pt x="23639" y="3791"/>
                  <a:pt x="23688" y="389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009960" y="2214720"/>
            <a:ext cx="347760" cy="277560"/>
          </a:xfrm>
          <a:custGeom>
            <a:avLst/>
            <a:gdLst/>
            <a:ahLst/>
            <a:rect l="l" t="t" r="r" b="b"/>
            <a:pathLst>
              <a:path w="969" h="770">
                <a:moveTo>
                  <a:pt x="8359" y="6276"/>
                </a:moveTo>
                <a:cubicBezTo>
                  <a:pt x="8359" y="6367"/>
                  <a:pt x="8359" y="6391"/>
                  <a:pt x="8359" y="6449"/>
                </a:cubicBezTo>
                <a:cubicBezTo>
                  <a:pt x="8421" y="6265"/>
                  <a:pt x="8468" y="6250"/>
                  <a:pt x="8657" y="6201"/>
                </a:cubicBezTo>
                <a:cubicBezTo>
                  <a:pt x="8741" y="6180"/>
                  <a:pt x="8760" y="6178"/>
                  <a:pt x="8806" y="6152"/>
                </a:cubicBezTo>
                <a:cubicBezTo>
                  <a:pt x="8770" y="6413"/>
                  <a:pt x="8687" y="6650"/>
                  <a:pt x="8582" y="6896"/>
                </a:cubicBezTo>
              </a:path>
              <a:path w="969" h="770">
                <a:moveTo>
                  <a:pt x="8905" y="6325"/>
                </a:moveTo>
                <a:cubicBezTo>
                  <a:pt x="8991" y="6270"/>
                  <a:pt x="9047" y="6259"/>
                  <a:pt x="9153" y="6251"/>
                </a:cubicBezTo>
                <a:cubicBezTo>
                  <a:pt x="9143" y="6551"/>
                  <a:pt x="9049" y="6640"/>
                  <a:pt x="8855" y="6871"/>
                </a:cubicBezTo>
                <a:cubicBezTo>
                  <a:pt x="8995" y="6895"/>
                  <a:pt x="9138" y="6903"/>
                  <a:pt x="9277" y="6921"/>
                </a:cubicBezTo>
                <a:cubicBezTo>
                  <a:pt x="9294" y="6921"/>
                  <a:pt x="9310" y="6921"/>
                  <a:pt x="9327" y="69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732120" y="1527120"/>
            <a:ext cx="723960" cy="465120"/>
          </a:xfrm>
          <a:custGeom>
            <a:avLst/>
            <a:gdLst/>
            <a:ahLst/>
            <a:rect l="l" t="t" r="r" b="b"/>
            <a:pathLst>
              <a:path w="2011" h="1290">
                <a:moveTo>
                  <a:pt x="10443" y="5383"/>
                </a:moveTo>
                <a:cubicBezTo>
                  <a:pt x="10393" y="5407"/>
                  <a:pt x="10376" y="5415"/>
                  <a:pt x="10368" y="5457"/>
                </a:cubicBezTo>
                <a:cubicBezTo>
                  <a:pt x="10465" y="5435"/>
                  <a:pt x="10560" y="5444"/>
                  <a:pt x="10393" y="5407"/>
                </a:cubicBezTo>
              </a:path>
              <a:path w="2011" h="1290">
                <a:moveTo>
                  <a:pt x="11237" y="4638"/>
                </a:moveTo>
                <a:cubicBezTo>
                  <a:pt x="11117" y="4638"/>
                  <a:pt x="11079" y="4636"/>
                  <a:pt x="11013" y="4688"/>
                </a:cubicBezTo>
                <a:cubicBezTo>
                  <a:pt x="11029" y="5013"/>
                  <a:pt x="11364" y="5003"/>
                  <a:pt x="11435" y="5283"/>
                </a:cubicBezTo>
                <a:cubicBezTo>
                  <a:pt x="11492" y="5506"/>
                  <a:pt x="11221" y="5501"/>
                  <a:pt x="11112" y="5507"/>
                </a:cubicBezTo>
                <a:cubicBezTo>
                  <a:pt x="11166" y="5229"/>
                  <a:pt x="11386" y="5016"/>
                  <a:pt x="11435" y="4738"/>
                </a:cubicBezTo>
                <a:cubicBezTo>
                  <a:pt x="11427" y="4721"/>
                  <a:pt x="11418" y="4705"/>
                  <a:pt x="11410" y="4688"/>
                </a:cubicBezTo>
              </a:path>
              <a:path w="2011" h="1290">
                <a:moveTo>
                  <a:pt x="12179" y="4614"/>
                </a:moveTo>
                <a:cubicBezTo>
                  <a:pt x="12070" y="4567"/>
                  <a:pt x="11903" y="4594"/>
                  <a:pt x="11857" y="4738"/>
                </a:cubicBezTo>
                <a:cubicBezTo>
                  <a:pt x="11770" y="5013"/>
                  <a:pt x="12151" y="5149"/>
                  <a:pt x="12129" y="5383"/>
                </a:cubicBezTo>
                <a:cubicBezTo>
                  <a:pt x="12110" y="5580"/>
                  <a:pt x="11878" y="5500"/>
                  <a:pt x="11782" y="5482"/>
                </a:cubicBezTo>
                <a:cubicBezTo>
                  <a:pt x="11731" y="5222"/>
                  <a:pt x="11967" y="5095"/>
                  <a:pt x="12129" y="4887"/>
                </a:cubicBezTo>
                <a:cubicBezTo>
                  <a:pt x="12247" y="4735"/>
                  <a:pt x="12232" y="4741"/>
                  <a:pt x="12105" y="4688"/>
                </a:cubicBezTo>
              </a:path>
              <a:path w="2011" h="1290">
                <a:moveTo>
                  <a:pt x="12030" y="4266"/>
                </a:moveTo>
                <a:cubicBezTo>
                  <a:pt x="12154" y="4266"/>
                  <a:pt x="12258" y="4257"/>
                  <a:pt x="12378" y="424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384200" y="3125880"/>
            <a:ext cx="608040" cy="285480"/>
          </a:xfrm>
          <a:custGeom>
            <a:avLst/>
            <a:gdLst/>
            <a:ahLst/>
            <a:rect l="l" t="t" r="r" b="b"/>
            <a:pathLst>
              <a:path w="1687" h="794">
                <a:moveTo>
                  <a:pt x="4316" y="8855"/>
                </a:moveTo>
                <a:cubicBezTo>
                  <a:pt x="4256" y="8837"/>
                  <a:pt x="4096" y="8787"/>
                  <a:pt x="4043" y="8855"/>
                </a:cubicBezTo>
                <a:cubicBezTo>
                  <a:pt x="3995" y="8917"/>
                  <a:pt x="3982" y="9030"/>
                  <a:pt x="3969" y="9103"/>
                </a:cubicBezTo>
                <a:cubicBezTo>
                  <a:pt x="4044" y="9103"/>
                  <a:pt x="4240" y="9036"/>
                  <a:pt x="4291" y="9103"/>
                </a:cubicBezTo>
                <a:cubicBezTo>
                  <a:pt x="4433" y="9288"/>
                  <a:pt x="4046" y="9414"/>
                  <a:pt x="3944" y="9401"/>
                </a:cubicBezTo>
                <a:cubicBezTo>
                  <a:pt x="3911" y="9384"/>
                  <a:pt x="3878" y="9368"/>
                  <a:pt x="3845" y="9351"/>
                </a:cubicBezTo>
              </a:path>
              <a:path w="1687" h="794">
                <a:moveTo>
                  <a:pt x="4589" y="8781"/>
                </a:moveTo>
                <a:cubicBezTo>
                  <a:pt x="4523" y="8978"/>
                  <a:pt x="4492" y="9079"/>
                  <a:pt x="4539" y="9277"/>
                </a:cubicBezTo>
                <a:cubicBezTo>
                  <a:pt x="4677" y="9285"/>
                  <a:pt x="4970" y="9221"/>
                  <a:pt x="4837" y="8979"/>
                </a:cubicBezTo>
                <a:cubicBezTo>
                  <a:pt x="4697" y="8895"/>
                  <a:pt x="4637" y="8873"/>
                  <a:pt x="4514" y="8930"/>
                </a:cubicBezTo>
              </a:path>
              <a:path w="1687" h="794">
                <a:moveTo>
                  <a:pt x="5011" y="8682"/>
                </a:moveTo>
                <a:cubicBezTo>
                  <a:pt x="4966" y="8771"/>
                  <a:pt x="4945" y="8828"/>
                  <a:pt x="4936" y="8930"/>
                </a:cubicBezTo>
                <a:cubicBezTo>
                  <a:pt x="5042" y="8840"/>
                  <a:pt x="5046" y="8858"/>
                  <a:pt x="5060" y="8706"/>
                </a:cubicBezTo>
                <a:cubicBezTo>
                  <a:pt x="5223" y="8727"/>
                  <a:pt x="5316" y="8776"/>
                  <a:pt x="5259" y="8979"/>
                </a:cubicBezTo>
                <a:cubicBezTo>
                  <a:pt x="5212" y="9146"/>
                  <a:pt x="5089" y="9319"/>
                  <a:pt x="5011" y="9475"/>
                </a:cubicBezTo>
              </a:path>
              <a:path w="1687" h="794">
                <a:moveTo>
                  <a:pt x="5383" y="9252"/>
                </a:moveTo>
                <a:cubicBezTo>
                  <a:pt x="5414" y="9361"/>
                  <a:pt x="5498" y="9340"/>
                  <a:pt x="5531" y="9227"/>
                </a:cubicBezTo>
                <a:cubicBezTo>
                  <a:pt x="5531" y="9211"/>
                  <a:pt x="5531" y="9194"/>
                  <a:pt x="5531" y="917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276800" y="2517840"/>
            <a:ext cx="1135080" cy="81000"/>
          </a:xfrm>
          <a:custGeom>
            <a:avLst/>
            <a:gdLst/>
            <a:ahLst/>
            <a:rect l="l" t="t" r="r" b="b"/>
            <a:pathLst>
              <a:path w="3152" h="224">
                <a:moveTo>
                  <a:pt x="11881" y="7169"/>
                </a:moveTo>
                <a:cubicBezTo>
                  <a:pt x="11930" y="7101"/>
                  <a:pt x="11978" y="7083"/>
                  <a:pt x="12055" y="7045"/>
                </a:cubicBezTo>
                <a:cubicBezTo>
                  <a:pt x="12126" y="7010"/>
                  <a:pt x="12181" y="7034"/>
                  <a:pt x="12254" y="7020"/>
                </a:cubicBezTo>
                <a:cubicBezTo>
                  <a:pt x="12315" y="7009"/>
                  <a:pt x="12361" y="6997"/>
                  <a:pt x="12427" y="6995"/>
                </a:cubicBezTo>
                <a:cubicBezTo>
                  <a:pt x="12494" y="6993"/>
                  <a:pt x="12542" y="7003"/>
                  <a:pt x="12601" y="7020"/>
                </a:cubicBezTo>
                <a:cubicBezTo>
                  <a:pt x="12668" y="7039"/>
                  <a:pt x="12733" y="7069"/>
                  <a:pt x="12799" y="7094"/>
                </a:cubicBezTo>
                <a:cubicBezTo>
                  <a:pt x="12886" y="7127"/>
                  <a:pt x="12963" y="7124"/>
                  <a:pt x="13047" y="7144"/>
                </a:cubicBezTo>
                <a:cubicBezTo>
                  <a:pt x="13112" y="7160"/>
                  <a:pt x="13179" y="7188"/>
                  <a:pt x="13246" y="7193"/>
                </a:cubicBezTo>
                <a:cubicBezTo>
                  <a:pt x="13355" y="7201"/>
                  <a:pt x="13462" y="7207"/>
                  <a:pt x="13568" y="7218"/>
                </a:cubicBezTo>
                <a:cubicBezTo>
                  <a:pt x="13847" y="7248"/>
                  <a:pt x="14162" y="7224"/>
                  <a:pt x="14436" y="7193"/>
                </a:cubicBezTo>
                <a:cubicBezTo>
                  <a:pt x="14629" y="7171"/>
                  <a:pt x="14837" y="7193"/>
                  <a:pt x="15032" y="719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490760" y="2089080"/>
            <a:ext cx="215640" cy="206280"/>
          </a:xfrm>
          <a:custGeom>
            <a:avLst/>
            <a:gdLst/>
            <a:ahLst/>
            <a:rect l="l" t="t" r="r" b="b"/>
            <a:pathLst>
              <a:path w="597" h="572">
                <a:moveTo>
                  <a:pt x="4142" y="6251"/>
                </a:moveTo>
                <a:lnTo>
                  <a:pt x="4142" y="6251"/>
                </a:lnTo>
              </a:path>
              <a:path w="597" h="572">
                <a:moveTo>
                  <a:pt x="4316" y="6003"/>
                </a:moveTo>
                <a:cubicBezTo>
                  <a:pt x="4327" y="5901"/>
                  <a:pt x="4356" y="5841"/>
                  <a:pt x="4465" y="5804"/>
                </a:cubicBezTo>
                <a:cubicBezTo>
                  <a:pt x="4481" y="5804"/>
                  <a:pt x="4498" y="5804"/>
                  <a:pt x="4514" y="5804"/>
                </a:cubicBezTo>
                <a:cubicBezTo>
                  <a:pt x="4567" y="5985"/>
                  <a:pt x="4548" y="6078"/>
                  <a:pt x="4415" y="6226"/>
                </a:cubicBezTo>
                <a:cubicBezTo>
                  <a:pt x="4349" y="6292"/>
                  <a:pt x="4332" y="6309"/>
                  <a:pt x="4291" y="6350"/>
                </a:cubicBezTo>
                <a:cubicBezTo>
                  <a:pt x="4228" y="6413"/>
                  <a:pt x="4354" y="6305"/>
                  <a:pt x="4390" y="6300"/>
                </a:cubicBezTo>
                <a:cubicBezTo>
                  <a:pt x="4495" y="6286"/>
                  <a:pt x="4558" y="6334"/>
                  <a:pt x="4663" y="6300"/>
                </a:cubicBezTo>
                <a:cubicBezTo>
                  <a:pt x="4688" y="6292"/>
                  <a:pt x="4713" y="6284"/>
                  <a:pt x="4738" y="627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928880" y="2133720"/>
            <a:ext cx="98280" cy="152280"/>
          </a:xfrm>
          <a:custGeom>
            <a:avLst/>
            <a:gdLst/>
            <a:ahLst/>
            <a:rect l="l" t="t" r="r" b="b"/>
            <a:pathLst>
              <a:path w="274" h="423">
                <a:moveTo>
                  <a:pt x="5383" y="6077"/>
                </a:moveTo>
                <a:cubicBezTo>
                  <a:pt x="5464" y="6141"/>
                  <a:pt x="5517" y="6215"/>
                  <a:pt x="5581" y="6300"/>
                </a:cubicBezTo>
              </a:path>
              <a:path w="274" h="423">
                <a:moveTo>
                  <a:pt x="5631" y="5928"/>
                </a:moveTo>
                <a:cubicBezTo>
                  <a:pt x="5532" y="6066"/>
                  <a:pt x="5445" y="6205"/>
                  <a:pt x="5358" y="635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20960" y="4402080"/>
            <a:ext cx="1832040" cy="536760"/>
          </a:xfrm>
          <a:custGeom>
            <a:avLst/>
            <a:gdLst/>
            <a:ahLst/>
            <a:rect l="l" t="t" r="r" b="b"/>
            <a:pathLst>
              <a:path w="5086" h="1489">
                <a:moveTo>
                  <a:pt x="7838" y="12725"/>
                </a:moveTo>
                <a:cubicBezTo>
                  <a:pt x="7889" y="12914"/>
                  <a:pt x="7912" y="13105"/>
                  <a:pt x="7962" y="13295"/>
                </a:cubicBezTo>
              </a:path>
              <a:path w="5086" h="1489">
                <a:moveTo>
                  <a:pt x="10517" y="12725"/>
                </a:moveTo>
                <a:cubicBezTo>
                  <a:pt x="10379" y="12690"/>
                  <a:pt x="10070" y="12715"/>
                  <a:pt x="9996" y="12874"/>
                </a:cubicBezTo>
                <a:cubicBezTo>
                  <a:pt x="9979" y="12910"/>
                  <a:pt x="10380" y="13164"/>
                  <a:pt x="10393" y="13196"/>
                </a:cubicBezTo>
                <a:cubicBezTo>
                  <a:pt x="10051" y="13282"/>
                  <a:pt x="9921" y="13211"/>
                  <a:pt x="10170" y="12874"/>
                </a:cubicBezTo>
                <a:cubicBezTo>
                  <a:pt x="10203" y="12841"/>
                  <a:pt x="10236" y="12807"/>
                  <a:pt x="10269" y="12774"/>
                </a:cubicBezTo>
              </a:path>
              <a:path w="5086" h="1489">
                <a:moveTo>
                  <a:pt x="10666" y="13146"/>
                </a:moveTo>
                <a:lnTo>
                  <a:pt x="10666" y="13146"/>
                </a:lnTo>
              </a:path>
              <a:path w="5086" h="1489">
                <a:moveTo>
                  <a:pt x="10988" y="12626"/>
                </a:moveTo>
                <a:cubicBezTo>
                  <a:pt x="10988" y="12733"/>
                  <a:pt x="10988" y="12841"/>
                  <a:pt x="10988" y="12948"/>
                </a:cubicBezTo>
                <a:cubicBezTo>
                  <a:pt x="11171" y="12934"/>
                  <a:pt x="11218" y="12901"/>
                  <a:pt x="11385" y="12824"/>
                </a:cubicBezTo>
              </a:path>
              <a:path w="5086" h="1489">
                <a:moveTo>
                  <a:pt x="11336" y="12675"/>
                </a:moveTo>
                <a:cubicBezTo>
                  <a:pt x="11320" y="12835"/>
                  <a:pt x="11311" y="12985"/>
                  <a:pt x="11311" y="13146"/>
                </a:cubicBezTo>
              </a:path>
              <a:path w="5086" h="1489">
                <a:moveTo>
                  <a:pt x="11534" y="12650"/>
                </a:moveTo>
                <a:cubicBezTo>
                  <a:pt x="11542" y="12799"/>
                  <a:pt x="11537" y="12994"/>
                  <a:pt x="11757" y="12898"/>
                </a:cubicBezTo>
                <a:cubicBezTo>
                  <a:pt x="11807" y="12865"/>
                  <a:pt x="11856" y="12832"/>
                  <a:pt x="11906" y="12799"/>
                </a:cubicBezTo>
              </a:path>
              <a:path w="5086" h="1489">
                <a:moveTo>
                  <a:pt x="11782" y="12576"/>
                </a:moveTo>
                <a:cubicBezTo>
                  <a:pt x="11757" y="12799"/>
                  <a:pt x="11749" y="12873"/>
                  <a:pt x="11733" y="13022"/>
                </a:cubicBezTo>
              </a:path>
              <a:path w="5086" h="1489">
                <a:moveTo>
                  <a:pt x="9699" y="13568"/>
                </a:moveTo>
                <a:cubicBezTo>
                  <a:pt x="9671" y="13535"/>
                  <a:pt x="9602" y="13342"/>
                  <a:pt x="9550" y="13146"/>
                </a:cubicBezTo>
                <a:cubicBezTo>
                  <a:pt x="9506" y="12980"/>
                  <a:pt x="9452" y="12814"/>
                  <a:pt x="9401" y="12650"/>
                </a:cubicBezTo>
                <a:cubicBezTo>
                  <a:pt x="9766" y="12595"/>
                  <a:pt x="10146" y="12553"/>
                  <a:pt x="10517" y="12502"/>
                </a:cubicBezTo>
                <a:cubicBezTo>
                  <a:pt x="11204" y="12408"/>
                  <a:pt x="11886" y="12339"/>
                  <a:pt x="12576" y="12278"/>
                </a:cubicBezTo>
                <a:cubicBezTo>
                  <a:pt x="12703" y="12267"/>
                  <a:pt x="12804" y="12249"/>
                  <a:pt x="12923" y="12229"/>
                </a:cubicBezTo>
              </a:path>
              <a:path w="5086" h="1489">
                <a:moveTo>
                  <a:pt x="8384" y="13271"/>
                </a:moveTo>
                <a:lnTo>
                  <a:pt x="8384" y="13271"/>
                </a:lnTo>
              </a:path>
              <a:path w="5086" h="1489">
                <a:moveTo>
                  <a:pt x="8632" y="12849"/>
                </a:moveTo>
                <a:cubicBezTo>
                  <a:pt x="8743" y="12806"/>
                  <a:pt x="8838" y="12786"/>
                  <a:pt x="8954" y="12774"/>
                </a:cubicBezTo>
                <a:cubicBezTo>
                  <a:pt x="8909" y="12912"/>
                  <a:pt x="8713" y="13059"/>
                  <a:pt x="8706" y="13196"/>
                </a:cubicBezTo>
                <a:cubicBezTo>
                  <a:pt x="8704" y="13234"/>
                  <a:pt x="8989" y="13137"/>
                  <a:pt x="9029" y="13122"/>
                </a:cubicBezTo>
              </a:path>
              <a:path w="5086" h="1489">
                <a:moveTo>
                  <a:pt x="8458" y="13370"/>
                </a:moveTo>
                <a:cubicBezTo>
                  <a:pt x="8459" y="13573"/>
                  <a:pt x="8522" y="13744"/>
                  <a:pt x="8781" y="13692"/>
                </a:cubicBezTo>
                <a:cubicBezTo>
                  <a:pt x="8987" y="13651"/>
                  <a:pt x="9184" y="13453"/>
                  <a:pt x="9178" y="13246"/>
                </a:cubicBezTo>
                <a:cubicBezTo>
                  <a:pt x="9170" y="13221"/>
                  <a:pt x="9161" y="13196"/>
                  <a:pt x="9153" y="13171"/>
                </a:cubicBezTo>
              </a:path>
              <a:path w="5086" h="1489">
                <a:moveTo>
                  <a:pt x="10691" y="13221"/>
                </a:moveTo>
                <a:cubicBezTo>
                  <a:pt x="10725" y="13323"/>
                  <a:pt x="10709" y="13443"/>
                  <a:pt x="10740" y="13543"/>
                </a:cubicBezTo>
                <a:cubicBezTo>
                  <a:pt x="10802" y="13746"/>
                  <a:pt x="11016" y="13728"/>
                  <a:pt x="11187" y="13692"/>
                </a:cubicBezTo>
                <a:cubicBezTo>
                  <a:pt x="11249" y="13679"/>
                  <a:pt x="11513" y="13605"/>
                  <a:pt x="11559" y="13543"/>
                </a:cubicBezTo>
                <a:cubicBezTo>
                  <a:pt x="11592" y="13498"/>
                  <a:pt x="11669" y="13354"/>
                  <a:pt x="11658" y="13295"/>
                </a:cubicBezTo>
                <a:cubicBezTo>
                  <a:pt x="11643" y="13216"/>
                  <a:pt x="11584" y="13197"/>
                  <a:pt x="11584" y="13122"/>
                </a:cubicBezTo>
              </a:path>
              <a:path w="5086" h="1489">
                <a:moveTo>
                  <a:pt x="11435" y="12278"/>
                </a:moveTo>
                <a:cubicBezTo>
                  <a:pt x="11415" y="12268"/>
                  <a:pt x="11177" y="12249"/>
                  <a:pt x="11286" y="12378"/>
                </a:cubicBezTo>
                <a:cubicBezTo>
                  <a:pt x="11311" y="12378"/>
                  <a:pt x="11336" y="12378"/>
                  <a:pt x="11361" y="12378"/>
                </a:cubicBezTo>
                <a:cubicBezTo>
                  <a:pt x="11422" y="12285"/>
                  <a:pt x="11440" y="12231"/>
                  <a:pt x="11311" y="1227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634080" y="1571760"/>
            <a:ext cx="152640" cy="134640"/>
          </a:xfrm>
          <a:custGeom>
            <a:avLst/>
            <a:gdLst/>
            <a:ahLst/>
            <a:rect l="l" t="t" r="r" b="b"/>
            <a:pathLst>
              <a:path w="423" h="373">
                <a:moveTo>
                  <a:pt x="18455" y="4366"/>
                </a:moveTo>
                <a:cubicBezTo>
                  <a:pt x="18471" y="4490"/>
                  <a:pt x="18454" y="4586"/>
                  <a:pt x="18430" y="4713"/>
                </a:cubicBezTo>
                <a:cubicBezTo>
                  <a:pt x="18574" y="4739"/>
                  <a:pt x="18706" y="4679"/>
                  <a:pt x="18852" y="46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786720" y="1544760"/>
            <a:ext cx="1440" cy="250560"/>
          </a:xfrm>
          <a:custGeom>
            <a:avLst/>
            <a:gdLst/>
            <a:ahLst/>
            <a:rect l="l" t="t" r="r" b="b"/>
            <a:pathLst>
              <a:path w="1" h="696">
                <a:moveTo>
                  <a:pt x="18852" y="4291"/>
                </a:moveTo>
                <a:cubicBezTo>
                  <a:pt x="18852" y="4523"/>
                  <a:pt x="18852" y="4754"/>
                  <a:pt x="18852" y="498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545160" y="1857240"/>
            <a:ext cx="357120" cy="44640"/>
          </a:xfrm>
          <a:custGeom>
            <a:avLst/>
            <a:gdLst/>
            <a:ahLst/>
            <a:rect l="l" t="t" r="r" b="b"/>
            <a:pathLst>
              <a:path w="993" h="125">
                <a:moveTo>
                  <a:pt x="18182" y="5283"/>
                </a:moveTo>
                <a:cubicBezTo>
                  <a:pt x="18469" y="5245"/>
                  <a:pt x="18761" y="5188"/>
                  <a:pt x="19050" y="5159"/>
                </a:cubicBezTo>
                <a:cubicBezTo>
                  <a:pt x="19091" y="5159"/>
                  <a:pt x="19133" y="5159"/>
                  <a:pt x="19174" y="515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653160" y="1946160"/>
            <a:ext cx="177840" cy="268560"/>
          </a:xfrm>
          <a:custGeom>
            <a:avLst/>
            <a:gdLst/>
            <a:ahLst/>
            <a:rect l="l" t="t" r="r" b="b"/>
            <a:pathLst>
              <a:path w="498" h="746">
                <a:moveTo>
                  <a:pt x="18951" y="5631"/>
                </a:moveTo>
                <a:cubicBezTo>
                  <a:pt x="18908" y="5446"/>
                  <a:pt x="18820" y="5351"/>
                  <a:pt x="18628" y="5482"/>
                </a:cubicBezTo>
                <a:cubicBezTo>
                  <a:pt x="18516" y="5594"/>
                  <a:pt x="18477" y="5620"/>
                  <a:pt x="18479" y="5730"/>
                </a:cubicBezTo>
                <a:cubicBezTo>
                  <a:pt x="18665" y="5829"/>
                  <a:pt x="18754" y="5729"/>
                  <a:pt x="18901" y="5556"/>
                </a:cubicBezTo>
                <a:cubicBezTo>
                  <a:pt x="18957" y="5761"/>
                  <a:pt x="18976" y="5938"/>
                  <a:pt x="18976" y="615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358040" y="1616040"/>
            <a:ext cx="19080" cy="214200"/>
          </a:xfrm>
          <a:custGeom>
            <a:avLst/>
            <a:gdLst/>
            <a:ahLst/>
            <a:rect l="l" t="t" r="r" b="b"/>
            <a:pathLst>
              <a:path w="51" h="596">
                <a:moveTo>
                  <a:pt x="20489" y="4490"/>
                </a:moveTo>
                <a:cubicBezTo>
                  <a:pt x="20471" y="4691"/>
                  <a:pt x="20439" y="4881"/>
                  <a:pt x="20439" y="508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473960" y="1598760"/>
            <a:ext cx="135000" cy="214200"/>
          </a:xfrm>
          <a:custGeom>
            <a:avLst/>
            <a:gdLst/>
            <a:ahLst/>
            <a:rect l="l" t="t" r="r" b="b"/>
            <a:pathLst>
              <a:path w="373" h="596">
                <a:moveTo>
                  <a:pt x="20786" y="4440"/>
                </a:moveTo>
                <a:cubicBezTo>
                  <a:pt x="20775" y="4621"/>
                  <a:pt x="20758" y="4781"/>
                  <a:pt x="20786" y="4961"/>
                </a:cubicBezTo>
                <a:cubicBezTo>
                  <a:pt x="21013" y="4974"/>
                  <a:pt x="21081" y="4934"/>
                  <a:pt x="21134" y="4713"/>
                </a:cubicBezTo>
                <a:cubicBezTo>
                  <a:pt x="20991" y="4812"/>
                  <a:pt x="20984" y="4867"/>
                  <a:pt x="20935" y="50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277040" y="1893960"/>
            <a:ext cx="366840" cy="71280"/>
          </a:xfrm>
          <a:custGeom>
            <a:avLst/>
            <a:gdLst/>
            <a:ahLst/>
            <a:rect l="l" t="t" r="r" b="b"/>
            <a:pathLst>
              <a:path w="1018" h="199">
                <a:moveTo>
                  <a:pt x="20216" y="5457"/>
                </a:moveTo>
                <a:cubicBezTo>
                  <a:pt x="20550" y="5406"/>
                  <a:pt x="20877" y="5328"/>
                  <a:pt x="21208" y="5259"/>
                </a:cubicBezTo>
                <a:cubicBezTo>
                  <a:pt x="21241" y="5259"/>
                  <a:pt x="21249" y="5267"/>
                  <a:pt x="21233" y="53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919920" y="1608120"/>
            <a:ext cx="54000" cy="88920"/>
          </a:xfrm>
          <a:custGeom>
            <a:avLst/>
            <a:gdLst/>
            <a:ahLst/>
            <a:rect l="l" t="t" r="r" b="b"/>
            <a:pathLst>
              <a:path w="149" h="249">
                <a:moveTo>
                  <a:pt x="19224" y="4465"/>
                </a:moveTo>
                <a:cubicBezTo>
                  <a:pt x="19287" y="4544"/>
                  <a:pt x="19319" y="4631"/>
                  <a:pt x="19372" y="47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12000" y="1562040"/>
            <a:ext cx="54000" cy="169920"/>
          </a:xfrm>
          <a:custGeom>
            <a:avLst/>
            <a:gdLst/>
            <a:ahLst/>
            <a:rect l="l" t="t" r="r" b="b"/>
            <a:pathLst>
              <a:path w="150" h="472">
                <a:moveTo>
                  <a:pt x="19348" y="4341"/>
                </a:moveTo>
                <a:cubicBezTo>
                  <a:pt x="19293" y="4497"/>
                  <a:pt x="19247" y="4654"/>
                  <a:pt x="19199" y="48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089840" y="1554120"/>
            <a:ext cx="90360" cy="71640"/>
          </a:xfrm>
          <a:custGeom>
            <a:avLst/>
            <a:gdLst/>
            <a:ahLst/>
            <a:rect l="l" t="t" r="r" b="b"/>
            <a:pathLst>
              <a:path w="249" h="199">
                <a:moveTo>
                  <a:pt x="19695" y="4316"/>
                </a:moveTo>
                <a:cubicBezTo>
                  <a:pt x="19695" y="4359"/>
                  <a:pt x="19668" y="4536"/>
                  <a:pt x="19769" y="4514"/>
                </a:cubicBezTo>
                <a:cubicBezTo>
                  <a:pt x="19859" y="4470"/>
                  <a:pt x="19882" y="4457"/>
                  <a:pt x="19943" y="444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153200" y="1500120"/>
            <a:ext cx="27000" cy="187560"/>
          </a:xfrm>
          <a:custGeom>
            <a:avLst/>
            <a:gdLst/>
            <a:ahLst/>
            <a:rect l="l" t="t" r="r" b="b"/>
            <a:pathLst>
              <a:path w="75" h="522">
                <a:moveTo>
                  <a:pt x="19943" y="4167"/>
                </a:moveTo>
                <a:cubicBezTo>
                  <a:pt x="19906" y="4344"/>
                  <a:pt x="19889" y="4507"/>
                  <a:pt x="19869" y="46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939000" y="2143080"/>
            <a:ext cx="54000" cy="81000"/>
          </a:xfrm>
          <a:custGeom>
            <a:avLst/>
            <a:gdLst/>
            <a:ahLst/>
            <a:rect l="l" t="t" r="r" b="b"/>
            <a:pathLst>
              <a:path w="150" h="224">
                <a:moveTo>
                  <a:pt x="19273" y="5953"/>
                </a:moveTo>
                <a:cubicBezTo>
                  <a:pt x="19344" y="6071"/>
                  <a:pt x="19365" y="6107"/>
                  <a:pt x="19422" y="617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939000" y="2133720"/>
            <a:ext cx="34920" cy="144360"/>
          </a:xfrm>
          <a:custGeom>
            <a:avLst/>
            <a:gdLst/>
            <a:ahLst/>
            <a:rect l="l" t="t" r="r" b="b"/>
            <a:pathLst>
              <a:path w="100" h="398">
                <a:moveTo>
                  <a:pt x="19372" y="5928"/>
                </a:moveTo>
                <a:cubicBezTo>
                  <a:pt x="19338" y="6061"/>
                  <a:pt x="19309" y="6193"/>
                  <a:pt x="19273" y="632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027920" y="2125800"/>
            <a:ext cx="81000" cy="54000"/>
          </a:xfrm>
          <a:custGeom>
            <a:avLst/>
            <a:gdLst/>
            <a:ahLst/>
            <a:rect l="l" t="t" r="r" b="b"/>
            <a:pathLst>
              <a:path w="225" h="149">
                <a:moveTo>
                  <a:pt x="19521" y="5904"/>
                </a:moveTo>
                <a:cubicBezTo>
                  <a:pt x="19573" y="6045"/>
                  <a:pt x="19596" y="6050"/>
                  <a:pt x="19745" y="602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26200" y="2116080"/>
            <a:ext cx="9720" cy="108000"/>
          </a:xfrm>
          <a:custGeom>
            <a:avLst/>
            <a:gdLst/>
            <a:ahLst/>
            <a:rect l="l" t="t" r="r" b="b"/>
            <a:pathLst>
              <a:path w="26" h="298">
                <a:moveTo>
                  <a:pt x="19794" y="5879"/>
                </a:moveTo>
                <a:cubicBezTo>
                  <a:pt x="19794" y="6028"/>
                  <a:pt x="19794" y="6078"/>
                  <a:pt x="19819" y="617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348680" y="2027160"/>
            <a:ext cx="134640" cy="187560"/>
          </a:xfrm>
          <a:custGeom>
            <a:avLst/>
            <a:gdLst/>
            <a:ahLst/>
            <a:rect l="l" t="t" r="r" b="b"/>
            <a:pathLst>
              <a:path w="373" h="522">
                <a:moveTo>
                  <a:pt x="20439" y="5655"/>
                </a:moveTo>
                <a:cubicBezTo>
                  <a:pt x="20540" y="5645"/>
                  <a:pt x="20882" y="5645"/>
                  <a:pt x="20638" y="5829"/>
                </a:cubicBezTo>
                <a:cubicBezTo>
                  <a:pt x="20544" y="5867"/>
                  <a:pt x="20525" y="5859"/>
                  <a:pt x="20489" y="5904"/>
                </a:cubicBezTo>
                <a:cubicBezTo>
                  <a:pt x="20612" y="5846"/>
                  <a:pt x="20658" y="5855"/>
                  <a:pt x="20786" y="5904"/>
                </a:cubicBezTo>
                <a:cubicBezTo>
                  <a:pt x="20665" y="6096"/>
                  <a:pt x="20639" y="6094"/>
                  <a:pt x="20414" y="615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518240" y="2000160"/>
            <a:ext cx="152640" cy="142920"/>
          </a:xfrm>
          <a:custGeom>
            <a:avLst/>
            <a:gdLst/>
            <a:ahLst/>
            <a:rect l="l" t="t" r="r" b="b"/>
            <a:pathLst>
              <a:path w="422" h="398">
                <a:moveTo>
                  <a:pt x="20910" y="5556"/>
                </a:moveTo>
                <a:cubicBezTo>
                  <a:pt x="20892" y="5686"/>
                  <a:pt x="20878" y="5921"/>
                  <a:pt x="21059" y="5953"/>
                </a:cubicBezTo>
                <a:cubicBezTo>
                  <a:pt x="21230" y="5983"/>
                  <a:pt x="21261" y="5816"/>
                  <a:pt x="21307" y="5705"/>
                </a:cubicBezTo>
                <a:cubicBezTo>
                  <a:pt x="21131" y="5746"/>
                  <a:pt x="21167" y="5755"/>
                  <a:pt x="21109" y="592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027160" y="5313240"/>
            <a:ext cx="1778040" cy="1465560"/>
          </a:xfrm>
          <a:custGeom>
            <a:avLst/>
            <a:gdLst/>
            <a:ahLst/>
            <a:rect l="l" t="t" r="r" b="b"/>
            <a:pathLst>
              <a:path w="4937" h="4069">
                <a:moveTo>
                  <a:pt x="6623" y="16197"/>
                </a:moveTo>
                <a:cubicBezTo>
                  <a:pt x="6680" y="16122"/>
                  <a:pt x="6822" y="16007"/>
                  <a:pt x="6896" y="16148"/>
                </a:cubicBezTo>
                <a:cubicBezTo>
                  <a:pt x="6951" y="16252"/>
                  <a:pt x="6830" y="16309"/>
                  <a:pt x="6772" y="16346"/>
                </a:cubicBezTo>
                <a:cubicBezTo>
                  <a:pt x="6983" y="16307"/>
                  <a:pt x="7071" y="16426"/>
                  <a:pt x="6945" y="16644"/>
                </a:cubicBezTo>
                <a:cubicBezTo>
                  <a:pt x="6837" y="16830"/>
                  <a:pt x="6682" y="16711"/>
                  <a:pt x="6573" y="16619"/>
                </a:cubicBezTo>
              </a:path>
              <a:path w="4937" h="4069">
                <a:moveTo>
                  <a:pt x="7193" y="16123"/>
                </a:moveTo>
                <a:cubicBezTo>
                  <a:pt x="7363" y="16130"/>
                  <a:pt x="7618" y="16238"/>
                  <a:pt x="7466" y="16495"/>
                </a:cubicBezTo>
                <a:cubicBezTo>
                  <a:pt x="7356" y="16682"/>
                  <a:pt x="7168" y="16604"/>
                  <a:pt x="7119" y="16470"/>
                </a:cubicBezTo>
                <a:cubicBezTo>
                  <a:pt x="7331" y="16365"/>
                  <a:pt x="7409" y="16385"/>
                  <a:pt x="7590" y="16545"/>
                </a:cubicBezTo>
                <a:cubicBezTo>
                  <a:pt x="7607" y="16561"/>
                  <a:pt x="7623" y="16578"/>
                  <a:pt x="7640" y="16594"/>
                </a:cubicBezTo>
              </a:path>
              <a:path w="4937" h="4069">
                <a:moveTo>
                  <a:pt x="7714" y="16073"/>
                </a:moveTo>
                <a:cubicBezTo>
                  <a:pt x="7766" y="16229"/>
                  <a:pt x="7836" y="16382"/>
                  <a:pt x="7863" y="16545"/>
                </a:cubicBezTo>
                <a:cubicBezTo>
                  <a:pt x="7863" y="16561"/>
                  <a:pt x="7863" y="16578"/>
                  <a:pt x="7863" y="16594"/>
                </a:cubicBezTo>
              </a:path>
              <a:path w="4937" h="4069">
                <a:moveTo>
                  <a:pt x="8111" y="16470"/>
                </a:moveTo>
                <a:lnTo>
                  <a:pt x="8111" y="16470"/>
                </a:lnTo>
              </a:path>
              <a:path w="4937" h="4069">
                <a:moveTo>
                  <a:pt x="8260" y="16049"/>
                </a:moveTo>
                <a:cubicBezTo>
                  <a:pt x="8425" y="16103"/>
                  <a:pt x="8625" y="16148"/>
                  <a:pt x="8533" y="16371"/>
                </a:cubicBezTo>
                <a:cubicBezTo>
                  <a:pt x="8462" y="16464"/>
                  <a:pt x="8445" y="16495"/>
                  <a:pt x="8359" y="16495"/>
                </a:cubicBezTo>
                <a:cubicBezTo>
                  <a:pt x="8288" y="16388"/>
                  <a:pt x="8292" y="16286"/>
                  <a:pt x="8458" y="16297"/>
                </a:cubicBezTo>
                <a:cubicBezTo>
                  <a:pt x="8536" y="16322"/>
                  <a:pt x="8564" y="16332"/>
                  <a:pt x="8607" y="16371"/>
                </a:cubicBezTo>
              </a:path>
              <a:path w="4937" h="4069">
                <a:moveTo>
                  <a:pt x="9054" y="16073"/>
                </a:moveTo>
                <a:cubicBezTo>
                  <a:pt x="8976" y="16059"/>
                  <a:pt x="8705" y="15998"/>
                  <a:pt x="8731" y="16173"/>
                </a:cubicBezTo>
                <a:cubicBezTo>
                  <a:pt x="8761" y="16377"/>
                  <a:pt x="8947" y="16147"/>
                  <a:pt x="8979" y="16098"/>
                </a:cubicBezTo>
                <a:cubicBezTo>
                  <a:pt x="9020" y="16232"/>
                  <a:pt x="9046" y="16332"/>
                  <a:pt x="9054" y="16470"/>
                </a:cubicBezTo>
              </a:path>
              <a:path w="4937" h="4069">
                <a:moveTo>
                  <a:pt x="6499" y="16818"/>
                </a:moveTo>
                <a:cubicBezTo>
                  <a:pt x="6423" y="16563"/>
                  <a:pt x="6370" y="16303"/>
                  <a:pt x="6226" y="16073"/>
                </a:cubicBezTo>
                <a:cubicBezTo>
                  <a:pt x="6168" y="15981"/>
                  <a:pt x="6244" y="16090"/>
                  <a:pt x="6375" y="16073"/>
                </a:cubicBezTo>
                <a:cubicBezTo>
                  <a:pt x="6633" y="16039"/>
                  <a:pt x="6884" y="16023"/>
                  <a:pt x="7144" y="15999"/>
                </a:cubicBezTo>
                <a:cubicBezTo>
                  <a:pt x="7424" y="15973"/>
                  <a:pt x="7709" y="15945"/>
                  <a:pt x="7987" y="15900"/>
                </a:cubicBezTo>
                <a:cubicBezTo>
                  <a:pt x="8142" y="15875"/>
                  <a:pt x="8276" y="15828"/>
                  <a:pt x="8434" y="15825"/>
                </a:cubicBezTo>
                <a:cubicBezTo>
                  <a:pt x="8593" y="15822"/>
                  <a:pt x="8750" y="15828"/>
                  <a:pt x="8905" y="15801"/>
                </a:cubicBezTo>
                <a:cubicBezTo>
                  <a:pt x="9025" y="15780"/>
                  <a:pt x="9131" y="15757"/>
                  <a:pt x="9252" y="15751"/>
                </a:cubicBezTo>
              </a:path>
              <a:path w="4937" h="4069">
                <a:moveTo>
                  <a:pt x="5655" y="16396"/>
                </a:moveTo>
                <a:cubicBezTo>
                  <a:pt x="5641" y="16558"/>
                  <a:pt x="5629" y="16664"/>
                  <a:pt x="5705" y="16818"/>
                </a:cubicBezTo>
                <a:cubicBezTo>
                  <a:pt x="5784" y="16980"/>
                  <a:pt x="5924" y="16905"/>
                  <a:pt x="6028" y="16818"/>
                </a:cubicBezTo>
                <a:cubicBezTo>
                  <a:pt x="6096" y="16749"/>
                  <a:pt x="6117" y="16733"/>
                  <a:pt x="6127" y="16669"/>
                </a:cubicBezTo>
                <a:cubicBezTo>
                  <a:pt x="5979" y="16642"/>
                  <a:pt x="5954" y="16708"/>
                  <a:pt x="6028" y="16842"/>
                </a:cubicBezTo>
                <a:cubicBezTo>
                  <a:pt x="6036" y="16850"/>
                  <a:pt x="6044" y="16859"/>
                  <a:pt x="6052" y="16867"/>
                </a:cubicBezTo>
              </a:path>
              <a:path w="4937" h="4069">
                <a:moveTo>
                  <a:pt x="7119" y="15205"/>
                </a:moveTo>
                <a:cubicBezTo>
                  <a:pt x="7002" y="15291"/>
                  <a:pt x="6953" y="15290"/>
                  <a:pt x="6970" y="15404"/>
                </a:cubicBezTo>
                <a:cubicBezTo>
                  <a:pt x="6970" y="15429"/>
                  <a:pt x="6970" y="15453"/>
                  <a:pt x="6970" y="15478"/>
                </a:cubicBezTo>
                <a:cubicBezTo>
                  <a:pt x="7073" y="15469"/>
                  <a:pt x="7221" y="15392"/>
                  <a:pt x="7268" y="15528"/>
                </a:cubicBezTo>
                <a:cubicBezTo>
                  <a:pt x="7337" y="15727"/>
                  <a:pt x="7113" y="15758"/>
                  <a:pt x="6995" y="15751"/>
                </a:cubicBezTo>
              </a:path>
              <a:path w="4937" h="4069">
                <a:moveTo>
                  <a:pt x="6846" y="16892"/>
                </a:moveTo>
                <a:cubicBezTo>
                  <a:pt x="6887" y="16872"/>
                  <a:pt x="6893" y="16863"/>
                  <a:pt x="6921" y="16867"/>
                </a:cubicBezTo>
                <a:cubicBezTo>
                  <a:pt x="6938" y="16974"/>
                  <a:pt x="6951" y="16972"/>
                  <a:pt x="6871" y="17041"/>
                </a:cubicBezTo>
                <a:cubicBezTo>
                  <a:pt x="6942" y="17014"/>
                  <a:pt x="7064" y="17023"/>
                  <a:pt x="6970" y="17140"/>
                </a:cubicBezTo>
                <a:cubicBezTo>
                  <a:pt x="6908" y="17217"/>
                  <a:pt x="6866" y="17191"/>
                  <a:pt x="6796" y="17165"/>
                </a:cubicBezTo>
              </a:path>
              <a:path w="4937" h="4069">
                <a:moveTo>
                  <a:pt x="7193" y="16917"/>
                </a:moveTo>
                <a:cubicBezTo>
                  <a:pt x="7240" y="17017"/>
                  <a:pt x="7306" y="17114"/>
                  <a:pt x="7417" y="16991"/>
                </a:cubicBezTo>
                <a:cubicBezTo>
                  <a:pt x="7508" y="16890"/>
                  <a:pt x="7451" y="16884"/>
                  <a:pt x="7367" y="16842"/>
                </a:cubicBezTo>
              </a:path>
              <a:path w="4937" h="4069">
                <a:moveTo>
                  <a:pt x="6871" y="17363"/>
                </a:moveTo>
                <a:cubicBezTo>
                  <a:pt x="7087" y="17297"/>
                  <a:pt x="7298" y="17223"/>
                  <a:pt x="7516" y="17165"/>
                </a:cubicBezTo>
              </a:path>
              <a:path w="4937" h="4069">
                <a:moveTo>
                  <a:pt x="7541" y="17314"/>
                </a:moveTo>
                <a:cubicBezTo>
                  <a:pt x="7613" y="17290"/>
                  <a:pt x="7636" y="17283"/>
                  <a:pt x="7665" y="17239"/>
                </a:cubicBezTo>
                <a:cubicBezTo>
                  <a:pt x="7639" y="17392"/>
                  <a:pt x="7418" y="17523"/>
                  <a:pt x="7689" y="17462"/>
                </a:cubicBezTo>
                <a:cubicBezTo>
                  <a:pt x="7789" y="17422"/>
                  <a:pt x="7807" y="17418"/>
                  <a:pt x="7863" y="17388"/>
                </a:cubicBezTo>
              </a:path>
              <a:path w="4937" h="4069">
                <a:moveTo>
                  <a:pt x="7938" y="17115"/>
                </a:moveTo>
                <a:cubicBezTo>
                  <a:pt x="7954" y="17199"/>
                  <a:pt x="7986" y="17278"/>
                  <a:pt x="8012" y="17363"/>
                </a:cubicBezTo>
              </a:path>
              <a:path w="4937" h="4069">
                <a:moveTo>
                  <a:pt x="7417" y="15304"/>
                </a:moveTo>
                <a:cubicBezTo>
                  <a:pt x="7455" y="15227"/>
                  <a:pt x="7454" y="15212"/>
                  <a:pt x="7491" y="15180"/>
                </a:cubicBezTo>
                <a:cubicBezTo>
                  <a:pt x="7530" y="15375"/>
                  <a:pt x="7630" y="15284"/>
                  <a:pt x="7665" y="15379"/>
                </a:cubicBezTo>
                <a:cubicBezTo>
                  <a:pt x="7727" y="15549"/>
                  <a:pt x="7591" y="15633"/>
                  <a:pt x="7491" y="15726"/>
                </a:cubicBezTo>
              </a:path>
              <a:path w="4937" h="4069">
                <a:moveTo>
                  <a:pt x="7665" y="17661"/>
                </a:moveTo>
                <a:cubicBezTo>
                  <a:pt x="7707" y="17768"/>
                  <a:pt x="7718" y="17792"/>
                  <a:pt x="7739" y="17859"/>
                </a:cubicBezTo>
              </a:path>
              <a:path w="4937" h="4069">
                <a:moveTo>
                  <a:pt x="7987" y="17462"/>
                </a:moveTo>
                <a:cubicBezTo>
                  <a:pt x="7910" y="17560"/>
                  <a:pt x="7892" y="17570"/>
                  <a:pt x="7863" y="17636"/>
                </a:cubicBezTo>
                <a:cubicBezTo>
                  <a:pt x="7922" y="17658"/>
                  <a:pt x="8182" y="17686"/>
                  <a:pt x="8111" y="17810"/>
                </a:cubicBezTo>
                <a:cubicBezTo>
                  <a:pt x="8041" y="17856"/>
                  <a:pt x="8021" y="17873"/>
                  <a:pt x="7962" y="17859"/>
                </a:cubicBezTo>
                <a:cubicBezTo>
                  <a:pt x="7942" y="17714"/>
                  <a:pt x="7950" y="17634"/>
                  <a:pt x="8062" y="17537"/>
                </a:cubicBezTo>
              </a:path>
              <a:path w="4937" h="4069">
                <a:moveTo>
                  <a:pt x="7789" y="18157"/>
                </a:moveTo>
                <a:cubicBezTo>
                  <a:pt x="7939" y="18093"/>
                  <a:pt x="8088" y="18028"/>
                  <a:pt x="8235" y="17959"/>
                </a:cubicBezTo>
              </a:path>
              <a:path w="4937" h="4069">
                <a:moveTo>
                  <a:pt x="8136" y="18256"/>
                </a:moveTo>
                <a:cubicBezTo>
                  <a:pt x="8199" y="18193"/>
                  <a:pt x="8209" y="18176"/>
                  <a:pt x="8260" y="18157"/>
                </a:cubicBezTo>
                <a:cubicBezTo>
                  <a:pt x="8342" y="18292"/>
                  <a:pt x="8192" y="18236"/>
                  <a:pt x="8359" y="18306"/>
                </a:cubicBezTo>
                <a:cubicBezTo>
                  <a:pt x="8559" y="18389"/>
                  <a:pt x="8425" y="18496"/>
                  <a:pt x="8310" y="18579"/>
                </a:cubicBezTo>
              </a:path>
              <a:path w="4937" h="4069">
                <a:moveTo>
                  <a:pt x="7863" y="15602"/>
                </a:moveTo>
                <a:cubicBezTo>
                  <a:pt x="7887" y="15661"/>
                  <a:pt x="7921" y="15660"/>
                  <a:pt x="7863" y="15602"/>
                </a:cubicBezTo>
              </a:path>
              <a:path w="4937" h="4069">
                <a:moveTo>
                  <a:pt x="8533" y="18033"/>
                </a:moveTo>
                <a:cubicBezTo>
                  <a:pt x="8577" y="18024"/>
                  <a:pt x="8611" y="18014"/>
                  <a:pt x="8657" y="18008"/>
                </a:cubicBezTo>
                <a:cubicBezTo>
                  <a:pt x="8670" y="18128"/>
                  <a:pt x="8674" y="18209"/>
                  <a:pt x="8632" y="18331"/>
                </a:cubicBezTo>
                <a:cubicBezTo>
                  <a:pt x="8612" y="18371"/>
                  <a:pt x="8603" y="18377"/>
                  <a:pt x="8607" y="18405"/>
                </a:cubicBezTo>
                <a:cubicBezTo>
                  <a:pt x="8710" y="18389"/>
                  <a:pt x="8764" y="18362"/>
                  <a:pt x="8855" y="18306"/>
                </a:cubicBezTo>
              </a:path>
              <a:path w="4937" h="4069">
                <a:moveTo>
                  <a:pt x="8111" y="15007"/>
                </a:moveTo>
                <a:cubicBezTo>
                  <a:pt x="8011" y="15050"/>
                  <a:pt x="7997" y="15090"/>
                  <a:pt x="7987" y="15205"/>
                </a:cubicBezTo>
                <a:cubicBezTo>
                  <a:pt x="7987" y="15222"/>
                  <a:pt x="7987" y="15238"/>
                  <a:pt x="7987" y="15255"/>
                </a:cubicBezTo>
                <a:cubicBezTo>
                  <a:pt x="8107" y="15180"/>
                  <a:pt x="8255" y="15082"/>
                  <a:pt x="8359" y="15255"/>
                </a:cubicBezTo>
                <a:cubicBezTo>
                  <a:pt x="8437" y="15385"/>
                  <a:pt x="8271" y="15643"/>
                  <a:pt x="8111" y="15577"/>
                </a:cubicBezTo>
                <a:cubicBezTo>
                  <a:pt x="8086" y="15544"/>
                  <a:pt x="8062" y="15511"/>
                  <a:pt x="8037" y="15478"/>
                </a:cubicBezTo>
              </a:path>
              <a:path w="4937" h="4069">
                <a:moveTo>
                  <a:pt x="8756" y="18604"/>
                </a:moveTo>
                <a:cubicBezTo>
                  <a:pt x="8789" y="18571"/>
                  <a:pt x="8806" y="18554"/>
                  <a:pt x="8830" y="18529"/>
                </a:cubicBezTo>
                <a:cubicBezTo>
                  <a:pt x="8783" y="18662"/>
                  <a:pt x="8769" y="18618"/>
                  <a:pt x="8855" y="18653"/>
                </a:cubicBezTo>
                <a:cubicBezTo>
                  <a:pt x="8895" y="18752"/>
                  <a:pt x="8766" y="18782"/>
                  <a:pt x="8682" y="18827"/>
                </a:cubicBezTo>
              </a:path>
              <a:path w="4937" h="4069">
                <a:moveTo>
                  <a:pt x="9004" y="18430"/>
                </a:moveTo>
                <a:cubicBezTo>
                  <a:pt x="8962" y="18534"/>
                  <a:pt x="8904" y="18667"/>
                  <a:pt x="9079" y="18579"/>
                </a:cubicBezTo>
                <a:cubicBezTo>
                  <a:pt x="9150" y="18531"/>
                  <a:pt x="9173" y="18518"/>
                  <a:pt x="9178" y="18455"/>
                </a:cubicBezTo>
                <a:cubicBezTo>
                  <a:pt x="9107" y="18441"/>
                  <a:pt x="9056" y="18447"/>
                  <a:pt x="8979" y="18455"/>
                </a:cubicBezTo>
              </a:path>
              <a:path w="4937" h="4069">
                <a:moveTo>
                  <a:pt x="9376" y="18281"/>
                </a:moveTo>
                <a:cubicBezTo>
                  <a:pt x="9285" y="18510"/>
                  <a:pt x="9257" y="18573"/>
                  <a:pt x="9227" y="18728"/>
                </a:cubicBezTo>
              </a:path>
              <a:path w="4937" h="4069">
                <a:moveTo>
                  <a:pt x="9550" y="18306"/>
                </a:moveTo>
                <a:cubicBezTo>
                  <a:pt x="9606" y="18268"/>
                  <a:pt x="9609" y="18251"/>
                  <a:pt x="9649" y="18256"/>
                </a:cubicBezTo>
                <a:cubicBezTo>
                  <a:pt x="9636" y="18418"/>
                  <a:pt x="9600" y="18475"/>
                  <a:pt x="9475" y="18579"/>
                </a:cubicBezTo>
                <a:cubicBezTo>
                  <a:pt x="9596" y="18547"/>
                  <a:pt x="9652" y="18532"/>
                  <a:pt x="9748" y="18455"/>
                </a:cubicBezTo>
              </a:path>
              <a:path w="4937" h="4069">
                <a:moveTo>
                  <a:pt x="10071" y="18157"/>
                </a:moveTo>
                <a:cubicBezTo>
                  <a:pt x="9975" y="18112"/>
                  <a:pt x="9774" y="18079"/>
                  <a:pt x="9723" y="18231"/>
                </a:cubicBezTo>
                <a:cubicBezTo>
                  <a:pt x="9731" y="18256"/>
                  <a:pt x="9740" y="18281"/>
                  <a:pt x="9748" y="18306"/>
                </a:cubicBezTo>
                <a:cubicBezTo>
                  <a:pt x="9920" y="18358"/>
                  <a:pt x="9931" y="18305"/>
                  <a:pt x="9996" y="18157"/>
                </a:cubicBezTo>
                <a:cubicBezTo>
                  <a:pt x="10056" y="18020"/>
                  <a:pt x="10068" y="18382"/>
                  <a:pt x="10071" y="18430"/>
                </a:cubicBezTo>
              </a:path>
              <a:path w="4937" h="4069">
                <a:moveTo>
                  <a:pt x="8508" y="14957"/>
                </a:moveTo>
                <a:cubicBezTo>
                  <a:pt x="8515" y="15037"/>
                  <a:pt x="8530" y="15105"/>
                  <a:pt x="8558" y="15180"/>
                </a:cubicBezTo>
                <a:cubicBezTo>
                  <a:pt x="8675" y="15159"/>
                  <a:pt x="8702" y="15135"/>
                  <a:pt x="8781" y="15056"/>
                </a:cubicBezTo>
              </a:path>
              <a:path w="4937" h="4069">
                <a:moveTo>
                  <a:pt x="8706" y="14759"/>
                </a:moveTo>
                <a:cubicBezTo>
                  <a:pt x="8752" y="14962"/>
                  <a:pt x="8814" y="15156"/>
                  <a:pt x="8880" y="15354"/>
                </a:cubicBezTo>
              </a:path>
              <a:path w="4937" h="4069">
                <a:moveTo>
                  <a:pt x="9128" y="14908"/>
                </a:moveTo>
                <a:cubicBezTo>
                  <a:pt x="9029" y="14985"/>
                  <a:pt x="8979" y="15057"/>
                  <a:pt x="8954" y="15180"/>
                </a:cubicBezTo>
                <a:cubicBezTo>
                  <a:pt x="9149" y="15242"/>
                  <a:pt x="9358" y="15292"/>
                  <a:pt x="9302" y="15553"/>
                </a:cubicBezTo>
                <a:cubicBezTo>
                  <a:pt x="9285" y="15569"/>
                  <a:pt x="9269" y="15586"/>
                  <a:pt x="9252" y="15602"/>
                </a:cubicBezTo>
                <a:cubicBezTo>
                  <a:pt x="9128" y="15495"/>
                  <a:pt x="9207" y="15309"/>
                  <a:pt x="9227" y="15131"/>
                </a:cubicBezTo>
                <a:cubicBezTo>
                  <a:pt x="9227" y="15114"/>
                  <a:pt x="9227" y="15098"/>
                  <a:pt x="9227" y="15081"/>
                </a:cubicBezTo>
              </a:path>
              <a:path w="4937" h="4069">
                <a:moveTo>
                  <a:pt x="10170" y="16123"/>
                </a:moveTo>
                <a:cubicBezTo>
                  <a:pt x="10124" y="16031"/>
                  <a:pt x="10377" y="16110"/>
                  <a:pt x="10443" y="16123"/>
                </a:cubicBezTo>
              </a:path>
              <a:path w="4937" h="4069">
                <a:moveTo>
                  <a:pt x="10195" y="16297"/>
                </a:moveTo>
                <a:cubicBezTo>
                  <a:pt x="10320" y="16255"/>
                  <a:pt x="10438" y="16226"/>
                  <a:pt x="10567" y="1619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697200" y="4179960"/>
            <a:ext cx="982800" cy="1419120"/>
          </a:xfrm>
          <a:custGeom>
            <a:avLst/>
            <a:gdLst/>
            <a:ahLst/>
            <a:rect l="l" t="t" r="r" b="b"/>
            <a:pathLst>
              <a:path w="2730" h="3945">
                <a:moveTo>
                  <a:pt x="10616" y="11757"/>
                </a:moveTo>
                <a:cubicBezTo>
                  <a:pt x="10635" y="11683"/>
                  <a:pt x="10774" y="11654"/>
                  <a:pt x="10840" y="11633"/>
                </a:cubicBezTo>
                <a:cubicBezTo>
                  <a:pt x="11028" y="11574"/>
                  <a:pt x="10939" y="11890"/>
                  <a:pt x="10939" y="12030"/>
                </a:cubicBezTo>
              </a:path>
              <a:path w="2730" h="3945">
                <a:moveTo>
                  <a:pt x="10468" y="13593"/>
                </a:moveTo>
                <a:cubicBezTo>
                  <a:pt x="10373" y="13614"/>
                  <a:pt x="10345" y="13648"/>
                  <a:pt x="10269" y="13717"/>
                </a:cubicBezTo>
                <a:cubicBezTo>
                  <a:pt x="10303" y="13855"/>
                  <a:pt x="10530" y="13768"/>
                  <a:pt x="10616" y="13891"/>
                </a:cubicBezTo>
                <a:cubicBezTo>
                  <a:pt x="10683" y="13987"/>
                  <a:pt x="10492" y="13993"/>
                  <a:pt x="10468" y="13990"/>
                </a:cubicBezTo>
                <a:cubicBezTo>
                  <a:pt x="10499" y="13844"/>
                  <a:pt x="10569" y="13736"/>
                  <a:pt x="10666" y="13618"/>
                </a:cubicBezTo>
              </a:path>
              <a:path w="2730" h="3945">
                <a:moveTo>
                  <a:pt x="10914" y="13494"/>
                </a:moveTo>
                <a:cubicBezTo>
                  <a:pt x="10930" y="13528"/>
                  <a:pt x="11034" y="13791"/>
                  <a:pt x="11137" y="13643"/>
                </a:cubicBezTo>
                <a:cubicBezTo>
                  <a:pt x="11186" y="13572"/>
                  <a:pt x="11162" y="13450"/>
                  <a:pt x="11162" y="13370"/>
                </a:cubicBezTo>
                <a:cubicBezTo>
                  <a:pt x="11153" y="13557"/>
                  <a:pt x="11188" y="13687"/>
                  <a:pt x="11261" y="13866"/>
                </a:cubicBezTo>
              </a:path>
              <a:path w="2730" h="3945">
                <a:moveTo>
                  <a:pt x="10294" y="14362"/>
                </a:moveTo>
                <a:cubicBezTo>
                  <a:pt x="10368" y="14177"/>
                  <a:pt x="10766" y="14112"/>
                  <a:pt x="10988" y="14039"/>
                </a:cubicBezTo>
                <a:cubicBezTo>
                  <a:pt x="11155" y="13984"/>
                  <a:pt x="11176" y="13987"/>
                  <a:pt x="11261" y="13940"/>
                </a:cubicBezTo>
              </a:path>
              <a:path w="2730" h="3945">
                <a:moveTo>
                  <a:pt x="11112" y="14213"/>
                </a:moveTo>
                <a:cubicBezTo>
                  <a:pt x="11073" y="14264"/>
                  <a:pt x="10820" y="14600"/>
                  <a:pt x="11038" y="14635"/>
                </a:cubicBezTo>
                <a:cubicBezTo>
                  <a:pt x="11276" y="14674"/>
                  <a:pt x="11334" y="14450"/>
                  <a:pt x="11261" y="14288"/>
                </a:cubicBezTo>
                <a:cubicBezTo>
                  <a:pt x="11253" y="14280"/>
                  <a:pt x="11245" y="14271"/>
                  <a:pt x="11237" y="14263"/>
                </a:cubicBezTo>
              </a:path>
              <a:path w="2730" h="3945">
                <a:moveTo>
                  <a:pt x="11485" y="13370"/>
                </a:moveTo>
                <a:cubicBezTo>
                  <a:pt x="11485" y="13524"/>
                  <a:pt x="11526" y="13666"/>
                  <a:pt x="11559" y="13816"/>
                </a:cubicBezTo>
              </a:path>
              <a:path w="2730" h="3945">
                <a:moveTo>
                  <a:pt x="11584" y="14064"/>
                </a:moveTo>
                <a:cubicBezTo>
                  <a:pt x="11575" y="14212"/>
                  <a:pt x="11626" y="14292"/>
                  <a:pt x="11807" y="14188"/>
                </a:cubicBezTo>
                <a:cubicBezTo>
                  <a:pt x="11807" y="14180"/>
                  <a:pt x="11807" y="14171"/>
                  <a:pt x="11807" y="14163"/>
                </a:cubicBezTo>
              </a:path>
              <a:path w="2730" h="3945">
                <a:moveTo>
                  <a:pt x="11782" y="14015"/>
                </a:moveTo>
                <a:cubicBezTo>
                  <a:pt x="11802" y="14193"/>
                  <a:pt x="11847" y="14316"/>
                  <a:pt x="11956" y="14461"/>
                </a:cubicBezTo>
              </a:path>
              <a:path w="2730" h="3945">
                <a:moveTo>
                  <a:pt x="11460" y="11881"/>
                </a:moveTo>
                <a:cubicBezTo>
                  <a:pt x="11370" y="11893"/>
                  <a:pt x="11292" y="12028"/>
                  <a:pt x="11410" y="12129"/>
                </a:cubicBezTo>
                <a:cubicBezTo>
                  <a:pt x="11495" y="12202"/>
                  <a:pt x="11711" y="12099"/>
                  <a:pt x="11683" y="11981"/>
                </a:cubicBezTo>
                <a:cubicBezTo>
                  <a:pt x="11676" y="11950"/>
                  <a:pt x="11511" y="11915"/>
                  <a:pt x="11485" y="11906"/>
                </a:cubicBezTo>
              </a:path>
              <a:path w="2730" h="3945">
                <a:moveTo>
                  <a:pt x="12378" y="12378"/>
                </a:moveTo>
                <a:cubicBezTo>
                  <a:pt x="12234" y="12457"/>
                  <a:pt x="12136" y="12566"/>
                  <a:pt x="12154" y="12750"/>
                </a:cubicBezTo>
                <a:cubicBezTo>
                  <a:pt x="12169" y="12905"/>
                  <a:pt x="12467" y="12858"/>
                  <a:pt x="12427" y="12725"/>
                </a:cubicBezTo>
                <a:cubicBezTo>
                  <a:pt x="12402" y="12700"/>
                  <a:pt x="12378" y="12675"/>
                  <a:pt x="12353" y="12650"/>
                </a:cubicBezTo>
              </a:path>
              <a:path w="2730" h="3945">
                <a:moveTo>
                  <a:pt x="12229" y="12998"/>
                </a:moveTo>
                <a:cubicBezTo>
                  <a:pt x="12253" y="13194"/>
                  <a:pt x="12317" y="13379"/>
                  <a:pt x="12378" y="13568"/>
                </a:cubicBezTo>
              </a:path>
              <a:path w="2730" h="3945">
                <a:moveTo>
                  <a:pt x="12576" y="13891"/>
                </a:moveTo>
                <a:cubicBezTo>
                  <a:pt x="12406" y="14007"/>
                  <a:pt x="12352" y="14083"/>
                  <a:pt x="12328" y="14288"/>
                </a:cubicBezTo>
                <a:cubicBezTo>
                  <a:pt x="12397" y="14293"/>
                  <a:pt x="12714" y="14257"/>
                  <a:pt x="12601" y="14089"/>
                </a:cubicBezTo>
                <a:cubicBezTo>
                  <a:pt x="12568" y="14072"/>
                  <a:pt x="12535" y="14056"/>
                  <a:pt x="12502" y="14039"/>
                </a:cubicBezTo>
              </a:path>
              <a:path w="2730" h="3945">
                <a:moveTo>
                  <a:pt x="11881" y="11708"/>
                </a:moveTo>
                <a:cubicBezTo>
                  <a:pt x="11903" y="11663"/>
                  <a:pt x="11952" y="11642"/>
                  <a:pt x="12005" y="11609"/>
                </a:cubicBezTo>
                <a:cubicBezTo>
                  <a:pt x="12036" y="11702"/>
                  <a:pt x="12036" y="11747"/>
                  <a:pt x="11981" y="11832"/>
                </a:cubicBezTo>
                <a:cubicBezTo>
                  <a:pt x="12127" y="11787"/>
                  <a:pt x="12261" y="11842"/>
                  <a:pt x="12179" y="12030"/>
                </a:cubicBezTo>
                <a:cubicBezTo>
                  <a:pt x="12109" y="12101"/>
                  <a:pt x="12088" y="12123"/>
                  <a:pt x="12030" y="12154"/>
                </a:cubicBezTo>
              </a:path>
              <a:path w="2730" h="3945">
                <a:moveTo>
                  <a:pt x="11733" y="14709"/>
                </a:moveTo>
                <a:cubicBezTo>
                  <a:pt x="11764" y="14690"/>
                  <a:pt x="12129" y="14471"/>
                  <a:pt x="12105" y="14635"/>
                </a:cubicBezTo>
                <a:cubicBezTo>
                  <a:pt x="12052" y="14713"/>
                  <a:pt x="12032" y="14742"/>
                  <a:pt x="11981" y="14784"/>
                </a:cubicBezTo>
                <a:cubicBezTo>
                  <a:pt x="12108" y="14749"/>
                  <a:pt x="12327" y="14757"/>
                  <a:pt x="12179" y="14957"/>
                </a:cubicBezTo>
                <a:cubicBezTo>
                  <a:pt x="12071" y="15044"/>
                  <a:pt x="12049" y="15077"/>
                  <a:pt x="11956" y="15056"/>
                </a:cubicBezTo>
              </a:path>
              <a:path w="2730" h="3945">
                <a:moveTo>
                  <a:pt x="12477" y="14436"/>
                </a:moveTo>
                <a:cubicBezTo>
                  <a:pt x="12487" y="14534"/>
                  <a:pt x="12477" y="14801"/>
                  <a:pt x="12626" y="14784"/>
                </a:cubicBezTo>
                <a:cubicBezTo>
                  <a:pt x="12771" y="14768"/>
                  <a:pt x="12724" y="14611"/>
                  <a:pt x="12526" y="14808"/>
                </a:cubicBezTo>
              </a:path>
              <a:path w="2730" h="3945">
                <a:moveTo>
                  <a:pt x="11857" y="15230"/>
                </a:moveTo>
                <a:cubicBezTo>
                  <a:pt x="12187" y="15084"/>
                  <a:pt x="12523" y="14965"/>
                  <a:pt x="12849" y="14808"/>
                </a:cubicBezTo>
              </a:path>
              <a:path w="2730" h="3945">
                <a:moveTo>
                  <a:pt x="12650" y="15205"/>
                </a:moveTo>
                <a:cubicBezTo>
                  <a:pt x="12737" y="15363"/>
                  <a:pt x="12792" y="15332"/>
                  <a:pt x="12948" y="15255"/>
                </a:cubicBezTo>
              </a:path>
              <a:path w="2730" h="3945">
                <a:moveTo>
                  <a:pt x="12874" y="15131"/>
                </a:moveTo>
                <a:cubicBezTo>
                  <a:pt x="12905" y="15281"/>
                  <a:pt x="12943" y="15409"/>
                  <a:pt x="12998" y="1555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10000" y="5724360"/>
            <a:ext cx="1500120" cy="1027440"/>
          </a:xfrm>
          <a:custGeom>
            <a:avLst/>
            <a:gdLst/>
            <a:ahLst/>
            <a:rect l="l" t="t" r="r" b="b"/>
            <a:pathLst>
              <a:path w="4168" h="2853">
                <a:moveTo>
                  <a:pt x="9748" y="18604"/>
                </a:moveTo>
                <a:cubicBezTo>
                  <a:pt x="9814" y="18571"/>
                  <a:pt x="9881" y="18537"/>
                  <a:pt x="9947" y="18504"/>
                </a:cubicBezTo>
                <a:cubicBezTo>
                  <a:pt x="9942" y="18527"/>
                  <a:pt x="9847" y="18742"/>
                  <a:pt x="9922" y="18752"/>
                </a:cubicBezTo>
                <a:cubicBezTo>
                  <a:pt x="10024" y="18727"/>
                  <a:pt x="10060" y="18718"/>
                  <a:pt x="10120" y="18678"/>
                </a:cubicBezTo>
              </a:path>
              <a:path w="4168" h="2853">
                <a:moveTo>
                  <a:pt x="10220" y="18479"/>
                </a:moveTo>
                <a:cubicBezTo>
                  <a:pt x="10266" y="18545"/>
                  <a:pt x="10264" y="18544"/>
                  <a:pt x="10344" y="18554"/>
                </a:cubicBezTo>
              </a:path>
              <a:path w="4168" h="2853">
                <a:moveTo>
                  <a:pt x="10368" y="18455"/>
                </a:moveTo>
                <a:cubicBezTo>
                  <a:pt x="10391" y="18546"/>
                  <a:pt x="10397" y="18572"/>
                  <a:pt x="10418" y="18628"/>
                </a:cubicBezTo>
              </a:path>
              <a:path w="4168" h="2853">
                <a:moveTo>
                  <a:pt x="10492" y="18628"/>
                </a:moveTo>
                <a:lnTo>
                  <a:pt x="10492" y="18628"/>
                </a:lnTo>
              </a:path>
              <a:path w="4168" h="2853">
                <a:moveTo>
                  <a:pt x="10790" y="18281"/>
                </a:moveTo>
                <a:cubicBezTo>
                  <a:pt x="10790" y="18306"/>
                  <a:pt x="10790" y="18330"/>
                  <a:pt x="10790" y="18355"/>
                </a:cubicBezTo>
                <a:cubicBezTo>
                  <a:pt x="10841" y="18315"/>
                  <a:pt x="10912" y="18286"/>
                  <a:pt x="10964" y="18355"/>
                </a:cubicBezTo>
                <a:cubicBezTo>
                  <a:pt x="11062" y="18487"/>
                  <a:pt x="11011" y="18490"/>
                  <a:pt x="10914" y="18579"/>
                </a:cubicBezTo>
              </a:path>
              <a:path w="4168" h="2853">
                <a:moveTo>
                  <a:pt x="10864" y="18182"/>
                </a:moveTo>
                <a:cubicBezTo>
                  <a:pt x="10942" y="18160"/>
                  <a:pt x="10992" y="18143"/>
                  <a:pt x="11063" y="18107"/>
                </a:cubicBezTo>
              </a:path>
              <a:path w="4168" h="2853">
                <a:moveTo>
                  <a:pt x="11311" y="18058"/>
                </a:moveTo>
                <a:cubicBezTo>
                  <a:pt x="11286" y="18180"/>
                  <a:pt x="11269" y="18262"/>
                  <a:pt x="11286" y="18380"/>
                </a:cubicBezTo>
                <a:cubicBezTo>
                  <a:pt x="11374" y="18360"/>
                  <a:pt x="11587" y="18282"/>
                  <a:pt x="11509" y="18132"/>
                </a:cubicBezTo>
                <a:cubicBezTo>
                  <a:pt x="11484" y="18116"/>
                  <a:pt x="11460" y="18099"/>
                  <a:pt x="11435" y="18083"/>
                </a:cubicBezTo>
              </a:path>
              <a:path w="4168" h="2853">
                <a:moveTo>
                  <a:pt x="10691" y="18107"/>
                </a:moveTo>
                <a:cubicBezTo>
                  <a:pt x="10680" y="18275"/>
                  <a:pt x="10651" y="18416"/>
                  <a:pt x="10616" y="18579"/>
                </a:cubicBezTo>
              </a:path>
              <a:path w="4168" h="2853">
                <a:moveTo>
                  <a:pt x="11286" y="16049"/>
                </a:moveTo>
                <a:cubicBezTo>
                  <a:pt x="11252" y="16116"/>
                  <a:pt x="11174" y="16083"/>
                  <a:pt x="11137" y="16148"/>
                </a:cubicBezTo>
                <a:cubicBezTo>
                  <a:pt x="11129" y="16181"/>
                  <a:pt x="11120" y="16214"/>
                  <a:pt x="11112" y="16247"/>
                </a:cubicBezTo>
                <a:cubicBezTo>
                  <a:pt x="11158" y="16385"/>
                  <a:pt x="11247" y="16155"/>
                  <a:pt x="11385" y="16173"/>
                </a:cubicBezTo>
                <a:cubicBezTo>
                  <a:pt x="11584" y="16199"/>
                  <a:pt x="11672" y="16573"/>
                  <a:pt x="11485" y="16669"/>
                </a:cubicBezTo>
                <a:cubicBezTo>
                  <a:pt x="11351" y="16738"/>
                  <a:pt x="11145" y="16578"/>
                  <a:pt x="11038" y="16520"/>
                </a:cubicBezTo>
              </a:path>
              <a:path w="4168" h="2853">
                <a:moveTo>
                  <a:pt x="11683" y="16123"/>
                </a:moveTo>
                <a:cubicBezTo>
                  <a:pt x="11755" y="16123"/>
                  <a:pt x="11997" y="16077"/>
                  <a:pt x="12005" y="16197"/>
                </a:cubicBezTo>
                <a:cubicBezTo>
                  <a:pt x="12010" y="16277"/>
                  <a:pt x="11890" y="16322"/>
                  <a:pt x="11857" y="16272"/>
                </a:cubicBezTo>
                <a:cubicBezTo>
                  <a:pt x="12006" y="16182"/>
                  <a:pt x="12233" y="16167"/>
                  <a:pt x="12154" y="16446"/>
                </a:cubicBezTo>
                <a:cubicBezTo>
                  <a:pt x="12114" y="16587"/>
                  <a:pt x="11824" y="16710"/>
                  <a:pt x="11708" y="16594"/>
                </a:cubicBezTo>
                <a:cubicBezTo>
                  <a:pt x="11708" y="16569"/>
                  <a:pt x="11708" y="16545"/>
                  <a:pt x="11708" y="16520"/>
                </a:cubicBezTo>
              </a:path>
              <a:path w="4168" h="2853">
                <a:moveTo>
                  <a:pt x="12576" y="16421"/>
                </a:moveTo>
                <a:cubicBezTo>
                  <a:pt x="12524" y="16498"/>
                  <a:pt x="12517" y="16522"/>
                  <a:pt x="12576" y="16594"/>
                </a:cubicBezTo>
                <a:cubicBezTo>
                  <a:pt x="12599" y="16527"/>
                  <a:pt x="12614" y="16506"/>
                  <a:pt x="12551" y="16495"/>
                </a:cubicBezTo>
              </a:path>
              <a:path w="4168" h="2853">
                <a:moveTo>
                  <a:pt x="13072" y="15999"/>
                </a:moveTo>
                <a:cubicBezTo>
                  <a:pt x="12953" y="16098"/>
                  <a:pt x="12940" y="16127"/>
                  <a:pt x="12849" y="16148"/>
                </a:cubicBezTo>
                <a:cubicBezTo>
                  <a:pt x="12960" y="16147"/>
                  <a:pt x="12844" y="16206"/>
                  <a:pt x="13022" y="16222"/>
                </a:cubicBezTo>
                <a:cubicBezTo>
                  <a:pt x="13214" y="16240"/>
                  <a:pt x="13403" y="16391"/>
                  <a:pt x="13146" y="16520"/>
                </a:cubicBezTo>
                <a:cubicBezTo>
                  <a:pt x="12964" y="16612"/>
                  <a:pt x="12915" y="16562"/>
                  <a:pt x="12799" y="16446"/>
                </a:cubicBezTo>
              </a:path>
              <a:path w="4168" h="2853">
                <a:moveTo>
                  <a:pt x="13742" y="15900"/>
                </a:moveTo>
                <a:cubicBezTo>
                  <a:pt x="13580" y="15914"/>
                  <a:pt x="13494" y="15884"/>
                  <a:pt x="13494" y="16024"/>
                </a:cubicBezTo>
                <a:cubicBezTo>
                  <a:pt x="13494" y="16057"/>
                  <a:pt x="13494" y="16090"/>
                  <a:pt x="13494" y="16123"/>
                </a:cubicBezTo>
                <a:cubicBezTo>
                  <a:pt x="13628" y="16086"/>
                  <a:pt x="13786" y="16077"/>
                  <a:pt x="13891" y="16197"/>
                </a:cubicBezTo>
                <a:cubicBezTo>
                  <a:pt x="14034" y="16361"/>
                  <a:pt x="13615" y="16478"/>
                  <a:pt x="13519" y="16470"/>
                </a:cubicBezTo>
                <a:cubicBezTo>
                  <a:pt x="13486" y="16454"/>
                  <a:pt x="13452" y="16437"/>
                  <a:pt x="13419" y="164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83160" y="4197240"/>
            <a:ext cx="1677960" cy="473040"/>
          </a:xfrm>
          <a:custGeom>
            <a:avLst/>
            <a:gdLst/>
            <a:ahLst/>
            <a:rect l="l" t="t" r="r" b="b"/>
            <a:pathLst>
              <a:path w="4664" h="1316">
                <a:moveTo>
                  <a:pt x="15230" y="12402"/>
                </a:moveTo>
                <a:cubicBezTo>
                  <a:pt x="15337" y="12402"/>
                  <a:pt x="15621" y="12322"/>
                  <a:pt x="15701" y="12378"/>
                </a:cubicBezTo>
                <a:cubicBezTo>
                  <a:pt x="15811" y="12455"/>
                  <a:pt x="15649" y="12872"/>
                  <a:pt x="15627" y="12973"/>
                </a:cubicBezTo>
              </a:path>
              <a:path w="4664" h="1316">
                <a:moveTo>
                  <a:pt x="15949" y="12799"/>
                </a:moveTo>
                <a:cubicBezTo>
                  <a:pt x="15949" y="12816"/>
                  <a:pt x="15949" y="12832"/>
                  <a:pt x="15949" y="12849"/>
                </a:cubicBezTo>
              </a:path>
              <a:path w="4664" h="1316">
                <a:moveTo>
                  <a:pt x="16247" y="12378"/>
                </a:moveTo>
                <a:cubicBezTo>
                  <a:pt x="16192" y="12557"/>
                  <a:pt x="16154" y="12585"/>
                  <a:pt x="16197" y="12750"/>
                </a:cubicBezTo>
                <a:cubicBezTo>
                  <a:pt x="16390" y="12664"/>
                  <a:pt x="16453" y="12600"/>
                  <a:pt x="16297" y="12427"/>
                </a:cubicBezTo>
              </a:path>
              <a:path w="4664" h="1316">
                <a:moveTo>
                  <a:pt x="16644" y="12229"/>
                </a:moveTo>
                <a:cubicBezTo>
                  <a:pt x="16822" y="12264"/>
                  <a:pt x="16797" y="12278"/>
                  <a:pt x="16669" y="12427"/>
                </a:cubicBezTo>
                <a:cubicBezTo>
                  <a:pt x="16766" y="12427"/>
                  <a:pt x="16922" y="12417"/>
                  <a:pt x="16942" y="12551"/>
                </a:cubicBezTo>
                <a:cubicBezTo>
                  <a:pt x="16979" y="12796"/>
                  <a:pt x="16660" y="12752"/>
                  <a:pt x="16545" y="12725"/>
                </a:cubicBezTo>
              </a:path>
              <a:path w="4664" h="1316">
                <a:moveTo>
                  <a:pt x="16545" y="12055"/>
                </a:moveTo>
                <a:cubicBezTo>
                  <a:pt x="16528" y="12055"/>
                  <a:pt x="16512" y="12055"/>
                  <a:pt x="16495" y="12055"/>
                </a:cubicBezTo>
                <a:cubicBezTo>
                  <a:pt x="16585" y="12015"/>
                  <a:pt x="16674" y="11975"/>
                  <a:pt x="16768" y="11956"/>
                </a:cubicBezTo>
              </a:path>
              <a:path w="4664" h="1316">
                <a:moveTo>
                  <a:pt x="15577" y="11757"/>
                </a:moveTo>
                <a:cubicBezTo>
                  <a:pt x="15672" y="11729"/>
                  <a:pt x="15750" y="11694"/>
                  <a:pt x="15850" y="11683"/>
                </a:cubicBezTo>
                <a:cubicBezTo>
                  <a:pt x="15999" y="11666"/>
                  <a:pt x="16146" y="11658"/>
                  <a:pt x="16297" y="11658"/>
                </a:cubicBezTo>
                <a:cubicBezTo>
                  <a:pt x="16474" y="11658"/>
                  <a:pt x="16646" y="11667"/>
                  <a:pt x="16818" y="11683"/>
                </a:cubicBezTo>
                <a:cubicBezTo>
                  <a:pt x="16937" y="11694"/>
                  <a:pt x="17053" y="11676"/>
                  <a:pt x="17165" y="11683"/>
                </a:cubicBezTo>
                <a:cubicBezTo>
                  <a:pt x="17281" y="11690"/>
                  <a:pt x="17393" y="11658"/>
                  <a:pt x="17512" y="11658"/>
                </a:cubicBezTo>
                <a:cubicBezTo>
                  <a:pt x="17681" y="11658"/>
                  <a:pt x="17848" y="11666"/>
                  <a:pt x="18008" y="11683"/>
                </a:cubicBezTo>
                <a:cubicBezTo>
                  <a:pt x="18086" y="11691"/>
                  <a:pt x="18178" y="11691"/>
                  <a:pt x="18256" y="11708"/>
                </a:cubicBezTo>
                <a:cubicBezTo>
                  <a:pt x="18359" y="11730"/>
                  <a:pt x="18447" y="11733"/>
                  <a:pt x="18554" y="11733"/>
                </a:cubicBezTo>
                <a:cubicBezTo>
                  <a:pt x="18682" y="11733"/>
                  <a:pt x="18800" y="11712"/>
                  <a:pt x="18926" y="11708"/>
                </a:cubicBezTo>
                <a:cubicBezTo>
                  <a:pt x="19045" y="11705"/>
                  <a:pt x="19157" y="11686"/>
                  <a:pt x="19273" y="11683"/>
                </a:cubicBezTo>
                <a:cubicBezTo>
                  <a:pt x="19479" y="11677"/>
                  <a:pt x="19687" y="11683"/>
                  <a:pt x="19893" y="1168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80773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atio of heads to legs for humans is 1 to 2.  The ratio of legs to toes is 1 to 5.  What is the ratio of heads to toes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B     Explain why your answer is correct.  Use what you know about equivalent ratios in your explanation.  Use words, numbers, and/or symbols in your explanation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95240" y="1490760"/>
            <a:ext cx="249480" cy="465120"/>
          </a:xfrm>
          <a:custGeom>
            <a:avLst/>
            <a:gdLst/>
            <a:ahLst/>
            <a:rect l="l" t="t" r="r" b="b"/>
            <a:pathLst>
              <a:path w="695" h="1291">
                <a:moveTo>
                  <a:pt x="2604" y="4142"/>
                </a:moveTo>
                <a:cubicBezTo>
                  <a:pt x="2642" y="4257"/>
                  <a:pt x="2658" y="4376"/>
                  <a:pt x="2704" y="4490"/>
                </a:cubicBezTo>
              </a:path>
              <a:path w="695" h="1291">
                <a:moveTo>
                  <a:pt x="2208" y="4862"/>
                </a:moveTo>
                <a:cubicBezTo>
                  <a:pt x="2405" y="4845"/>
                  <a:pt x="2608" y="4822"/>
                  <a:pt x="2803" y="4787"/>
                </a:cubicBezTo>
                <a:cubicBezTo>
                  <a:pt x="2836" y="4779"/>
                  <a:pt x="2869" y="4770"/>
                  <a:pt x="2902" y="4762"/>
                </a:cubicBezTo>
              </a:path>
              <a:path w="695" h="1291">
                <a:moveTo>
                  <a:pt x="2381" y="5184"/>
                </a:moveTo>
                <a:cubicBezTo>
                  <a:pt x="2480" y="5149"/>
                  <a:pt x="2578" y="5115"/>
                  <a:pt x="2679" y="5085"/>
                </a:cubicBezTo>
                <a:cubicBezTo>
                  <a:pt x="2639" y="5232"/>
                  <a:pt x="2342" y="5293"/>
                  <a:pt x="2406" y="5432"/>
                </a:cubicBezTo>
                <a:cubicBezTo>
                  <a:pt x="2416" y="5453"/>
                  <a:pt x="2638" y="5407"/>
                  <a:pt x="2679" y="540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017800" y="1465200"/>
            <a:ext cx="920520" cy="490680"/>
          </a:xfrm>
          <a:custGeom>
            <a:avLst/>
            <a:gdLst/>
            <a:ahLst/>
            <a:rect l="l" t="t" r="r" b="b"/>
            <a:pathLst>
              <a:path w="2556" h="1365">
                <a:moveTo>
                  <a:pt x="5953" y="4118"/>
                </a:moveTo>
                <a:cubicBezTo>
                  <a:pt x="5962" y="4292"/>
                  <a:pt x="5971" y="4469"/>
                  <a:pt x="6003" y="4638"/>
                </a:cubicBezTo>
              </a:path>
              <a:path w="2556" h="1365">
                <a:moveTo>
                  <a:pt x="5606" y="4986"/>
                </a:moveTo>
                <a:cubicBezTo>
                  <a:pt x="5822" y="4948"/>
                  <a:pt x="6039" y="4912"/>
                  <a:pt x="6251" y="4862"/>
                </a:cubicBezTo>
              </a:path>
              <a:path w="2556" h="1365">
                <a:moveTo>
                  <a:pt x="6003" y="5085"/>
                </a:moveTo>
                <a:cubicBezTo>
                  <a:pt x="5970" y="5074"/>
                  <a:pt x="5847" y="5066"/>
                  <a:pt x="5829" y="5135"/>
                </a:cubicBezTo>
                <a:cubicBezTo>
                  <a:pt x="5829" y="5201"/>
                  <a:pt x="5829" y="5218"/>
                  <a:pt x="5829" y="5259"/>
                </a:cubicBezTo>
                <a:cubicBezTo>
                  <a:pt x="5931" y="5253"/>
                  <a:pt x="6005" y="5244"/>
                  <a:pt x="6102" y="5259"/>
                </a:cubicBezTo>
                <a:cubicBezTo>
                  <a:pt x="6008" y="5422"/>
                  <a:pt x="5925" y="5430"/>
                  <a:pt x="5730" y="5407"/>
                </a:cubicBezTo>
              </a:path>
              <a:path w="2556" h="1365">
                <a:moveTo>
                  <a:pt x="6598" y="4068"/>
                </a:moveTo>
                <a:cubicBezTo>
                  <a:pt x="6612" y="4255"/>
                  <a:pt x="6660" y="4431"/>
                  <a:pt x="6697" y="4614"/>
                </a:cubicBezTo>
              </a:path>
              <a:path w="2556" h="1365">
                <a:moveTo>
                  <a:pt x="6821" y="4440"/>
                </a:moveTo>
                <a:cubicBezTo>
                  <a:pt x="6932" y="4390"/>
                  <a:pt x="7008" y="4389"/>
                  <a:pt x="7020" y="4291"/>
                </a:cubicBezTo>
                <a:cubicBezTo>
                  <a:pt x="6919" y="4253"/>
                  <a:pt x="6902" y="4257"/>
                  <a:pt x="6921" y="4390"/>
                </a:cubicBezTo>
                <a:cubicBezTo>
                  <a:pt x="6944" y="4486"/>
                  <a:pt x="6948" y="4517"/>
                  <a:pt x="7020" y="4539"/>
                </a:cubicBezTo>
              </a:path>
              <a:path w="2556" h="1365">
                <a:moveTo>
                  <a:pt x="7317" y="4242"/>
                </a:moveTo>
                <a:cubicBezTo>
                  <a:pt x="7280" y="4250"/>
                  <a:pt x="7070" y="4337"/>
                  <a:pt x="7169" y="4415"/>
                </a:cubicBezTo>
                <a:cubicBezTo>
                  <a:pt x="7246" y="4475"/>
                  <a:pt x="7297" y="4350"/>
                  <a:pt x="7317" y="4316"/>
                </a:cubicBezTo>
                <a:cubicBezTo>
                  <a:pt x="7344" y="4424"/>
                  <a:pt x="7395" y="4531"/>
                  <a:pt x="7441" y="4638"/>
                </a:cubicBezTo>
              </a:path>
              <a:path w="2556" h="1365">
                <a:moveTo>
                  <a:pt x="7565" y="4217"/>
                </a:moveTo>
                <a:cubicBezTo>
                  <a:pt x="7549" y="4233"/>
                  <a:pt x="7532" y="4250"/>
                  <a:pt x="7516" y="4266"/>
                </a:cubicBezTo>
                <a:cubicBezTo>
                  <a:pt x="7689" y="4353"/>
                  <a:pt x="7741" y="4300"/>
                  <a:pt x="7665" y="4465"/>
                </a:cubicBezTo>
              </a:path>
              <a:path w="2556" h="1365">
                <a:moveTo>
                  <a:pt x="6921" y="5060"/>
                </a:moveTo>
                <a:cubicBezTo>
                  <a:pt x="6954" y="5153"/>
                  <a:pt x="6982" y="5241"/>
                  <a:pt x="7020" y="5333"/>
                </a:cubicBezTo>
              </a:path>
              <a:path w="2556" h="1365">
                <a:moveTo>
                  <a:pt x="6772" y="5234"/>
                </a:moveTo>
                <a:cubicBezTo>
                  <a:pt x="6951" y="5178"/>
                  <a:pt x="7097" y="5039"/>
                  <a:pt x="7193" y="5184"/>
                </a:cubicBezTo>
                <a:cubicBezTo>
                  <a:pt x="7219" y="5262"/>
                  <a:pt x="7230" y="5289"/>
                  <a:pt x="7293" y="5308"/>
                </a:cubicBezTo>
                <a:cubicBezTo>
                  <a:pt x="7358" y="5209"/>
                  <a:pt x="7360" y="5165"/>
                  <a:pt x="7268" y="5085"/>
                </a:cubicBezTo>
              </a:path>
              <a:path w="2556" h="1365">
                <a:moveTo>
                  <a:pt x="7615" y="5035"/>
                </a:moveTo>
                <a:cubicBezTo>
                  <a:pt x="7565" y="5011"/>
                  <a:pt x="7549" y="5003"/>
                  <a:pt x="7516" y="4986"/>
                </a:cubicBezTo>
                <a:cubicBezTo>
                  <a:pt x="7532" y="5035"/>
                  <a:pt x="7640" y="5030"/>
                  <a:pt x="7640" y="4936"/>
                </a:cubicBezTo>
                <a:cubicBezTo>
                  <a:pt x="7568" y="4928"/>
                  <a:pt x="7456" y="5047"/>
                  <a:pt x="7565" y="5135"/>
                </a:cubicBezTo>
                <a:cubicBezTo>
                  <a:pt x="7678" y="5162"/>
                  <a:pt x="7724" y="5163"/>
                  <a:pt x="7789" y="5085"/>
                </a:cubicBezTo>
              </a:path>
              <a:path w="2556" h="1365">
                <a:moveTo>
                  <a:pt x="8012" y="4862"/>
                </a:moveTo>
                <a:cubicBezTo>
                  <a:pt x="7948" y="4875"/>
                  <a:pt x="7950" y="4884"/>
                  <a:pt x="7913" y="4936"/>
                </a:cubicBezTo>
                <a:cubicBezTo>
                  <a:pt x="7967" y="4952"/>
                  <a:pt x="8248" y="4984"/>
                  <a:pt x="8161" y="5110"/>
                </a:cubicBezTo>
                <a:cubicBezTo>
                  <a:pt x="8128" y="5135"/>
                  <a:pt x="8095" y="5159"/>
                  <a:pt x="8062" y="518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483000" y="1419120"/>
            <a:ext cx="1500120" cy="546120"/>
          </a:xfrm>
          <a:custGeom>
            <a:avLst/>
            <a:gdLst/>
            <a:ahLst/>
            <a:rect l="l" t="t" r="r" b="b"/>
            <a:pathLst>
              <a:path w="4168" h="1514">
                <a:moveTo>
                  <a:pt x="10914" y="4167"/>
                </a:moveTo>
                <a:cubicBezTo>
                  <a:pt x="10973" y="4202"/>
                  <a:pt x="11027" y="4411"/>
                  <a:pt x="11063" y="4539"/>
                </a:cubicBezTo>
              </a:path>
              <a:path w="4168" h="1514">
                <a:moveTo>
                  <a:pt x="10592" y="4787"/>
                </a:moveTo>
                <a:cubicBezTo>
                  <a:pt x="10930" y="4769"/>
                  <a:pt x="11272" y="4749"/>
                  <a:pt x="11609" y="4713"/>
                </a:cubicBezTo>
                <a:cubicBezTo>
                  <a:pt x="11658" y="4705"/>
                  <a:pt x="11708" y="4696"/>
                  <a:pt x="11757" y="4688"/>
                </a:cubicBezTo>
              </a:path>
              <a:path w="4168" h="1514">
                <a:moveTo>
                  <a:pt x="10716" y="5035"/>
                </a:moveTo>
                <a:cubicBezTo>
                  <a:pt x="10716" y="5156"/>
                  <a:pt x="10703" y="5266"/>
                  <a:pt x="10691" y="5383"/>
                </a:cubicBezTo>
              </a:path>
              <a:path w="4168" h="1514">
                <a:moveTo>
                  <a:pt x="11261" y="4986"/>
                </a:moveTo>
                <a:cubicBezTo>
                  <a:pt x="11182" y="5108"/>
                  <a:pt x="11154" y="5165"/>
                  <a:pt x="11137" y="5308"/>
                </a:cubicBezTo>
                <a:cubicBezTo>
                  <a:pt x="11249" y="5330"/>
                  <a:pt x="11596" y="5343"/>
                  <a:pt x="11534" y="5110"/>
                </a:cubicBezTo>
                <a:cubicBezTo>
                  <a:pt x="11420" y="5024"/>
                  <a:pt x="11369" y="4994"/>
                  <a:pt x="11261" y="4986"/>
                </a:cubicBezTo>
              </a:path>
              <a:path w="4168" h="1514">
                <a:moveTo>
                  <a:pt x="11981" y="4217"/>
                </a:moveTo>
                <a:cubicBezTo>
                  <a:pt x="12002" y="4432"/>
                  <a:pt x="12010" y="4481"/>
                  <a:pt x="12005" y="4614"/>
                </a:cubicBezTo>
                <a:cubicBezTo>
                  <a:pt x="12005" y="4729"/>
                  <a:pt x="12004" y="4409"/>
                  <a:pt x="12055" y="4366"/>
                </a:cubicBezTo>
                <a:cubicBezTo>
                  <a:pt x="12198" y="4245"/>
                  <a:pt x="12415" y="4596"/>
                  <a:pt x="12452" y="4638"/>
                </a:cubicBezTo>
              </a:path>
              <a:path w="4168" h="1514">
                <a:moveTo>
                  <a:pt x="12526" y="4490"/>
                </a:moveTo>
                <a:cubicBezTo>
                  <a:pt x="12604" y="4422"/>
                  <a:pt x="12658" y="4370"/>
                  <a:pt x="12725" y="4291"/>
                </a:cubicBezTo>
                <a:cubicBezTo>
                  <a:pt x="12662" y="4333"/>
                  <a:pt x="12384" y="4549"/>
                  <a:pt x="12650" y="4589"/>
                </a:cubicBezTo>
                <a:cubicBezTo>
                  <a:pt x="12708" y="4581"/>
                  <a:pt x="12766" y="4572"/>
                  <a:pt x="12824" y="4564"/>
                </a:cubicBezTo>
              </a:path>
              <a:path w="4168" h="1514">
                <a:moveTo>
                  <a:pt x="13146" y="4341"/>
                </a:moveTo>
                <a:cubicBezTo>
                  <a:pt x="13013" y="4341"/>
                  <a:pt x="12778" y="4439"/>
                  <a:pt x="12898" y="4638"/>
                </a:cubicBezTo>
                <a:cubicBezTo>
                  <a:pt x="12954" y="4731"/>
                  <a:pt x="13052" y="4564"/>
                  <a:pt x="13097" y="4465"/>
                </a:cubicBezTo>
                <a:cubicBezTo>
                  <a:pt x="13127" y="4376"/>
                  <a:pt x="13139" y="4520"/>
                  <a:pt x="13171" y="4589"/>
                </a:cubicBezTo>
              </a:path>
              <a:path w="4168" h="1514">
                <a:moveTo>
                  <a:pt x="13643" y="4440"/>
                </a:moveTo>
                <a:cubicBezTo>
                  <a:pt x="13571" y="4314"/>
                  <a:pt x="13496" y="4320"/>
                  <a:pt x="13395" y="4440"/>
                </a:cubicBezTo>
                <a:cubicBezTo>
                  <a:pt x="13279" y="4577"/>
                  <a:pt x="13371" y="4574"/>
                  <a:pt x="13469" y="4589"/>
                </a:cubicBezTo>
              </a:path>
              <a:path w="4168" h="1514">
                <a:moveTo>
                  <a:pt x="13543" y="4068"/>
                </a:moveTo>
                <a:cubicBezTo>
                  <a:pt x="13520" y="4333"/>
                  <a:pt x="13511" y="4415"/>
                  <a:pt x="13543" y="4589"/>
                </a:cubicBezTo>
              </a:path>
              <a:path w="4168" h="1514">
                <a:moveTo>
                  <a:pt x="12452" y="5011"/>
                </a:moveTo>
                <a:cubicBezTo>
                  <a:pt x="12452" y="5160"/>
                  <a:pt x="12452" y="5308"/>
                  <a:pt x="12452" y="5457"/>
                </a:cubicBezTo>
              </a:path>
              <a:path w="4168" h="1514">
                <a:moveTo>
                  <a:pt x="12204" y="5234"/>
                </a:moveTo>
                <a:cubicBezTo>
                  <a:pt x="12393" y="5206"/>
                  <a:pt x="12584" y="5175"/>
                  <a:pt x="12774" y="5159"/>
                </a:cubicBezTo>
                <a:cubicBezTo>
                  <a:pt x="12711" y="5300"/>
                  <a:pt x="12684" y="5309"/>
                  <a:pt x="12725" y="5457"/>
                </a:cubicBezTo>
                <a:cubicBezTo>
                  <a:pt x="12807" y="5444"/>
                  <a:pt x="13138" y="5360"/>
                  <a:pt x="12948" y="5209"/>
                </a:cubicBezTo>
                <a:cubicBezTo>
                  <a:pt x="12907" y="5192"/>
                  <a:pt x="12865" y="5176"/>
                  <a:pt x="12824" y="5159"/>
                </a:cubicBezTo>
              </a:path>
              <a:path w="4168" h="1514">
                <a:moveTo>
                  <a:pt x="13122" y="5184"/>
                </a:moveTo>
                <a:cubicBezTo>
                  <a:pt x="13200" y="5178"/>
                  <a:pt x="13252" y="5173"/>
                  <a:pt x="13320" y="5135"/>
                </a:cubicBezTo>
                <a:cubicBezTo>
                  <a:pt x="13252" y="5146"/>
                  <a:pt x="13030" y="5212"/>
                  <a:pt x="13146" y="5333"/>
                </a:cubicBezTo>
                <a:cubicBezTo>
                  <a:pt x="13179" y="5350"/>
                  <a:pt x="13213" y="5366"/>
                  <a:pt x="13246" y="5383"/>
                </a:cubicBezTo>
              </a:path>
              <a:path w="4168" h="1514">
                <a:moveTo>
                  <a:pt x="13643" y="5011"/>
                </a:moveTo>
                <a:cubicBezTo>
                  <a:pt x="13591" y="5011"/>
                  <a:pt x="13574" y="5012"/>
                  <a:pt x="13568" y="5060"/>
                </a:cubicBezTo>
                <a:cubicBezTo>
                  <a:pt x="13646" y="5149"/>
                  <a:pt x="13760" y="5178"/>
                  <a:pt x="13841" y="5259"/>
                </a:cubicBezTo>
                <a:cubicBezTo>
                  <a:pt x="13756" y="5373"/>
                  <a:pt x="13713" y="5411"/>
                  <a:pt x="13593" y="5407"/>
                </a:cubicBezTo>
              </a:path>
              <a:path w="4168" h="1514">
                <a:moveTo>
                  <a:pt x="9748" y="4217"/>
                </a:moveTo>
                <a:lnTo>
                  <a:pt x="9748" y="4217"/>
                </a:lnTo>
              </a:path>
              <a:path w="4168" h="1514">
                <a:moveTo>
                  <a:pt x="9674" y="4167"/>
                </a:moveTo>
                <a:cubicBezTo>
                  <a:pt x="9908" y="4082"/>
                  <a:pt x="10125" y="4065"/>
                  <a:pt x="10368" y="4018"/>
                </a:cubicBezTo>
                <a:cubicBezTo>
                  <a:pt x="10513" y="3990"/>
                  <a:pt x="10649" y="3972"/>
                  <a:pt x="10790" y="394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215040" y="1589040"/>
            <a:ext cx="536760" cy="268200"/>
          </a:xfrm>
          <a:custGeom>
            <a:avLst/>
            <a:gdLst/>
            <a:ahLst/>
            <a:rect l="l" t="t" r="r" b="b"/>
            <a:pathLst>
              <a:path w="1489" h="745">
                <a:moveTo>
                  <a:pt x="17264" y="4564"/>
                </a:moveTo>
                <a:cubicBezTo>
                  <a:pt x="17313" y="4769"/>
                  <a:pt x="17367" y="4961"/>
                  <a:pt x="17438" y="5159"/>
                </a:cubicBezTo>
              </a:path>
              <a:path w="1489" h="745">
                <a:moveTo>
                  <a:pt x="17636" y="4514"/>
                </a:moveTo>
                <a:lnTo>
                  <a:pt x="17636" y="4514"/>
                </a:lnTo>
              </a:path>
              <a:path w="1489" h="745">
                <a:moveTo>
                  <a:pt x="17810" y="4837"/>
                </a:moveTo>
                <a:lnTo>
                  <a:pt x="17810" y="4837"/>
                </a:lnTo>
              </a:path>
              <a:path w="1489" h="745">
                <a:moveTo>
                  <a:pt x="18058" y="4415"/>
                </a:moveTo>
                <a:cubicBezTo>
                  <a:pt x="18075" y="4634"/>
                  <a:pt x="18131" y="4844"/>
                  <a:pt x="18157" y="5060"/>
                </a:cubicBezTo>
              </a:path>
              <a:path w="1489" h="745">
                <a:moveTo>
                  <a:pt x="18455" y="4465"/>
                </a:moveTo>
                <a:cubicBezTo>
                  <a:pt x="18407" y="4587"/>
                  <a:pt x="18195" y="5009"/>
                  <a:pt x="18529" y="4961"/>
                </a:cubicBezTo>
                <a:cubicBezTo>
                  <a:pt x="18826" y="4918"/>
                  <a:pt x="18745" y="4655"/>
                  <a:pt x="18653" y="449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12840" y="1455840"/>
            <a:ext cx="465120" cy="268200"/>
          </a:xfrm>
          <a:custGeom>
            <a:avLst/>
            <a:gdLst/>
            <a:ahLst/>
            <a:rect l="l" t="t" r="r" b="b"/>
            <a:pathLst>
              <a:path w="1291" h="745">
                <a:moveTo>
                  <a:pt x="868" y="4142"/>
                </a:moveTo>
                <a:cubicBezTo>
                  <a:pt x="947" y="4343"/>
                  <a:pt x="978" y="4497"/>
                  <a:pt x="992" y="4713"/>
                </a:cubicBezTo>
                <a:cubicBezTo>
                  <a:pt x="1070" y="4893"/>
                  <a:pt x="967" y="4506"/>
                  <a:pt x="1017" y="4415"/>
                </a:cubicBezTo>
                <a:cubicBezTo>
                  <a:pt x="1155" y="4165"/>
                  <a:pt x="1359" y="4500"/>
                  <a:pt x="1364" y="4638"/>
                </a:cubicBezTo>
                <a:cubicBezTo>
                  <a:pt x="1356" y="4688"/>
                  <a:pt x="1347" y="4737"/>
                  <a:pt x="1339" y="4787"/>
                </a:cubicBezTo>
              </a:path>
              <a:path w="1291" h="745">
                <a:moveTo>
                  <a:pt x="1389" y="4539"/>
                </a:moveTo>
                <a:cubicBezTo>
                  <a:pt x="1421" y="4425"/>
                  <a:pt x="1409" y="4396"/>
                  <a:pt x="1364" y="4291"/>
                </a:cubicBezTo>
                <a:cubicBezTo>
                  <a:pt x="1274" y="4336"/>
                  <a:pt x="1312" y="4484"/>
                  <a:pt x="1389" y="4589"/>
                </a:cubicBezTo>
                <a:cubicBezTo>
                  <a:pt x="1397" y="4597"/>
                  <a:pt x="1406" y="4606"/>
                  <a:pt x="1414" y="4614"/>
                </a:cubicBezTo>
              </a:path>
              <a:path w="1291" h="745">
                <a:moveTo>
                  <a:pt x="1488" y="4316"/>
                </a:moveTo>
                <a:cubicBezTo>
                  <a:pt x="1421" y="4428"/>
                  <a:pt x="1400" y="4456"/>
                  <a:pt x="1389" y="4539"/>
                </a:cubicBezTo>
                <a:cubicBezTo>
                  <a:pt x="1546" y="4524"/>
                  <a:pt x="1458" y="4341"/>
                  <a:pt x="1513" y="4440"/>
                </a:cubicBezTo>
                <a:cubicBezTo>
                  <a:pt x="1530" y="4465"/>
                  <a:pt x="1546" y="4489"/>
                  <a:pt x="1563" y="4514"/>
                </a:cubicBezTo>
              </a:path>
              <a:path w="1291" h="745">
                <a:moveTo>
                  <a:pt x="1761" y="4291"/>
                </a:moveTo>
                <a:cubicBezTo>
                  <a:pt x="1642" y="4243"/>
                  <a:pt x="1648" y="4399"/>
                  <a:pt x="1637" y="4490"/>
                </a:cubicBezTo>
                <a:cubicBezTo>
                  <a:pt x="1836" y="4410"/>
                  <a:pt x="1910" y="4297"/>
                  <a:pt x="1761" y="4068"/>
                </a:cubicBezTo>
                <a:cubicBezTo>
                  <a:pt x="1696" y="3968"/>
                  <a:pt x="1838" y="4408"/>
                  <a:pt x="1860" y="4465"/>
                </a:cubicBezTo>
              </a:path>
              <a:path w="1291" h="745">
                <a:moveTo>
                  <a:pt x="1984" y="4142"/>
                </a:moveTo>
                <a:cubicBezTo>
                  <a:pt x="1931" y="4271"/>
                  <a:pt x="2035" y="4242"/>
                  <a:pt x="2133" y="4291"/>
                </a:cubicBezTo>
                <a:cubicBezTo>
                  <a:pt x="2240" y="4345"/>
                  <a:pt x="2027" y="4473"/>
                  <a:pt x="2009" y="449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38120" y="1866960"/>
            <a:ext cx="303120" cy="214200"/>
          </a:xfrm>
          <a:custGeom>
            <a:avLst/>
            <a:gdLst/>
            <a:ahLst/>
            <a:rect l="l" t="t" r="r" b="b"/>
            <a:pathLst>
              <a:path w="845" h="596">
                <a:moveTo>
                  <a:pt x="1215" y="5259"/>
                </a:moveTo>
                <a:cubicBezTo>
                  <a:pt x="1282" y="5432"/>
                  <a:pt x="1351" y="5604"/>
                  <a:pt x="1414" y="5779"/>
                </a:cubicBezTo>
              </a:path>
              <a:path w="845" h="596">
                <a:moveTo>
                  <a:pt x="1339" y="5482"/>
                </a:moveTo>
                <a:cubicBezTo>
                  <a:pt x="1367" y="5409"/>
                  <a:pt x="1393" y="5347"/>
                  <a:pt x="1439" y="5283"/>
                </a:cubicBezTo>
                <a:cubicBezTo>
                  <a:pt x="1400" y="5313"/>
                  <a:pt x="1172" y="5537"/>
                  <a:pt x="1339" y="5581"/>
                </a:cubicBezTo>
                <a:cubicBezTo>
                  <a:pt x="1380" y="5573"/>
                  <a:pt x="1422" y="5564"/>
                  <a:pt x="1463" y="5556"/>
                </a:cubicBezTo>
              </a:path>
              <a:path w="845" h="596">
                <a:moveTo>
                  <a:pt x="1687" y="5283"/>
                </a:moveTo>
                <a:cubicBezTo>
                  <a:pt x="1644" y="5368"/>
                  <a:pt x="1617" y="5557"/>
                  <a:pt x="1712" y="5407"/>
                </a:cubicBezTo>
                <a:cubicBezTo>
                  <a:pt x="1728" y="5374"/>
                  <a:pt x="1745" y="5341"/>
                  <a:pt x="1761" y="5308"/>
                </a:cubicBezTo>
                <a:cubicBezTo>
                  <a:pt x="1695" y="5179"/>
                  <a:pt x="1823" y="5605"/>
                  <a:pt x="1836" y="5655"/>
                </a:cubicBezTo>
              </a:path>
              <a:path w="845" h="596">
                <a:moveTo>
                  <a:pt x="1960" y="5184"/>
                </a:moveTo>
                <a:cubicBezTo>
                  <a:pt x="1997" y="5250"/>
                  <a:pt x="2140" y="5282"/>
                  <a:pt x="2009" y="5383"/>
                </a:cubicBezTo>
                <a:cubicBezTo>
                  <a:pt x="1968" y="5408"/>
                  <a:pt x="1926" y="5432"/>
                  <a:pt x="1885" y="54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30160" y="2687760"/>
            <a:ext cx="1635120" cy="81000"/>
          </a:xfrm>
          <a:custGeom>
            <a:avLst/>
            <a:gdLst/>
            <a:ahLst/>
            <a:rect l="l" t="t" r="r" b="b"/>
            <a:pathLst>
              <a:path w="4540" h="224">
                <a:moveTo>
                  <a:pt x="2307" y="7689"/>
                </a:moveTo>
                <a:cubicBezTo>
                  <a:pt x="2377" y="7644"/>
                  <a:pt x="2501" y="7575"/>
                  <a:pt x="2629" y="7541"/>
                </a:cubicBezTo>
                <a:cubicBezTo>
                  <a:pt x="2765" y="7504"/>
                  <a:pt x="2935" y="7478"/>
                  <a:pt x="3076" y="7466"/>
                </a:cubicBezTo>
                <a:cubicBezTo>
                  <a:pt x="3219" y="7454"/>
                  <a:pt x="3385" y="7456"/>
                  <a:pt x="3522" y="7491"/>
                </a:cubicBezTo>
                <a:cubicBezTo>
                  <a:pt x="3654" y="7524"/>
                  <a:pt x="3790" y="7515"/>
                  <a:pt x="3919" y="7565"/>
                </a:cubicBezTo>
                <a:cubicBezTo>
                  <a:pt x="4048" y="7615"/>
                  <a:pt x="4157" y="7637"/>
                  <a:pt x="4291" y="7665"/>
                </a:cubicBezTo>
                <a:cubicBezTo>
                  <a:pt x="4373" y="7682"/>
                  <a:pt x="4454" y="7687"/>
                  <a:pt x="4539" y="7689"/>
                </a:cubicBezTo>
                <a:cubicBezTo>
                  <a:pt x="4644" y="7692"/>
                  <a:pt x="4737" y="7674"/>
                  <a:pt x="4837" y="7665"/>
                </a:cubicBezTo>
                <a:cubicBezTo>
                  <a:pt x="4992" y="7651"/>
                  <a:pt x="5153" y="7644"/>
                  <a:pt x="5308" y="7640"/>
                </a:cubicBezTo>
                <a:cubicBezTo>
                  <a:pt x="5388" y="7638"/>
                  <a:pt x="5478" y="7632"/>
                  <a:pt x="5556" y="7615"/>
                </a:cubicBezTo>
                <a:cubicBezTo>
                  <a:pt x="5683" y="7588"/>
                  <a:pt x="5798" y="7602"/>
                  <a:pt x="5928" y="7590"/>
                </a:cubicBezTo>
                <a:cubicBezTo>
                  <a:pt x="6136" y="7571"/>
                  <a:pt x="6339" y="7565"/>
                  <a:pt x="6548" y="7565"/>
                </a:cubicBezTo>
                <a:cubicBezTo>
                  <a:pt x="6647" y="7565"/>
                  <a:pt x="6747" y="7565"/>
                  <a:pt x="6846" y="756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133640" y="3133800"/>
            <a:ext cx="188640" cy="366480"/>
          </a:xfrm>
          <a:custGeom>
            <a:avLst/>
            <a:gdLst/>
            <a:ahLst/>
            <a:rect l="l" t="t" r="r" b="b"/>
            <a:pathLst>
              <a:path w="522" h="1018">
                <a:moveTo>
                  <a:pt x="3423" y="8706"/>
                </a:moveTo>
                <a:cubicBezTo>
                  <a:pt x="3404" y="8817"/>
                  <a:pt x="3425" y="8912"/>
                  <a:pt x="3448" y="9029"/>
                </a:cubicBezTo>
              </a:path>
              <a:path w="522" h="1018">
                <a:moveTo>
                  <a:pt x="3150" y="9203"/>
                </a:moveTo>
                <a:cubicBezTo>
                  <a:pt x="3321" y="9160"/>
                  <a:pt x="3509" y="9068"/>
                  <a:pt x="3671" y="9103"/>
                </a:cubicBezTo>
              </a:path>
              <a:path w="522" h="1018">
                <a:moveTo>
                  <a:pt x="3398" y="9376"/>
                </a:moveTo>
                <a:cubicBezTo>
                  <a:pt x="3371" y="9424"/>
                  <a:pt x="3351" y="9477"/>
                  <a:pt x="3324" y="9525"/>
                </a:cubicBezTo>
                <a:cubicBezTo>
                  <a:pt x="3498" y="9457"/>
                  <a:pt x="3663" y="9504"/>
                  <a:pt x="3448" y="9674"/>
                </a:cubicBezTo>
                <a:cubicBezTo>
                  <a:pt x="3407" y="9690"/>
                  <a:pt x="3365" y="9707"/>
                  <a:pt x="3324" y="9723"/>
                </a:cubicBezTo>
              </a:path>
              <a:path w="522" h="1018">
                <a:moveTo>
                  <a:pt x="3398" y="9327"/>
                </a:moveTo>
                <a:cubicBezTo>
                  <a:pt x="3515" y="9298"/>
                  <a:pt x="3565" y="9283"/>
                  <a:pt x="3646" y="925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625760" y="3268800"/>
            <a:ext cx="80640" cy="71280"/>
          </a:xfrm>
          <a:custGeom>
            <a:avLst/>
            <a:gdLst/>
            <a:ahLst/>
            <a:rect l="l" t="t" r="r" b="b"/>
            <a:pathLst>
              <a:path w="225" h="199">
                <a:moveTo>
                  <a:pt x="4514" y="9128"/>
                </a:moveTo>
                <a:cubicBezTo>
                  <a:pt x="4622" y="9101"/>
                  <a:pt x="4662" y="9091"/>
                  <a:pt x="4738" y="9079"/>
                </a:cubicBezTo>
              </a:path>
              <a:path w="225" h="199">
                <a:moveTo>
                  <a:pt x="4514" y="9277"/>
                </a:moveTo>
                <a:cubicBezTo>
                  <a:pt x="4564" y="9269"/>
                  <a:pt x="4613" y="9260"/>
                  <a:pt x="4663" y="925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901880" y="3143160"/>
            <a:ext cx="349200" cy="411120"/>
          </a:xfrm>
          <a:custGeom>
            <a:avLst/>
            <a:gdLst/>
            <a:ahLst/>
            <a:rect l="l" t="t" r="r" b="b"/>
            <a:pathLst>
              <a:path w="969" h="1142">
                <a:moveTo>
                  <a:pt x="5655" y="8781"/>
                </a:moveTo>
                <a:cubicBezTo>
                  <a:pt x="5755" y="8756"/>
                  <a:pt x="5788" y="8748"/>
                  <a:pt x="5854" y="8731"/>
                </a:cubicBezTo>
                <a:cubicBezTo>
                  <a:pt x="5794" y="8871"/>
                  <a:pt x="5669" y="8979"/>
                  <a:pt x="5531" y="9079"/>
                </a:cubicBezTo>
                <a:cubicBezTo>
                  <a:pt x="5648" y="9069"/>
                  <a:pt x="5763" y="9048"/>
                  <a:pt x="5879" y="9029"/>
                </a:cubicBezTo>
              </a:path>
              <a:path w="969" h="1142">
                <a:moveTo>
                  <a:pt x="5358" y="9426"/>
                </a:moveTo>
                <a:cubicBezTo>
                  <a:pt x="5660" y="9306"/>
                  <a:pt x="5926" y="9227"/>
                  <a:pt x="6251" y="9203"/>
                </a:cubicBezTo>
              </a:path>
              <a:path w="969" h="1142">
                <a:moveTo>
                  <a:pt x="5383" y="9599"/>
                </a:moveTo>
                <a:cubicBezTo>
                  <a:pt x="5347" y="9681"/>
                  <a:pt x="5318" y="9782"/>
                  <a:pt x="5283" y="9872"/>
                </a:cubicBezTo>
              </a:path>
              <a:path w="969" h="1142">
                <a:moveTo>
                  <a:pt x="5854" y="9376"/>
                </a:moveTo>
                <a:cubicBezTo>
                  <a:pt x="5793" y="9492"/>
                  <a:pt x="5751" y="9569"/>
                  <a:pt x="5730" y="9699"/>
                </a:cubicBezTo>
                <a:cubicBezTo>
                  <a:pt x="5914" y="9711"/>
                  <a:pt x="5993" y="9674"/>
                  <a:pt x="5953" y="950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12880" y="3670200"/>
            <a:ext cx="357120" cy="204840"/>
          </a:xfrm>
          <a:custGeom>
            <a:avLst/>
            <a:gdLst/>
            <a:ahLst/>
            <a:rect l="l" t="t" r="r" b="b"/>
            <a:pathLst>
              <a:path w="993" h="571">
                <a:moveTo>
                  <a:pt x="2753" y="10269"/>
                </a:moveTo>
                <a:cubicBezTo>
                  <a:pt x="2753" y="10430"/>
                  <a:pt x="2748" y="10581"/>
                  <a:pt x="2729" y="10740"/>
                </a:cubicBezTo>
              </a:path>
              <a:path w="993" h="571">
                <a:moveTo>
                  <a:pt x="2257" y="10244"/>
                </a:moveTo>
                <a:cubicBezTo>
                  <a:pt x="2467" y="10192"/>
                  <a:pt x="2637" y="10206"/>
                  <a:pt x="2853" y="10220"/>
                </a:cubicBezTo>
              </a:path>
              <a:path w="993" h="571">
                <a:moveTo>
                  <a:pt x="3051" y="10492"/>
                </a:moveTo>
                <a:cubicBezTo>
                  <a:pt x="2971" y="10563"/>
                  <a:pt x="2930" y="10641"/>
                  <a:pt x="2877" y="10740"/>
                </a:cubicBezTo>
                <a:cubicBezTo>
                  <a:pt x="3070" y="10785"/>
                  <a:pt x="3145" y="10775"/>
                  <a:pt x="3249" y="10616"/>
                </a:cubicBezTo>
                <a:cubicBezTo>
                  <a:pt x="3174" y="10516"/>
                  <a:pt x="3149" y="10483"/>
                  <a:pt x="3051" y="1049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330200" y="3652920"/>
            <a:ext cx="509760" cy="258840"/>
          </a:xfrm>
          <a:custGeom>
            <a:avLst/>
            <a:gdLst/>
            <a:ahLst/>
            <a:rect l="l" t="t" r="r" b="b"/>
            <a:pathLst>
              <a:path w="1415" h="720">
                <a:moveTo>
                  <a:pt x="4217" y="10244"/>
                </a:moveTo>
                <a:cubicBezTo>
                  <a:pt x="4140" y="10168"/>
                  <a:pt x="3996" y="10054"/>
                  <a:pt x="3944" y="10220"/>
                </a:cubicBezTo>
                <a:cubicBezTo>
                  <a:pt x="3892" y="10386"/>
                  <a:pt x="3930" y="10549"/>
                  <a:pt x="3944" y="10716"/>
                </a:cubicBezTo>
              </a:path>
              <a:path w="1415" h="720">
                <a:moveTo>
                  <a:pt x="3696" y="10492"/>
                </a:moveTo>
                <a:cubicBezTo>
                  <a:pt x="3833" y="10474"/>
                  <a:pt x="4114" y="10403"/>
                  <a:pt x="4217" y="10542"/>
                </a:cubicBezTo>
                <a:cubicBezTo>
                  <a:pt x="4272" y="10616"/>
                  <a:pt x="4239" y="10717"/>
                  <a:pt x="4217" y="10790"/>
                </a:cubicBezTo>
              </a:path>
              <a:path w="1415" h="720">
                <a:moveTo>
                  <a:pt x="4242" y="10368"/>
                </a:moveTo>
                <a:lnTo>
                  <a:pt x="4242" y="10368"/>
                </a:lnTo>
              </a:path>
              <a:path w="1415" h="720">
                <a:moveTo>
                  <a:pt x="4390" y="10765"/>
                </a:moveTo>
                <a:cubicBezTo>
                  <a:pt x="4400" y="10634"/>
                  <a:pt x="4401" y="10557"/>
                  <a:pt x="4564" y="10567"/>
                </a:cubicBezTo>
                <a:cubicBezTo>
                  <a:pt x="4709" y="10576"/>
                  <a:pt x="4703" y="10678"/>
                  <a:pt x="4738" y="10790"/>
                </a:cubicBezTo>
              </a:path>
              <a:path w="1415" h="720">
                <a:moveTo>
                  <a:pt x="5110" y="10616"/>
                </a:moveTo>
                <a:cubicBezTo>
                  <a:pt x="5007" y="10548"/>
                  <a:pt x="4873" y="10538"/>
                  <a:pt x="4812" y="10691"/>
                </a:cubicBezTo>
                <a:cubicBezTo>
                  <a:pt x="4698" y="10980"/>
                  <a:pt x="5022" y="10776"/>
                  <a:pt x="5085" y="10716"/>
                </a:cubicBezTo>
              </a:path>
              <a:path w="1415" h="720">
                <a:moveTo>
                  <a:pt x="5035" y="10368"/>
                </a:moveTo>
                <a:cubicBezTo>
                  <a:pt x="5064" y="10504"/>
                  <a:pt x="5060" y="10647"/>
                  <a:pt x="5060" y="1079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98800" y="3670200"/>
            <a:ext cx="822240" cy="231840"/>
          </a:xfrm>
          <a:custGeom>
            <a:avLst/>
            <a:gdLst/>
            <a:ahLst/>
            <a:rect l="l" t="t" r="r" b="b"/>
            <a:pathLst>
              <a:path w="2283" h="646">
                <a:moveTo>
                  <a:pt x="5854" y="10269"/>
                </a:moveTo>
                <a:cubicBezTo>
                  <a:pt x="5821" y="10105"/>
                  <a:pt x="5847" y="10449"/>
                  <a:pt x="5854" y="10616"/>
                </a:cubicBezTo>
                <a:cubicBezTo>
                  <a:pt x="5854" y="10666"/>
                  <a:pt x="5854" y="10715"/>
                  <a:pt x="5854" y="10765"/>
                </a:cubicBezTo>
                <a:cubicBezTo>
                  <a:pt x="5868" y="10631"/>
                  <a:pt x="5866" y="10423"/>
                  <a:pt x="6052" y="10418"/>
                </a:cubicBezTo>
                <a:cubicBezTo>
                  <a:pt x="6249" y="10412"/>
                  <a:pt x="6242" y="10680"/>
                  <a:pt x="6251" y="10815"/>
                </a:cubicBezTo>
              </a:path>
              <a:path w="2283" h="646">
                <a:moveTo>
                  <a:pt x="6449" y="10542"/>
                </a:moveTo>
                <a:cubicBezTo>
                  <a:pt x="6527" y="10521"/>
                  <a:pt x="6638" y="10512"/>
                  <a:pt x="6672" y="10443"/>
                </a:cubicBezTo>
                <a:cubicBezTo>
                  <a:pt x="6585" y="10384"/>
                  <a:pt x="6498" y="10371"/>
                  <a:pt x="6449" y="10492"/>
                </a:cubicBezTo>
                <a:cubicBezTo>
                  <a:pt x="6364" y="10704"/>
                  <a:pt x="6511" y="10747"/>
                  <a:pt x="6672" y="10765"/>
                </a:cubicBezTo>
              </a:path>
              <a:path w="2283" h="646">
                <a:moveTo>
                  <a:pt x="7144" y="10492"/>
                </a:moveTo>
                <a:cubicBezTo>
                  <a:pt x="7025" y="10410"/>
                  <a:pt x="6827" y="10376"/>
                  <a:pt x="6846" y="10616"/>
                </a:cubicBezTo>
                <a:cubicBezTo>
                  <a:pt x="6891" y="10706"/>
                  <a:pt x="6897" y="10736"/>
                  <a:pt x="6970" y="10740"/>
                </a:cubicBezTo>
                <a:cubicBezTo>
                  <a:pt x="7071" y="10613"/>
                  <a:pt x="7058" y="10450"/>
                  <a:pt x="7094" y="10542"/>
                </a:cubicBezTo>
                <a:cubicBezTo>
                  <a:pt x="7111" y="10575"/>
                  <a:pt x="7127" y="10608"/>
                  <a:pt x="7144" y="10641"/>
                </a:cubicBezTo>
              </a:path>
              <a:path w="2283" h="646">
                <a:moveTo>
                  <a:pt x="7590" y="10492"/>
                </a:moveTo>
                <a:cubicBezTo>
                  <a:pt x="7432" y="10446"/>
                  <a:pt x="7334" y="10499"/>
                  <a:pt x="7268" y="10666"/>
                </a:cubicBezTo>
                <a:cubicBezTo>
                  <a:pt x="7200" y="10840"/>
                  <a:pt x="7454" y="10726"/>
                  <a:pt x="7491" y="10716"/>
                </a:cubicBezTo>
              </a:path>
              <a:path w="2283" h="646">
                <a:moveTo>
                  <a:pt x="7516" y="10269"/>
                </a:moveTo>
                <a:cubicBezTo>
                  <a:pt x="7543" y="10409"/>
                  <a:pt x="7578" y="10553"/>
                  <a:pt x="7615" y="10691"/>
                </a:cubicBezTo>
              </a:path>
              <a:path w="2283" h="646">
                <a:moveTo>
                  <a:pt x="7938" y="10393"/>
                </a:moveTo>
                <a:cubicBezTo>
                  <a:pt x="7888" y="10418"/>
                  <a:pt x="7871" y="10426"/>
                  <a:pt x="7838" y="10443"/>
                </a:cubicBezTo>
                <a:cubicBezTo>
                  <a:pt x="7982" y="10527"/>
                  <a:pt x="8227" y="10630"/>
                  <a:pt x="8012" y="10790"/>
                </a:cubicBezTo>
                <a:cubicBezTo>
                  <a:pt x="7891" y="10839"/>
                  <a:pt x="7852" y="10857"/>
                  <a:pt x="7789" y="1076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143160" y="3687840"/>
            <a:ext cx="241560" cy="214200"/>
          </a:xfrm>
          <a:custGeom>
            <a:avLst/>
            <a:gdLst/>
            <a:ahLst/>
            <a:rect l="l" t="t" r="r" b="b"/>
            <a:pathLst>
              <a:path w="671" h="597">
                <a:moveTo>
                  <a:pt x="8855" y="10244"/>
                </a:moveTo>
                <a:cubicBezTo>
                  <a:pt x="8899" y="10440"/>
                  <a:pt x="8920" y="10639"/>
                  <a:pt x="8930" y="10840"/>
                </a:cubicBezTo>
              </a:path>
              <a:path w="671" h="597">
                <a:moveTo>
                  <a:pt x="8731" y="10443"/>
                </a:moveTo>
                <a:cubicBezTo>
                  <a:pt x="8874" y="10426"/>
                  <a:pt x="9008" y="10418"/>
                  <a:pt x="9153" y="10418"/>
                </a:cubicBezTo>
                <a:cubicBezTo>
                  <a:pt x="9094" y="10536"/>
                  <a:pt x="8971" y="10700"/>
                  <a:pt x="9178" y="10765"/>
                </a:cubicBezTo>
                <a:cubicBezTo>
                  <a:pt x="9382" y="10829"/>
                  <a:pt x="9446" y="10674"/>
                  <a:pt x="9302" y="1056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06840" y="3687840"/>
            <a:ext cx="625320" cy="196920"/>
          </a:xfrm>
          <a:custGeom>
            <a:avLst/>
            <a:gdLst/>
            <a:ahLst/>
            <a:rect l="l" t="t" r="r" b="b"/>
            <a:pathLst>
              <a:path w="1737" h="547">
                <a:moveTo>
                  <a:pt x="10319" y="10244"/>
                </a:moveTo>
                <a:cubicBezTo>
                  <a:pt x="10307" y="10430"/>
                  <a:pt x="10311" y="10602"/>
                  <a:pt x="10319" y="10790"/>
                </a:cubicBezTo>
              </a:path>
              <a:path w="1737" h="547">
                <a:moveTo>
                  <a:pt x="10021" y="10418"/>
                </a:moveTo>
                <a:cubicBezTo>
                  <a:pt x="10253" y="10409"/>
                  <a:pt x="10483" y="10393"/>
                  <a:pt x="10716" y="10393"/>
                </a:cubicBezTo>
                <a:cubicBezTo>
                  <a:pt x="10652" y="10443"/>
                  <a:pt x="10460" y="10611"/>
                  <a:pt x="10641" y="10641"/>
                </a:cubicBezTo>
                <a:cubicBezTo>
                  <a:pt x="10924" y="10687"/>
                  <a:pt x="10921" y="10526"/>
                  <a:pt x="10765" y="10393"/>
                </a:cubicBezTo>
              </a:path>
              <a:path w="1737" h="547">
                <a:moveTo>
                  <a:pt x="11088" y="10443"/>
                </a:moveTo>
                <a:cubicBezTo>
                  <a:pt x="11165" y="10404"/>
                  <a:pt x="11180" y="10405"/>
                  <a:pt x="11212" y="10368"/>
                </a:cubicBezTo>
                <a:cubicBezTo>
                  <a:pt x="11116" y="10342"/>
                  <a:pt x="10945" y="10422"/>
                  <a:pt x="11013" y="10567"/>
                </a:cubicBezTo>
                <a:cubicBezTo>
                  <a:pt x="11120" y="10674"/>
                  <a:pt x="11164" y="10707"/>
                  <a:pt x="11286" y="10666"/>
                </a:cubicBezTo>
              </a:path>
              <a:path w="1737" h="547">
                <a:moveTo>
                  <a:pt x="11683" y="10368"/>
                </a:moveTo>
                <a:cubicBezTo>
                  <a:pt x="11600" y="10368"/>
                  <a:pt x="11567" y="10368"/>
                  <a:pt x="11509" y="10368"/>
                </a:cubicBezTo>
                <a:cubicBezTo>
                  <a:pt x="11541" y="10397"/>
                  <a:pt x="11830" y="10544"/>
                  <a:pt x="11733" y="10592"/>
                </a:cubicBezTo>
                <a:cubicBezTo>
                  <a:pt x="11610" y="10616"/>
                  <a:pt x="11569" y="10624"/>
                  <a:pt x="11485" y="1061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510080" y="3724200"/>
            <a:ext cx="196920" cy="150840"/>
          </a:xfrm>
          <a:custGeom>
            <a:avLst/>
            <a:gdLst/>
            <a:ahLst/>
            <a:rect l="l" t="t" r="r" b="b"/>
            <a:pathLst>
              <a:path w="547" h="422">
                <a:moveTo>
                  <a:pt x="12774" y="10344"/>
                </a:moveTo>
                <a:cubicBezTo>
                  <a:pt x="12754" y="10452"/>
                  <a:pt x="12750" y="10554"/>
                  <a:pt x="12750" y="10666"/>
                </a:cubicBezTo>
              </a:path>
              <a:path w="547" h="422">
                <a:moveTo>
                  <a:pt x="12526" y="10344"/>
                </a:moveTo>
                <a:cubicBezTo>
                  <a:pt x="12718" y="10370"/>
                  <a:pt x="12882" y="10385"/>
                  <a:pt x="13072" y="10368"/>
                </a:cubicBezTo>
              </a:path>
              <a:path w="547" h="422">
                <a:moveTo>
                  <a:pt x="12576" y="10765"/>
                </a:moveTo>
                <a:cubicBezTo>
                  <a:pt x="12722" y="10765"/>
                  <a:pt x="12855" y="10763"/>
                  <a:pt x="12998" y="1074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946760" y="3697200"/>
            <a:ext cx="527040" cy="177840"/>
          </a:xfrm>
          <a:custGeom>
            <a:avLst/>
            <a:gdLst/>
            <a:ahLst/>
            <a:rect l="l" t="t" r="r" b="b"/>
            <a:pathLst>
              <a:path w="1464" h="497">
                <a:moveTo>
                  <a:pt x="13742" y="10269"/>
                </a:moveTo>
                <a:cubicBezTo>
                  <a:pt x="13742" y="10434"/>
                  <a:pt x="13742" y="10600"/>
                  <a:pt x="13742" y="10765"/>
                </a:cubicBezTo>
              </a:path>
              <a:path w="1464" h="497">
                <a:moveTo>
                  <a:pt x="14163" y="10443"/>
                </a:moveTo>
                <a:cubicBezTo>
                  <a:pt x="14095" y="10491"/>
                  <a:pt x="13867" y="10714"/>
                  <a:pt x="14089" y="10765"/>
                </a:cubicBezTo>
                <a:cubicBezTo>
                  <a:pt x="14236" y="10740"/>
                  <a:pt x="14284" y="10733"/>
                  <a:pt x="14362" y="10666"/>
                </a:cubicBezTo>
                <a:cubicBezTo>
                  <a:pt x="14331" y="10512"/>
                  <a:pt x="14338" y="10527"/>
                  <a:pt x="14188" y="10468"/>
                </a:cubicBezTo>
              </a:path>
              <a:path w="1464" h="497">
                <a:moveTo>
                  <a:pt x="14560" y="10468"/>
                </a:moveTo>
                <a:cubicBezTo>
                  <a:pt x="14490" y="10545"/>
                  <a:pt x="14402" y="10800"/>
                  <a:pt x="14635" y="10740"/>
                </a:cubicBezTo>
                <a:cubicBezTo>
                  <a:pt x="14821" y="10692"/>
                  <a:pt x="14716" y="10592"/>
                  <a:pt x="14660" y="10517"/>
                </a:cubicBezTo>
              </a:path>
              <a:path w="1464" h="497">
                <a:moveTo>
                  <a:pt x="14808" y="10294"/>
                </a:moveTo>
                <a:cubicBezTo>
                  <a:pt x="14842" y="10443"/>
                  <a:pt x="14871" y="10593"/>
                  <a:pt x="14908" y="10740"/>
                </a:cubicBezTo>
              </a:path>
              <a:path w="1464" h="497">
                <a:moveTo>
                  <a:pt x="15205" y="10269"/>
                </a:moveTo>
                <a:cubicBezTo>
                  <a:pt x="15109" y="10358"/>
                  <a:pt x="15041" y="10381"/>
                  <a:pt x="14908" y="10418"/>
                </a:cubicBezTo>
                <a:cubicBezTo>
                  <a:pt x="15043" y="10446"/>
                  <a:pt x="15149" y="10539"/>
                  <a:pt x="15205" y="10666"/>
                </a:cubicBezTo>
                <a:cubicBezTo>
                  <a:pt x="15205" y="10691"/>
                  <a:pt x="15205" y="10715"/>
                  <a:pt x="15205" y="1074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653080" y="3687840"/>
            <a:ext cx="812880" cy="214200"/>
          </a:xfrm>
          <a:custGeom>
            <a:avLst/>
            <a:gdLst/>
            <a:ahLst/>
            <a:rect l="l" t="t" r="r" b="b"/>
            <a:pathLst>
              <a:path w="2259" h="597">
                <a:moveTo>
                  <a:pt x="15974" y="10492"/>
                </a:moveTo>
                <a:cubicBezTo>
                  <a:pt x="15914" y="10353"/>
                  <a:pt x="15737" y="10446"/>
                  <a:pt x="15701" y="10592"/>
                </a:cubicBezTo>
                <a:cubicBezTo>
                  <a:pt x="15709" y="10625"/>
                  <a:pt x="15718" y="10658"/>
                  <a:pt x="15726" y="10691"/>
                </a:cubicBezTo>
                <a:cubicBezTo>
                  <a:pt x="15930" y="10705"/>
                  <a:pt x="15888" y="10568"/>
                  <a:pt x="15974" y="10616"/>
                </a:cubicBezTo>
                <a:cubicBezTo>
                  <a:pt x="16162" y="10722"/>
                  <a:pt x="16316" y="10545"/>
                  <a:pt x="16297" y="10344"/>
                </a:cubicBezTo>
                <a:cubicBezTo>
                  <a:pt x="16280" y="10311"/>
                  <a:pt x="16264" y="10277"/>
                  <a:pt x="16247" y="10244"/>
                </a:cubicBezTo>
                <a:cubicBezTo>
                  <a:pt x="16270" y="10401"/>
                  <a:pt x="16277" y="10558"/>
                  <a:pt x="16297" y="10716"/>
                </a:cubicBezTo>
              </a:path>
              <a:path w="2259" h="597">
                <a:moveTo>
                  <a:pt x="16123" y="10393"/>
                </a:moveTo>
                <a:cubicBezTo>
                  <a:pt x="16369" y="10443"/>
                  <a:pt x="16450" y="10459"/>
                  <a:pt x="16619" y="10443"/>
                </a:cubicBezTo>
              </a:path>
              <a:path w="2259" h="597">
                <a:moveTo>
                  <a:pt x="16917" y="10294"/>
                </a:moveTo>
                <a:cubicBezTo>
                  <a:pt x="17016" y="10351"/>
                  <a:pt x="17046" y="10559"/>
                  <a:pt x="17090" y="10691"/>
                </a:cubicBezTo>
                <a:cubicBezTo>
                  <a:pt x="17098" y="10716"/>
                  <a:pt x="17107" y="10740"/>
                  <a:pt x="17115" y="10765"/>
                </a:cubicBezTo>
              </a:path>
              <a:path w="2259" h="597">
                <a:moveTo>
                  <a:pt x="16743" y="10468"/>
                </a:moveTo>
                <a:cubicBezTo>
                  <a:pt x="16929" y="10570"/>
                  <a:pt x="17190" y="10692"/>
                  <a:pt x="17314" y="10418"/>
                </a:cubicBezTo>
                <a:cubicBezTo>
                  <a:pt x="17314" y="10377"/>
                  <a:pt x="17314" y="10335"/>
                  <a:pt x="17314" y="10294"/>
                </a:cubicBezTo>
                <a:cubicBezTo>
                  <a:pt x="17197" y="10322"/>
                  <a:pt x="17285" y="10639"/>
                  <a:pt x="17314" y="10765"/>
                </a:cubicBezTo>
                <a:cubicBezTo>
                  <a:pt x="17322" y="10790"/>
                  <a:pt x="17330" y="10815"/>
                  <a:pt x="17338" y="10840"/>
                </a:cubicBezTo>
                <a:cubicBezTo>
                  <a:pt x="17369" y="10736"/>
                  <a:pt x="17411" y="10641"/>
                  <a:pt x="17438" y="10542"/>
                </a:cubicBezTo>
                <a:cubicBezTo>
                  <a:pt x="17542" y="10623"/>
                  <a:pt x="17597" y="10722"/>
                  <a:pt x="17661" y="10840"/>
                </a:cubicBezTo>
              </a:path>
              <a:path w="2259" h="597">
                <a:moveTo>
                  <a:pt x="17760" y="10616"/>
                </a:moveTo>
                <a:cubicBezTo>
                  <a:pt x="17843" y="10575"/>
                  <a:pt x="17859" y="10567"/>
                  <a:pt x="17909" y="10542"/>
                </a:cubicBezTo>
                <a:cubicBezTo>
                  <a:pt x="17813" y="10537"/>
                  <a:pt x="17479" y="10586"/>
                  <a:pt x="17661" y="10790"/>
                </a:cubicBezTo>
                <a:cubicBezTo>
                  <a:pt x="17798" y="10845"/>
                  <a:pt x="17853" y="10860"/>
                  <a:pt x="17959" y="1081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680160" y="3643200"/>
            <a:ext cx="571680" cy="187560"/>
          </a:xfrm>
          <a:custGeom>
            <a:avLst/>
            <a:gdLst/>
            <a:ahLst/>
            <a:rect l="l" t="t" r="r" b="b"/>
            <a:pathLst>
              <a:path w="1588" h="522">
                <a:moveTo>
                  <a:pt x="18703" y="10120"/>
                </a:moveTo>
                <a:cubicBezTo>
                  <a:pt x="18716" y="10294"/>
                  <a:pt x="18744" y="10466"/>
                  <a:pt x="18752" y="10641"/>
                </a:cubicBezTo>
              </a:path>
              <a:path w="1588" h="522">
                <a:moveTo>
                  <a:pt x="18554" y="10344"/>
                </a:moveTo>
                <a:cubicBezTo>
                  <a:pt x="18714" y="10340"/>
                  <a:pt x="18901" y="10324"/>
                  <a:pt x="19050" y="10344"/>
                </a:cubicBezTo>
                <a:cubicBezTo>
                  <a:pt x="19029" y="10432"/>
                  <a:pt x="18940" y="10705"/>
                  <a:pt x="19174" y="10616"/>
                </a:cubicBezTo>
                <a:cubicBezTo>
                  <a:pt x="19277" y="10534"/>
                  <a:pt x="19310" y="10526"/>
                  <a:pt x="19323" y="10443"/>
                </a:cubicBezTo>
                <a:cubicBezTo>
                  <a:pt x="19379" y="10643"/>
                  <a:pt x="19450" y="10696"/>
                  <a:pt x="19621" y="10542"/>
                </a:cubicBezTo>
                <a:cubicBezTo>
                  <a:pt x="19567" y="10408"/>
                  <a:pt x="19541" y="10362"/>
                  <a:pt x="19422" y="10344"/>
                </a:cubicBezTo>
              </a:path>
              <a:path w="1588" h="522">
                <a:moveTo>
                  <a:pt x="19968" y="10368"/>
                </a:moveTo>
                <a:cubicBezTo>
                  <a:pt x="19838" y="10369"/>
                  <a:pt x="19650" y="10546"/>
                  <a:pt x="19869" y="10641"/>
                </a:cubicBezTo>
                <a:cubicBezTo>
                  <a:pt x="20036" y="10714"/>
                  <a:pt x="20257" y="10558"/>
                  <a:pt x="20092" y="10393"/>
                </a:cubicBezTo>
                <a:cubicBezTo>
                  <a:pt x="20067" y="10385"/>
                  <a:pt x="20042" y="10376"/>
                  <a:pt x="20017" y="1036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466040" y="3670200"/>
            <a:ext cx="1062000" cy="214560"/>
          </a:xfrm>
          <a:custGeom>
            <a:avLst/>
            <a:gdLst/>
            <a:ahLst/>
            <a:rect l="l" t="t" r="r" b="b"/>
            <a:pathLst>
              <a:path w="2952" h="596">
                <a:moveTo>
                  <a:pt x="20737" y="10393"/>
                </a:moveTo>
                <a:cubicBezTo>
                  <a:pt x="20804" y="10550"/>
                  <a:pt x="20822" y="10591"/>
                  <a:pt x="20861" y="10691"/>
                </a:cubicBezTo>
                <a:cubicBezTo>
                  <a:pt x="20899" y="10562"/>
                  <a:pt x="20937" y="10480"/>
                  <a:pt x="21010" y="10368"/>
                </a:cubicBezTo>
              </a:path>
              <a:path w="2952" h="596">
                <a:moveTo>
                  <a:pt x="21431" y="10393"/>
                </a:moveTo>
                <a:cubicBezTo>
                  <a:pt x="21301" y="10369"/>
                  <a:pt x="21047" y="10438"/>
                  <a:pt x="21134" y="10641"/>
                </a:cubicBezTo>
                <a:cubicBezTo>
                  <a:pt x="21242" y="10894"/>
                  <a:pt x="21371" y="10547"/>
                  <a:pt x="21382" y="10468"/>
                </a:cubicBezTo>
                <a:cubicBezTo>
                  <a:pt x="21419" y="10655"/>
                  <a:pt x="21595" y="10592"/>
                  <a:pt x="21729" y="10592"/>
                </a:cubicBezTo>
              </a:path>
              <a:path w="2952" h="596">
                <a:moveTo>
                  <a:pt x="21828" y="10195"/>
                </a:moveTo>
                <a:cubicBezTo>
                  <a:pt x="21828" y="10399"/>
                  <a:pt x="21849" y="10530"/>
                  <a:pt x="21927" y="10716"/>
                </a:cubicBezTo>
              </a:path>
              <a:path w="2952" h="596">
                <a:moveTo>
                  <a:pt x="21654" y="10319"/>
                </a:moveTo>
                <a:cubicBezTo>
                  <a:pt x="21814" y="10348"/>
                  <a:pt x="21964" y="10368"/>
                  <a:pt x="22126" y="10368"/>
                </a:cubicBezTo>
                <a:cubicBezTo>
                  <a:pt x="22150" y="10533"/>
                  <a:pt x="22158" y="10582"/>
                  <a:pt x="22151" y="10691"/>
                </a:cubicBezTo>
              </a:path>
              <a:path w="2952" h="596">
                <a:moveTo>
                  <a:pt x="22250" y="10269"/>
                </a:moveTo>
                <a:lnTo>
                  <a:pt x="22250" y="10269"/>
                </a:lnTo>
              </a:path>
              <a:path w="2952" h="596">
                <a:moveTo>
                  <a:pt x="22523" y="10468"/>
                </a:moveTo>
                <a:cubicBezTo>
                  <a:pt x="22345" y="10538"/>
                  <a:pt x="22308" y="10583"/>
                  <a:pt x="22374" y="10765"/>
                </a:cubicBezTo>
                <a:cubicBezTo>
                  <a:pt x="22597" y="10751"/>
                  <a:pt x="22604" y="10730"/>
                  <a:pt x="22547" y="10517"/>
                </a:cubicBezTo>
              </a:path>
              <a:path w="2952" h="596">
                <a:moveTo>
                  <a:pt x="22771" y="10616"/>
                </a:moveTo>
                <a:cubicBezTo>
                  <a:pt x="22771" y="10649"/>
                  <a:pt x="22771" y="10683"/>
                  <a:pt x="22771" y="10716"/>
                </a:cubicBezTo>
                <a:cubicBezTo>
                  <a:pt x="22841" y="10605"/>
                  <a:pt x="22908" y="10516"/>
                  <a:pt x="22994" y="10418"/>
                </a:cubicBezTo>
                <a:cubicBezTo>
                  <a:pt x="23124" y="10505"/>
                  <a:pt x="23132" y="10562"/>
                  <a:pt x="23143" y="10716"/>
                </a:cubicBezTo>
              </a:path>
              <a:path w="2952" h="596">
                <a:moveTo>
                  <a:pt x="23614" y="10368"/>
                </a:moveTo>
                <a:cubicBezTo>
                  <a:pt x="23538" y="10368"/>
                  <a:pt x="23512" y="10369"/>
                  <a:pt x="23465" y="10393"/>
                </a:cubicBezTo>
                <a:cubicBezTo>
                  <a:pt x="23501" y="10457"/>
                  <a:pt x="23704" y="10555"/>
                  <a:pt x="23688" y="10666"/>
                </a:cubicBezTo>
                <a:cubicBezTo>
                  <a:pt x="23661" y="10847"/>
                  <a:pt x="23455" y="10756"/>
                  <a:pt x="23366" y="1074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688240" y="384012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4135" y="10666"/>
                </a:moveTo>
                <a:lnTo>
                  <a:pt x="24135" y="10666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30160" y="4017960"/>
            <a:ext cx="554040" cy="393840"/>
          </a:xfrm>
          <a:custGeom>
            <a:avLst/>
            <a:gdLst/>
            <a:ahLst/>
            <a:rect l="l" t="t" r="r" b="b"/>
            <a:pathLst>
              <a:path w="1539" h="1093">
                <a:moveTo>
                  <a:pt x="2307" y="11162"/>
                </a:moveTo>
                <a:cubicBezTo>
                  <a:pt x="2341" y="11370"/>
                  <a:pt x="2356" y="11565"/>
                  <a:pt x="2356" y="11782"/>
                </a:cubicBezTo>
                <a:cubicBezTo>
                  <a:pt x="2356" y="11799"/>
                  <a:pt x="2356" y="11815"/>
                  <a:pt x="2356" y="11832"/>
                </a:cubicBezTo>
                <a:cubicBezTo>
                  <a:pt x="2476" y="11762"/>
                  <a:pt x="2567" y="11741"/>
                  <a:pt x="2704" y="11782"/>
                </a:cubicBezTo>
              </a:path>
              <a:path w="1539" h="1093">
                <a:moveTo>
                  <a:pt x="2828" y="11708"/>
                </a:moveTo>
                <a:cubicBezTo>
                  <a:pt x="2920" y="11659"/>
                  <a:pt x="2967" y="11638"/>
                  <a:pt x="3026" y="11559"/>
                </a:cubicBezTo>
                <a:cubicBezTo>
                  <a:pt x="2903" y="11540"/>
                  <a:pt x="2737" y="11571"/>
                  <a:pt x="2803" y="11757"/>
                </a:cubicBezTo>
                <a:cubicBezTo>
                  <a:pt x="2877" y="11857"/>
                  <a:pt x="2901" y="11890"/>
                  <a:pt x="3001" y="11857"/>
                </a:cubicBezTo>
              </a:path>
              <a:path w="1539" h="1093">
                <a:moveTo>
                  <a:pt x="3398" y="11584"/>
                </a:moveTo>
                <a:cubicBezTo>
                  <a:pt x="3365" y="11592"/>
                  <a:pt x="3111" y="11682"/>
                  <a:pt x="3225" y="11733"/>
                </a:cubicBezTo>
                <a:cubicBezTo>
                  <a:pt x="3355" y="11791"/>
                  <a:pt x="3355" y="11728"/>
                  <a:pt x="3398" y="11633"/>
                </a:cubicBezTo>
                <a:cubicBezTo>
                  <a:pt x="3464" y="11744"/>
                  <a:pt x="3470" y="11971"/>
                  <a:pt x="3448" y="12105"/>
                </a:cubicBezTo>
                <a:cubicBezTo>
                  <a:pt x="3408" y="12205"/>
                  <a:pt x="3415" y="12234"/>
                  <a:pt x="3349" y="12254"/>
                </a:cubicBezTo>
              </a:path>
              <a:path w="1539" h="1093">
                <a:moveTo>
                  <a:pt x="3746" y="11509"/>
                </a:moveTo>
                <a:cubicBezTo>
                  <a:pt x="3694" y="11509"/>
                  <a:pt x="3676" y="11511"/>
                  <a:pt x="3671" y="11559"/>
                </a:cubicBezTo>
                <a:cubicBezTo>
                  <a:pt x="3716" y="11623"/>
                  <a:pt x="3904" y="11717"/>
                  <a:pt x="3820" y="11832"/>
                </a:cubicBezTo>
                <a:cubicBezTo>
                  <a:pt x="3729" y="11892"/>
                  <a:pt x="3684" y="11905"/>
                  <a:pt x="3597" y="118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562040" y="4133880"/>
            <a:ext cx="384120" cy="152280"/>
          </a:xfrm>
          <a:custGeom>
            <a:avLst/>
            <a:gdLst/>
            <a:ahLst/>
            <a:rect l="l" t="t" r="r" b="b"/>
            <a:pathLst>
              <a:path w="1067" h="422">
                <a:moveTo>
                  <a:pt x="4663" y="11658"/>
                </a:moveTo>
                <a:cubicBezTo>
                  <a:pt x="4554" y="11558"/>
                  <a:pt x="4396" y="11437"/>
                  <a:pt x="4341" y="11708"/>
                </a:cubicBezTo>
                <a:cubicBezTo>
                  <a:pt x="4349" y="11758"/>
                  <a:pt x="4358" y="11807"/>
                  <a:pt x="4366" y="11857"/>
                </a:cubicBezTo>
                <a:cubicBezTo>
                  <a:pt x="4523" y="11890"/>
                  <a:pt x="4518" y="11861"/>
                  <a:pt x="4638" y="11733"/>
                </a:cubicBezTo>
                <a:cubicBezTo>
                  <a:pt x="4630" y="11708"/>
                  <a:pt x="4622" y="11683"/>
                  <a:pt x="4614" y="11658"/>
                </a:cubicBezTo>
                <a:cubicBezTo>
                  <a:pt x="4640" y="11719"/>
                  <a:pt x="4734" y="11904"/>
                  <a:pt x="4837" y="11807"/>
                </a:cubicBezTo>
                <a:cubicBezTo>
                  <a:pt x="4903" y="11745"/>
                  <a:pt x="4887" y="11566"/>
                  <a:pt x="4887" y="11757"/>
                </a:cubicBezTo>
                <a:cubicBezTo>
                  <a:pt x="4951" y="11846"/>
                  <a:pt x="4891" y="11623"/>
                  <a:pt x="4961" y="11534"/>
                </a:cubicBezTo>
                <a:cubicBezTo>
                  <a:pt x="5038" y="11483"/>
                  <a:pt x="5067" y="11467"/>
                  <a:pt x="5135" y="11485"/>
                </a:cubicBezTo>
              </a:path>
              <a:path w="1067" h="422">
                <a:moveTo>
                  <a:pt x="5184" y="11683"/>
                </a:moveTo>
                <a:cubicBezTo>
                  <a:pt x="5262" y="11661"/>
                  <a:pt x="5285" y="11638"/>
                  <a:pt x="5333" y="11584"/>
                </a:cubicBezTo>
                <a:cubicBezTo>
                  <a:pt x="5174" y="11566"/>
                  <a:pt x="5189" y="11583"/>
                  <a:pt x="5110" y="11733"/>
                </a:cubicBezTo>
                <a:cubicBezTo>
                  <a:pt x="5210" y="11806"/>
                  <a:pt x="5285" y="11826"/>
                  <a:pt x="5407" y="118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152800" y="4037040"/>
            <a:ext cx="1079280" cy="268200"/>
          </a:xfrm>
          <a:custGeom>
            <a:avLst/>
            <a:gdLst/>
            <a:ahLst/>
            <a:rect l="l" t="t" r="r" b="b"/>
            <a:pathLst>
              <a:path w="3002" h="745">
                <a:moveTo>
                  <a:pt x="6028" y="11609"/>
                </a:moveTo>
                <a:cubicBezTo>
                  <a:pt x="6039" y="11720"/>
                  <a:pt x="6064" y="11826"/>
                  <a:pt x="6102" y="11931"/>
                </a:cubicBezTo>
              </a:path>
              <a:path w="3002" h="745">
                <a:moveTo>
                  <a:pt x="5978" y="11460"/>
                </a:moveTo>
                <a:cubicBezTo>
                  <a:pt x="6119" y="11538"/>
                  <a:pt x="6150" y="11640"/>
                  <a:pt x="6226" y="11782"/>
                </a:cubicBezTo>
                <a:cubicBezTo>
                  <a:pt x="6234" y="11799"/>
                  <a:pt x="6243" y="11815"/>
                  <a:pt x="6251" y="11832"/>
                </a:cubicBezTo>
                <a:cubicBezTo>
                  <a:pt x="6294" y="11704"/>
                  <a:pt x="6343" y="11570"/>
                  <a:pt x="6499" y="11708"/>
                </a:cubicBezTo>
                <a:cubicBezTo>
                  <a:pt x="6591" y="11824"/>
                  <a:pt x="6622" y="11854"/>
                  <a:pt x="6623" y="11956"/>
                </a:cubicBezTo>
              </a:path>
              <a:path w="3002" h="745">
                <a:moveTo>
                  <a:pt x="7045" y="11237"/>
                </a:moveTo>
                <a:cubicBezTo>
                  <a:pt x="7074" y="11443"/>
                  <a:pt x="7103" y="11650"/>
                  <a:pt x="7119" y="11857"/>
                </a:cubicBezTo>
                <a:cubicBezTo>
                  <a:pt x="7133" y="11794"/>
                  <a:pt x="7212" y="11342"/>
                  <a:pt x="7342" y="11609"/>
                </a:cubicBezTo>
                <a:cubicBezTo>
                  <a:pt x="7446" y="11822"/>
                  <a:pt x="7286" y="11970"/>
                  <a:pt x="7094" y="11857"/>
                </a:cubicBezTo>
                <a:cubicBezTo>
                  <a:pt x="7069" y="11832"/>
                  <a:pt x="7045" y="11807"/>
                  <a:pt x="7020" y="11782"/>
                </a:cubicBezTo>
              </a:path>
              <a:path w="3002" h="745">
                <a:moveTo>
                  <a:pt x="7565" y="11609"/>
                </a:moveTo>
                <a:cubicBezTo>
                  <a:pt x="7475" y="11699"/>
                  <a:pt x="7445" y="11720"/>
                  <a:pt x="7441" y="11807"/>
                </a:cubicBezTo>
                <a:cubicBezTo>
                  <a:pt x="7550" y="11881"/>
                  <a:pt x="7784" y="11927"/>
                  <a:pt x="7714" y="11683"/>
                </a:cubicBezTo>
                <a:cubicBezTo>
                  <a:pt x="7689" y="11650"/>
                  <a:pt x="7665" y="11617"/>
                  <a:pt x="7640" y="11584"/>
                </a:cubicBezTo>
              </a:path>
              <a:path w="3002" h="745">
                <a:moveTo>
                  <a:pt x="7987" y="11212"/>
                </a:moveTo>
                <a:cubicBezTo>
                  <a:pt x="7987" y="11430"/>
                  <a:pt x="7985" y="11642"/>
                  <a:pt x="8012" y="11857"/>
                </a:cubicBezTo>
              </a:path>
              <a:path w="3002" h="745">
                <a:moveTo>
                  <a:pt x="7739" y="11509"/>
                </a:moveTo>
                <a:cubicBezTo>
                  <a:pt x="7885" y="11563"/>
                  <a:pt x="8121" y="11674"/>
                  <a:pt x="8235" y="11509"/>
                </a:cubicBezTo>
                <a:cubicBezTo>
                  <a:pt x="8260" y="11410"/>
                  <a:pt x="8268" y="11377"/>
                  <a:pt x="8235" y="11311"/>
                </a:cubicBezTo>
                <a:cubicBezTo>
                  <a:pt x="8241" y="11488"/>
                  <a:pt x="8257" y="11657"/>
                  <a:pt x="8285" y="11832"/>
                </a:cubicBezTo>
                <a:cubicBezTo>
                  <a:pt x="8345" y="11697"/>
                  <a:pt x="8367" y="11637"/>
                  <a:pt x="8483" y="11559"/>
                </a:cubicBezTo>
                <a:cubicBezTo>
                  <a:pt x="8588" y="11674"/>
                  <a:pt x="8617" y="11768"/>
                  <a:pt x="8632" y="11931"/>
                </a:cubicBezTo>
              </a:path>
              <a:path w="3002" h="745">
                <a:moveTo>
                  <a:pt x="8979" y="11832"/>
                </a:moveTo>
                <a:lnTo>
                  <a:pt x="8979" y="11832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394080" y="4062240"/>
            <a:ext cx="374760" cy="223920"/>
          </a:xfrm>
          <a:custGeom>
            <a:avLst/>
            <a:gdLst/>
            <a:ahLst/>
            <a:rect l="l" t="t" r="r" b="b"/>
            <a:pathLst>
              <a:path w="1043" h="621">
                <a:moveTo>
                  <a:pt x="9624" y="11485"/>
                </a:moveTo>
                <a:cubicBezTo>
                  <a:pt x="9649" y="11418"/>
                  <a:pt x="9665" y="11357"/>
                  <a:pt x="9674" y="11286"/>
                </a:cubicBezTo>
                <a:cubicBezTo>
                  <a:pt x="9710" y="11467"/>
                  <a:pt x="9753" y="11648"/>
                  <a:pt x="9773" y="11832"/>
                </a:cubicBezTo>
              </a:path>
              <a:path w="1043" h="621">
                <a:moveTo>
                  <a:pt x="9426" y="11559"/>
                </a:moveTo>
                <a:cubicBezTo>
                  <a:pt x="9644" y="11501"/>
                  <a:pt x="9854" y="11494"/>
                  <a:pt x="10071" y="11460"/>
                </a:cubicBezTo>
              </a:path>
              <a:path w="1043" h="621">
                <a:moveTo>
                  <a:pt x="10244" y="11534"/>
                </a:moveTo>
                <a:cubicBezTo>
                  <a:pt x="10084" y="11626"/>
                  <a:pt x="10086" y="11714"/>
                  <a:pt x="10096" y="11881"/>
                </a:cubicBezTo>
                <a:cubicBezTo>
                  <a:pt x="10216" y="11887"/>
                  <a:pt x="10610" y="11860"/>
                  <a:pt x="10418" y="11633"/>
                </a:cubicBezTo>
                <a:cubicBezTo>
                  <a:pt x="10377" y="11608"/>
                  <a:pt x="10335" y="11584"/>
                  <a:pt x="10294" y="1155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000680" y="4081320"/>
            <a:ext cx="277560" cy="241560"/>
          </a:xfrm>
          <a:custGeom>
            <a:avLst/>
            <a:gdLst/>
            <a:ahLst/>
            <a:rect l="l" t="t" r="r" b="b"/>
            <a:pathLst>
              <a:path w="770" h="670">
                <a:moveTo>
                  <a:pt x="11435" y="11509"/>
                </a:moveTo>
                <a:cubicBezTo>
                  <a:pt x="11376" y="11373"/>
                  <a:pt x="11183" y="11403"/>
                  <a:pt x="11112" y="11559"/>
                </a:cubicBezTo>
                <a:cubicBezTo>
                  <a:pt x="11008" y="11788"/>
                  <a:pt x="11344" y="11745"/>
                  <a:pt x="11410" y="11584"/>
                </a:cubicBezTo>
                <a:cubicBezTo>
                  <a:pt x="11410" y="11551"/>
                  <a:pt x="11410" y="11518"/>
                  <a:pt x="11410" y="11485"/>
                </a:cubicBezTo>
                <a:cubicBezTo>
                  <a:pt x="11425" y="11659"/>
                  <a:pt x="11455" y="11833"/>
                  <a:pt x="11485" y="12005"/>
                </a:cubicBezTo>
              </a:path>
              <a:path w="770" h="670">
                <a:moveTo>
                  <a:pt x="11708" y="11336"/>
                </a:moveTo>
                <a:cubicBezTo>
                  <a:pt x="11605" y="11439"/>
                  <a:pt x="11570" y="11477"/>
                  <a:pt x="11559" y="11584"/>
                </a:cubicBezTo>
                <a:cubicBezTo>
                  <a:pt x="11643" y="11637"/>
                  <a:pt x="11990" y="11659"/>
                  <a:pt x="11881" y="11460"/>
                </a:cubicBezTo>
                <a:cubicBezTo>
                  <a:pt x="11840" y="11435"/>
                  <a:pt x="11798" y="11410"/>
                  <a:pt x="11757" y="1138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500720" y="4037040"/>
            <a:ext cx="733320" cy="214200"/>
          </a:xfrm>
          <a:custGeom>
            <a:avLst/>
            <a:gdLst/>
            <a:ahLst/>
            <a:rect l="l" t="t" r="r" b="b"/>
            <a:pathLst>
              <a:path w="2035" h="596">
                <a:moveTo>
                  <a:pt x="12973" y="11435"/>
                </a:moveTo>
                <a:cubicBezTo>
                  <a:pt x="12940" y="11289"/>
                  <a:pt x="12851" y="11235"/>
                  <a:pt x="12700" y="11212"/>
                </a:cubicBezTo>
                <a:cubicBezTo>
                  <a:pt x="12667" y="11212"/>
                  <a:pt x="12634" y="11212"/>
                  <a:pt x="12601" y="11212"/>
                </a:cubicBezTo>
                <a:cubicBezTo>
                  <a:pt x="12628" y="11427"/>
                  <a:pt x="12707" y="11603"/>
                  <a:pt x="12774" y="11807"/>
                </a:cubicBezTo>
              </a:path>
              <a:path w="2035" h="596">
                <a:moveTo>
                  <a:pt x="12502" y="11584"/>
                </a:moveTo>
                <a:cubicBezTo>
                  <a:pt x="12627" y="11592"/>
                  <a:pt x="13063" y="11501"/>
                  <a:pt x="13146" y="11559"/>
                </a:cubicBezTo>
                <a:cubicBezTo>
                  <a:pt x="13146" y="11626"/>
                  <a:pt x="13150" y="11660"/>
                  <a:pt x="13171" y="11708"/>
                </a:cubicBezTo>
                <a:cubicBezTo>
                  <a:pt x="13116" y="11597"/>
                  <a:pt x="13107" y="11455"/>
                  <a:pt x="13271" y="11410"/>
                </a:cubicBezTo>
                <a:cubicBezTo>
                  <a:pt x="13403" y="11410"/>
                  <a:pt x="13436" y="11410"/>
                  <a:pt x="13519" y="11410"/>
                </a:cubicBezTo>
                <a:cubicBezTo>
                  <a:pt x="13488" y="11571"/>
                  <a:pt x="13456" y="11610"/>
                  <a:pt x="13543" y="11708"/>
                </a:cubicBezTo>
                <a:cubicBezTo>
                  <a:pt x="13737" y="11618"/>
                  <a:pt x="13746" y="11565"/>
                  <a:pt x="13593" y="11410"/>
                </a:cubicBezTo>
              </a:path>
              <a:path w="2035" h="596">
                <a:moveTo>
                  <a:pt x="13791" y="11460"/>
                </a:moveTo>
                <a:cubicBezTo>
                  <a:pt x="13835" y="11611"/>
                  <a:pt x="13841" y="11648"/>
                  <a:pt x="13891" y="11733"/>
                </a:cubicBezTo>
                <a:cubicBezTo>
                  <a:pt x="13876" y="11689"/>
                  <a:pt x="13811" y="11336"/>
                  <a:pt x="13990" y="11385"/>
                </a:cubicBezTo>
                <a:cubicBezTo>
                  <a:pt x="14090" y="11486"/>
                  <a:pt x="14123" y="11520"/>
                  <a:pt x="14163" y="11609"/>
                </a:cubicBezTo>
                <a:cubicBezTo>
                  <a:pt x="14206" y="11715"/>
                  <a:pt x="14136" y="11495"/>
                  <a:pt x="14213" y="11410"/>
                </a:cubicBezTo>
                <a:cubicBezTo>
                  <a:pt x="14394" y="11209"/>
                  <a:pt x="14507" y="11632"/>
                  <a:pt x="14536" y="1173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18080" y="4027320"/>
            <a:ext cx="46080" cy="277920"/>
          </a:xfrm>
          <a:custGeom>
            <a:avLst/>
            <a:gdLst/>
            <a:ahLst/>
            <a:rect l="l" t="t" r="r" b="b"/>
            <a:pathLst>
              <a:path w="125" h="770">
                <a:moveTo>
                  <a:pt x="15329" y="11187"/>
                </a:moveTo>
                <a:cubicBezTo>
                  <a:pt x="15392" y="11443"/>
                  <a:pt x="15440" y="11692"/>
                  <a:pt x="15453" y="119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823000" y="4044960"/>
            <a:ext cx="268200" cy="366840"/>
          </a:xfrm>
          <a:custGeom>
            <a:avLst/>
            <a:gdLst/>
            <a:ahLst/>
            <a:rect l="l" t="t" r="r" b="b"/>
            <a:pathLst>
              <a:path w="745" h="1018">
                <a:moveTo>
                  <a:pt x="16173" y="11237"/>
                </a:moveTo>
                <a:cubicBezTo>
                  <a:pt x="16173" y="11450"/>
                  <a:pt x="16191" y="11647"/>
                  <a:pt x="16222" y="11857"/>
                </a:cubicBezTo>
              </a:path>
              <a:path w="745" h="1018">
                <a:moveTo>
                  <a:pt x="16321" y="11584"/>
                </a:moveTo>
                <a:cubicBezTo>
                  <a:pt x="16444" y="11546"/>
                  <a:pt x="16528" y="11546"/>
                  <a:pt x="16545" y="11410"/>
                </a:cubicBezTo>
                <a:cubicBezTo>
                  <a:pt x="16306" y="11410"/>
                  <a:pt x="16335" y="11546"/>
                  <a:pt x="16371" y="11757"/>
                </a:cubicBezTo>
                <a:cubicBezTo>
                  <a:pt x="16575" y="11769"/>
                  <a:pt x="16713" y="11710"/>
                  <a:pt x="16818" y="11509"/>
                </a:cubicBezTo>
                <a:cubicBezTo>
                  <a:pt x="16818" y="11468"/>
                  <a:pt x="16826" y="11452"/>
                  <a:pt x="16793" y="11460"/>
                </a:cubicBezTo>
                <a:cubicBezTo>
                  <a:pt x="16792" y="11461"/>
                  <a:pt x="16608" y="11919"/>
                  <a:pt x="16793" y="11733"/>
                </a:cubicBezTo>
                <a:cubicBezTo>
                  <a:pt x="16830" y="11639"/>
                  <a:pt x="16823" y="11621"/>
                  <a:pt x="16867" y="11584"/>
                </a:cubicBezTo>
                <a:cubicBezTo>
                  <a:pt x="16883" y="11746"/>
                  <a:pt x="16996" y="12040"/>
                  <a:pt x="16867" y="12179"/>
                </a:cubicBezTo>
                <a:cubicBezTo>
                  <a:pt x="16809" y="12204"/>
                  <a:pt x="16752" y="12229"/>
                  <a:pt x="16694" y="1225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313320" y="4000680"/>
            <a:ext cx="536760" cy="231480"/>
          </a:xfrm>
          <a:custGeom>
            <a:avLst/>
            <a:gdLst/>
            <a:ahLst/>
            <a:rect l="l" t="t" r="r" b="b"/>
            <a:pathLst>
              <a:path w="1489" h="646">
                <a:moveTo>
                  <a:pt x="17735" y="11112"/>
                </a:moveTo>
                <a:cubicBezTo>
                  <a:pt x="17775" y="11303"/>
                  <a:pt x="17804" y="11491"/>
                  <a:pt x="17835" y="11683"/>
                </a:cubicBezTo>
              </a:path>
              <a:path w="1489" h="646">
                <a:moveTo>
                  <a:pt x="17537" y="11385"/>
                </a:moveTo>
                <a:cubicBezTo>
                  <a:pt x="17705" y="11385"/>
                  <a:pt x="17866" y="11373"/>
                  <a:pt x="18033" y="11361"/>
                </a:cubicBezTo>
                <a:cubicBezTo>
                  <a:pt x="18004" y="11477"/>
                  <a:pt x="17918" y="11695"/>
                  <a:pt x="18132" y="11658"/>
                </a:cubicBezTo>
                <a:cubicBezTo>
                  <a:pt x="18319" y="11626"/>
                  <a:pt x="18257" y="11528"/>
                  <a:pt x="18207" y="11435"/>
                </a:cubicBezTo>
              </a:path>
              <a:path w="1489" h="646">
                <a:moveTo>
                  <a:pt x="18678" y="11187"/>
                </a:moveTo>
                <a:cubicBezTo>
                  <a:pt x="18766" y="11157"/>
                  <a:pt x="18806" y="11149"/>
                  <a:pt x="18876" y="11162"/>
                </a:cubicBezTo>
                <a:cubicBezTo>
                  <a:pt x="18948" y="11352"/>
                  <a:pt x="18819" y="11491"/>
                  <a:pt x="18728" y="11658"/>
                </a:cubicBezTo>
                <a:cubicBezTo>
                  <a:pt x="18622" y="11853"/>
                  <a:pt x="18899" y="11757"/>
                  <a:pt x="19025" y="1173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072200" y="4044960"/>
            <a:ext cx="268560" cy="187200"/>
          </a:xfrm>
          <a:custGeom>
            <a:avLst/>
            <a:gdLst/>
            <a:ahLst/>
            <a:rect l="l" t="t" r="r" b="b"/>
            <a:pathLst>
              <a:path w="745" h="521">
                <a:moveTo>
                  <a:pt x="19993" y="11361"/>
                </a:moveTo>
                <a:cubicBezTo>
                  <a:pt x="20058" y="11492"/>
                  <a:pt x="20079" y="11588"/>
                  <a:pt x="20092" y="11733"/>
                </a:cubicBezTo>
              </a:path>
              <a:path w="745" h="521">
                <a:moveTo>
                  <a:pt x="19645" y="11286"/>
                </a:moveTo>
                <a:cubicBezTo>
                  <a:pt x="19868" y="11250"/>
                  <a:pt x="20068" y="11227"/>
                  <a:pt x="20290" y="11261"/>
                </a:cubicBezTo>
              </a:path>
              <a:path w="745" h="521">
                <a:moveTo>
                  <a:pt x="19869" y="11757"/>
                </a:moveTo>
                <a:cubicBezTo>
                  <a:pt x="20133" y="11734"/>
                  <a:pt x="20215" y="11726"/>
                  <a:pt x="20389" y="1173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990960"/>
            <a:ext cx="812880" cy="241200"/>
          </a:xfrm>
          <a:custGeom>
            <a:avLst/>
            <a:gdLst/>
            <a:ahLst/>
            <a:rect l="l" t="t" r="r" b="b"/>
            <a:pathLst>
              <a:path w="2258" h="670">
                <a:moveTo>
                  <a:pt x="21059" y="11633"/>
                </a:moveTo>
                <a:cubicBezTo>
                  <a:pt x="21180" y="11833"/>
                  <a:pt x="21203" y="11758"/>
                  <a:pt x="21282" y="11559"/>
                </a:cubicBezTo>
                <a:cubicBezTo>
                  <a:pt x="21282" y="11551"/>
                  <a:pt x="21282" y="11542"/>
                  <a:pt x="21282" y="11534"/>
                </a:cubicBezTo>
                <a:cubicBezTo>
                  <a:pt x="21308" y="11702"/>
                  <a:pt x="21434" y="11817"/>
                  <a:pt x="21580" y="11633"/>
                </a:cubicBezTo>
                <a:cubicBezTo>
                  <a:pt x="21723" y="11453"/>
                  <a:pt x="21403" y="11430"/>
                  <a:pt x="21332" y="11410"/>
                </a:cubicBezTo>
              </a:path>
              <a:path w="2258" h="670">
                <a:moveTo>
                  <a:pt x="21779" y="11385"/>
                </a:moveTo>
                <a:cubicBezTo>
                  <a:pt x="21671" y="11480"/>
                  <a:pt x="21519" y="11733"/>
                  <a:pt x="21828" y="11708"/>
                </a:cubicBezTo>
                <a:cubicBezTo>
                  <a:pt x="22034" y="11691"/>
                  <a:pt x="21914" y="11521"/>
                  <a:pt x="21878" y="11435"/>
                </a:cubicBezTo>
              </a:path>
              <a:path w="2258" h="670">
                <a:moveTo>
                  <a:pt x="22076" y="11509"/>
                </a:moveTo>
                <a:cubicBezTo>
                  <a:pt x="22076" y="11629"/>
                  <a:pt x="22074" y="11667"/>
                  <a:pt x="22126" y="11733"/>
                </a:cubicBezTo>
                <a:cubicBezTo>
                  <a:pt x="22355" y="11687"/>
                  <a:pt x="22234" y="11525"/>
                  <a:pt x="22423" y="11609"/>
                </a:cubicBezTo>
                <a:cubicBezTo>
                  <a:pt x="22653" y="11710"/>
                  <a:pt x="22828" y="11663"/>
                  <a:pt x="22746" y="11361"/>
                </a:cubicBezTo>
                <a:cubicBezTo>
                  <a:pt x="22721" y="11311"/>
                  <a:pt x="22696" y="11262"/>
                  <a:pt x="22671" y="11212"/>
                </a:cubicBezTo>
                <a:cubicBezTo>
                  <a:pt x="22663" y="11195"/>
                  <a:pt x="22655" y="11179"/>
                  <a:pt x="22647" y="11162"/>
                </a:cubicBezTo>
                <a:cubicBezTo>
                  <a:pt x="22662" y="11373"/>
                  <a:pt x="22692" y="11505"/>
                  <a:pt x="22796" y="11683"/>
                </a:cubicBezTo>
              </a:path>
              <a:path w="2258" h="670">
                <a:moveTo>
                  <a:pt x="23192" y="11584"/>
                </a:moveTo>
                <a:cubicBezTo>
                  <a:pt x="23192" y="11567"/>
                  <a:pt x="23192" y="11551"/>
                  <a:pt x="23192" y="11534"/>
                </a:cubicBezTo>
                <a:cubicBezTo>
                  <a:pt x="23104" y="11516"/>
                  <a:pt x="22890" y="11546"/>
                  <a:pt x="22969" y="11708"/>
                </a:cubicBezTo>
                <a:cubicBezTo>
                  <a:pt x="23098" y="11972"/>
                  <a:pt x="23345" y="11535"/>
                  <a:pt x="23316" y="11385"/>
                </a:cubicBezTo>
                <a:cubicBezTo>
                  <a:pt x="23238" y="11209"/>
                  <a:pt x="23234" y="11178"/>
                  <a:pt x="23168" y="11088"/>
                </a:cubicBezTo>
                <a:cubicBezTo>
                  <a:pt x="23207" y="11271"/>
                  <a:pt x="23246" y="11452"/>
                  <a:pt x="23292" y="1163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03160" y="4464000"/>
            <a:ext cx="1295640" cy="376200"/>
          </a:xfrm>
          <a:custGeom>
            <a:avLst/>
            <a:gdLst/>
            <a:ahLst/>
            <a:rect l="l" t="t" r="r" b="b"/>
            <a:pathLst>
              <a:path w="3598" h="1043">
                <a:moveTo>
                  <a:pt x="2232" y="12675"/>
                </a:moveTo>
                <a:cubicBezTo>
                  <a:pt x="2280" y="12817"/>
                  <a:pt x="2293" y="12859"/>
                  <a:pt x="2332" y="12948"/>
                </a:cubicBezTo>
                <a:cubicBezTo>
                  <a:pt x="2332" y="13049"/>
                  <a:pt x="2378" y="12767"/>
                  <a:pt x="2406" y="12700"/>
                </a:cubicBezTo>
                <a:cubicBezTo>
                  <a:pt x="2506" y="12789"/>
                  <a:pt x="2589" y="12874"/>
                  <a:pt x="2679" y="12973"/>
                </a:cubicBezTo>
                <a:cubicBezTo>
                  <a:pt x="2689" y="12850"/>
                  <a:pt x="2729" y="12667"/>
                  <a:pt x="2902" y="12824"/>
                </a:cubicBezTo>
                <a:cubicBezTo>
                  <a:pt x="2965" y="12929"/>
                  <a:pt x="2984" y="12949"/>
                  <a:pt x="3001" y="13022"/>
                </a:cubicBezTo>
              </a:path>
              <a:path w="3598" h="1043">
                <a:moveTo>
                  <a:pt x="3051" y="12725"/>
                </a:moveTo>
                <a:cubicBezTo>
                  <a:pt x="3064" y="12829"/>
                  <a:pt x="3070" y="13014"/>
                  <a:pt x="3225" y="12998"/>
                </a:cubicBezTo>
                <a:cubicBezTo>
                  <a:pt x="3330" y="12987"/>
                  <a:pt x="3317" y="12870"/>
                  <a:pt x="3324" y="12799"/>
                </a:cubicBezTo>
                <a:cubicBezTo>
                  <a:pt x="3387" y="12926"/>
                  <a:pt x="3376" y="12925"/>
                  <a:pt x="3522" y="12948"/>
                </a:cubicBezTo>
              </a:path>
              <a:path w="3598" h="1043">
                <a:moveTo>
                  <a:pt x="3572" y="12477"/>
                </a:moveTo>
                <a:cubicBezTo>
                  <a:pt x="3647" y="12633"/>
                  <a:pt x="3712" y="12785"/>
                  <a:pt x="3770" y="12948"/>
                </a:cubicBezTo>
              </a:path>
              <a:path w="3598" h="1043">
                <a:moveTo>
                  <a:pt x="4043" y="12402"/>
                </a:moveTo>
                <a:cubicBezTo>
                  <a:pt x="4086" y="12558"/>
                  <a:pt x="4148" y="12715"/>
                  <a:pt x="4192" y="12874"/>
                </a:cubicBezTo>
              </a:path>
              <a:path w="3598" h="1043">
                <a:moveTo>
                  <a:pt x="3894" y="12650"/>
                </a:moveTo>
                <a:cubicBezTo>
                  <a:pt x="4077" y="12650"/>
                  <a:pt x="4298" y="12608"/>
                  <a:pt x="4440" y="12750"/>
                </a:cubicBezTo>
                <a:cubicBezTo>
                  <a:pt x="4484" y="12838"/>
                  <a:pt x="4501" y="12859"/>
                  <a:pt x="4490" y="12923"/>
                </a:cubicBezTo>
              </a:path>
              <a:path w="3598" h="1043">
                <a:moveTo>
                  <a:pt x="4390" y="12551"/>
                </a:moveTo>
                <a:lnTo>
                  <a:pt x="4390" y="12551"/>
                </a:lnTo>
              </a:path>
              <a:path w="3598" h="1043">
                <a:moveTo>
                  <a:pt x="4812" y="12626"/>
                </a:moveTo>
                <a:cubicBezTo>
                  <a:pt x="4907" y="12845"/>
                  <a:pt x="4980" y="13069"/>
                  <a:pt x="5060" y="13295"/>
                </a:cubicBezTo>
              </a:path>
              <a:path w="3598" h="1043">
                <a:moveTo>
                  <a:pt x="4738" y="12551"/>
                </a:moveTo>
                <a:cubicBezTo>
                  <a:pt x="4839" y="12586"/>
                  <a:pt x="5435" y="12777"/>
                  <a:pt x="5085" y="12948"/>
                </a:cubicBezTo>
                <a:cubicBezTo>
                  <a:pt x="5027" y="12956"/>
                  <a:pt x="4969" y="12965"/>
                  <a:pt x="4911" y="12973"/>
                </a:cubicBezTo>
              </a:path>
              <a:path w="3598" h="1043">
                <a:moveTo>
                  <a:pt x="5209" y="12427"/>
                </a:moveTo>
                <a:cubicBezTo>
                  <a:pt x="5294" y="12588"/>
                  <a:pt x="5291" y="13037"/>
                  <a:pt x="5432" y="12923"/>
                </a:cubicBezTo>
                <a:cubicBezTo>
                  <a:pt x="5502" y="12784"/>
                  <a:pt x="5523" y="12745"/>
                  <a:pt x="5556" y="12650"/>
                </a:cubicBezTo>
                <a:cubicBezTo>
                  <a:pt x="5567" y="12691"/>
                  <a:pt x="5692" y="13084"/>
                  <a:pt x="5755" y="12874"/>
                </a:cubicBezTo>
                <a:cubicBezTo>
                  <a:pt x="5755" y="12780"/>
                  <a:pt x="5734" y="12760"/>
                  <a:pt x="5779" y="12725"/>
                </a:cubicBezTo>
                <a:cubicBezTo>
                  <a:pt x="5813" y="12959"/>
                  <a:pt x="5914" y="13174"/>
                  <a:pt x="5705" y="13370"/>
                </a:cubicBezTo>
                <a:cubicBezTo>
                  <a:pt x="5647" y="13395"/>
                  <a:pt x="5589" y="13419"/>
                  <a:pt x="5531" y="1344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313000" y="4491000"/>
            <a:ext cx="357120" cy="376200"/>
          </a:xfrm>
          <a:custGeom>
            <a:avLst/>
            <a:gdLst/>
            <a:ahLst/>
            <a:rect l="l" t="t" r="r" b="b"/>
            <a:pathLst>
              <a:path w="994" h="1043">
                <a:moveTo>
                  <a:pt x="6424" y="12477"/>
                </a:moveTo>
                <a:cubicBezTo>
                  <a:pt x="6458" y="12657"/>
                  <a:pt x="6511" y="12848"/>
                  <a:pt x="6573" y="13022"/>
                </a:cubicBezTo>
                <a:cubicBezTo>
                  <a:pt x="6602" y="12880"/>
                  <a:pt x="6640" y="12805"/>
                  <a:pt x="6697" y="12675"/>
                </a:cubicBezTo>
                <a:cubicBezTo>
                  <a:pt x="6805" y="12799"/>
                  <a:pt x="6975" y="13087"/>
                  <a:pt x="6648" y="13072"/>
                </a:cubicBezTo>
                <a:cubicBezTo>
                  <a:pt x="6607" y="13055"/>
                  <a:pt x="6565" y="13039"/>
                  <a:pt x="6524" y="13022"/>
                </a:cubicBezTo>
              </a:path>
              <a:path w="994" h="1043">
                <a:moveTo>
                  <a:pt x="7020" y="12923"/>
                </a:moveTo>
                <a:cubicBezTo>
                  <a:pt x="7090" y="13016"/>
                  <a:pt x="7107" y="13048"/>
                  <a:pt x="7193" y="13047"/>
                </a:cubicBezTo>
                <a:cubicBezTo>
                  <a:pt x="7258" y="12938"/>
                  <a:pt x="7322" y="12802"/>
                  <a:pt x="7268" y="12750"/>
                </a:cubicBezTo>
                <a:cubicBezTo>
                  <a:pt x="7394" y="13087"/>
                  <a:pt x="7482" y="13251"/>
                  <a:pt x="7243" y="1351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813040" y="4491000"/>
            <a:ext cx="142920" cy="179280"/>
          </a:xfrm>
          <a:custGeom>
            <a:avLst/>
            <a:gdLst/>
            <a:ahLst/>
            <a:rect l="l" t="t" r="r" b="b"/>
            <a:pathLst>
              <a:path w="398" h="497">
                <a:moveTo>
                  <a:pt x="7888" y="12477"/>
                </a:moveTo>
                <a:cubicBezTo>
                  <a:pt x="7957" y="12488"/>
                  <a:pt x="8197" y="12521"/>
                  <a:pt x="8136" y="12650"/>
                </a:cubicBezTo>
                <a:cubicBezTo>
                  <a:pt x="8026" y="12788"/>
                  <a:pt x="7978" y="12840"/>
                  <a:pt x="7863" y="12898"/>
                </a:cubicBezTo>
                <a:cubicBezTo>
                  <a:pt x="7722" y="13039"/>
                  <a:pt x="8137" y="12953"/>
                  <a:pt x="8210" y="1294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16160" y="4724280"/>
            <a:ext cx="46080" cy="115920"/>
          </a:xfrm>
          <a:custGeom>
            <a:avLst/>
            <a:gdLst/>
            <a:ahLst/>
            <a:rect l="l" t="t" r="r" b="b"/>
            <a:pathLst>
              <a:path w="125" h="323">
                <a:moveTo>
                  <a:pt x="8781" y="13122"/>
                </a:moveTo>
                <a:cubicBezTo>
                  <a:pt x="8756" y="13296"/>
                  <a:pt x="8747" y="13355"/>
                  <a:pt x="8657" y="1344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367080" y="4518000"/>
            <a:ext cx="258840" cy="152280"/>
          </a:xfrm>
          <a:custGeom>
            <a:avLst/>
            <a:gdLst/>
            <a:ahLst/>
            <a:rect l="l" t="t" r="r" b="b"/>
            <a:pathLst>
              <a:path w="721" h="423">
                <a:moveTo>
                  <a:pt x="9550" y="12551"/>
                </a:moveTo>
                <a:cubicBezTo>
                  <a:pt x="9440" y="12639"/>
                  <a:pt x="9411" y="12660"/>
                  <a:pt x="9351" y="12725"/>
                </a:cubicBezTo>
                <a:cubicBezTo>
                  <a:pt x="9511" y="12725"/>
                  <a:pt x="9557" y="12720"/>
                  <a:pt x="9649" y="12774"/>
                </a:cubicBezTo>
                <a:cubicBezTo>
                  <a:pt x="9587" y="12960"/>
                  <a:pt x="9561" y="12925"/>
                  <a:pt x="9351" y="12973"/>
                </a:cubicBezTo>
              </a:path>
              <a:path w="721" h="423">
                <a:moveTo>
                  <a:pt x="9847" y="12551"/>
                </a:moveTo>
                <a:cubicBezTo>
                  <a:pt x="9776" y="12693"/>
                  <a:pt x="9601" y="13058"/>
                  <a:pt x="9947" y="12973"/>
                </a:cubicBezTo>
                <a:cubicBezTo>
                  <a:pt x="10191" y="12913"/>
                  <a:pt x="10006" y="12735"/>
                  <a:pt x="9947" y="1265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795840" y="4483080"/>
            <a:ext cx="285480" cy="177840"/>
          </a:xfrm>
          <a:custGeom>
            <a:avLst/>
            <a:gdLst/>
            <a:ahLst/>
            <a:rect l="l" t="t" r="r" b="b"/>
            <a:pathLst>
              <a:path w="795" h="497">
                <a:moveTo>
                  <a:pt x="10840" y="12452"/>
                </a:moveTo>
                <a:cubicBezTo>
                  <a:pt x="10885" y="12606"/>
                  <a:pt x="10932" y="12748"/>
                  <a:pt x="10988" y="12898"/>
                </a:cubicBezTo>
              </a:path>
              <a:path w="795" h="497">
                <a:moveTo>
                  <a:pt x="10542" y="12477"/>
                </a:moveTo>
                <a:cubicBezTo>
                  <a:pt x="10807" y="12471"/>
                  <a:pt x="11071" y="12459"/>
                  <a:pt x="11336" y="12452"/>
                </a:cubicBezTo>
              </a:path>
              <a:path w="795" h="497">
                <a:moveTo>
                  <a:pt x="10790" y="12948"/>
                </a:moveTo>
                <a:cubicBezTo>
                  <a:pt x="10968" y="12942"/>
                  <a:pt x="11134" y="12925"/>
                  <a:pt x="11311" y="1289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295880" y="4429080"/>
            <a:ext cx="652320" cy="241200"/>
          </a:xfrm>
          <a:custGeom>
            <a:avLst/>
            <a:gdLst/>
            <a:ahLst/>
            <a:rect l="l" t="t" r="r" b="b"/>
            <a:pathLst>
              <a:path w="1812" h="671">
                <a:moveTo>
                  <a:pt x="11931" y="12750"/>
                </a:moveTo>
                <a:cubicBezTo>
                  <a:pt x="11971" y="12850"/>
                  <a:pt x="11976" y="12867"/>
                  <a:pt x="12005" y="12923"/>
                </a:cubicBezTo>
                <a:cubicBezTo>
                  <a:pt x="12005" y="12773"/>
                  <a:pt x="11986" y="12522"/>
                  <a:pt x="12229" y="12601"/>
                </a:cubicBezTo>
                <a:cubicBezTo>
                  <a:pt x="12353" y="12700"/>
                  <a:pt x="12394" y="12732"/>
                  <a:pt x="12402" y="12849"/>
                </a:cubicBezTo>
              </a:path>
              <a:path w="1812" h="671">
                <a:moveTo>
                  <a:pt x="12626" y="12750"/>
                </a:moveTo>
                <a:cubicBezTo>
                  <a:pt x="12697" y="12702"/>
                  <a:pt x="12720" y="12689"/>
                  <a:pt x="12725" y="12626"/>
                </a:cubicBezTo>
                <a:cubicBezTo>
                  <a:pt x="12586" y="12582"/>
                  <a:pt x="12334" y="12665"/>
                  <a:pt x="12477" y="12874"/>
                </a:cubicBezTo>
                <a:cubicBezTo>
                  <a:pt x="12617" y="12967"/>
                  <a:pt x="12657" y="13000"/>
                  <a:pt x="12774" y="12973"/>
                </a:cubicBezTo>
              </a:path>
              <a:path w="1812" h="671">
                <a:moveTo>
                  <a:pt x="12923" y="12750"/>
                </a:moveTo>
                <a:cubicBezTo>
                  <a:pt x="13047" y="12717"/>
                  <a:pt x="13095" y="12728"/>
                  <a:pt x="13146" y="12626"/>
                </a:cubicBezTo>
                <a:cubicBezTo>
                  <a:pt x="13050" y="12626"/>
                  <a:pt x="12707" y="12704"/>
                  <a:pt x="12874" y="12898"/>
                </a:cubicBezTo>
                <a:cubicBezTo>
                  <a:pt x="12915" y="12915"/>
                  <a:pt x="12957" y="12931"/>
                  <a:pt x="12998" y="12948"/>
                </a:cubicBezTo>
              </a:path>
              <a:path w="1812" h="671">
                <a:moveTo>
                  <a:pt x="13717" y="12675"/>
                </a:moveTo>
                <a:cubicBezTo>
                  <a:pt x="13459" y="12590"/>
                  <a:pt x="13409" y="12630"/>
                  <a:pt x="13320" y="12874"/>
                </a:cubicBezTo>
                <a:cubicBezTo>
                  <a:pt x="13510" y="12995"/>
                  <a:pt x="13688" y="12932"/>
                  <a:pt x="13692" y="12650"/>
                </a:cubicBezTo>
                <a:cubicBezTo>
                  <a:pt x="13650" y="12458"/>
                  <a:pt x="13645" y="12413"/>
                  <a:pt x="13593" y="12303"/>
                </a:cubicBezTo>
                <a:cubicBezTo>
                  <a:pt x="13635" y="12493"/>
                  <a:pt x="13688" y="12685"/>
                  <a:pt x="13742" y="1287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133960" y="4438800"/>
            <a:ext cx="304920" cy="249120"/>
          </a:xfrm>
          <a:custGeom>
            <a:avLst/>
            <a:gdLst/>
            <a:ahLst/>
            <a:rect l="l" t="t" r="r" b="b"/>
            <a:pathLst>
              <a:path w="844" h="695">
                <a:moveTo>
                  <a:pt x="14511" y="12328"/>
                </a:moveTo>
                <a:cubicBezTo>
                  <a:pt x="14527" y="12556"/>
                  <a:pt x="14578" y="12773"/>
                  <a:pt x="14610" y="12998"/>
                </a:cubicBezTo>
              </a:path>
              <a:path w="844" h="695">
                <a:moveTo>
                  <a:pt x="14263" y="12650"/>
                </a:moveTo>
                <a:cubicBezTo>
                  <a:pt x="14463" y="12664"/>
                  <a:pt x="14655" y="12656"/>
                  <a:pt x="14858" y="12650"/>
                </a:cubicBezTo>
                <a:cubicBezTo>
                  <a:pt x="14798" y="12781"/>
                  <a:pt x="14601" y="13136"/>
                  <a:pt x="14957" y="13022"/>
                </a:cubicBezTo>
                <a:cubicBezTo>
                  <a:pt x="15261" y="12925"/>
                  <a:pt x="15070" y="12788"/>
                  <a:pt x="14957" y="1267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643720" y="4402080"/>
            <a:ext cx="1233360" cy="492120"/>
          </a:xfrm>
          <a:custGeom>
            <a:avLst/>
            <a:gdLst/>
            <a:ahLst/>
            <a:rect l="l" t="t" r="r" b="b"/>
            <a:pathLst>
              <a:path w="3424" h="1365">
                <a:moveTo>
                  <a:pt x="15677" y="12526"/>
                </a:moveTo>
                <a:cubicBezTo>
                  <a:pt x="15692" y="12654"/>
                  <a:pt x="15701" y="12769"/>
                  <a:pt x="15701" y="12898"/>
                </a:cubicBezTo>
                <a:cubicBezTo>
                  <a:pt x="15694" y="12829"/>
                  <a:pt x="15677" y="12422"/>
                  <a:pt x="15875" y="12551"/>
                </a:cubicBezTo>
                <a:cubicBezTo>
                  <a:pt x="15960" y="12607"/>
                  <a:pt x="16112" y="12899"/>
                  <a:pt x="15974" y="12898"/>
                </a:cubicBezTo>
                <a:cubicBezTo>
                  <a:pt x="15983" y="12745"/>
                  <a:pt x="16141" y="12423"/>
                  <a:pt x="16321" y="12700"/>
                </a:cubicBezTo>
                <a:cubicBezTo>
                  <a:pt x="16343" y="12832"/>
                  <a:pt x="16351" y="12864"/>
                  <a:pt x="16346" y="12948"/>
                </a:cubicBezTo>
              </a:path>
              <a:path w="3424" h="1365">
                <a:moveTo>
                  <a:pt x="16520" y="12576"/>
                </a:moveTo>
                <a:cubicBezTo>
                  <a:pt x="16503" y="12677"/>
                  <a:pt x="16429" y="12992"/>
                  <a:pt x="16644" y="12923"/>
                </a:cubicBezTo>
                <a:cubicBezTo>
                  <a:pt x="16755" y="12840"/>
                  <a:pt x="16794" y="12803"/>
                  <a:pt x="16818" y="12700"/>
                </a:cubicBezTo>
                <a:cubicBezTo>
                  <a:pt x="16880" y="12570"/>
                  <a:pt x="16898" y="12841"/>
                  <a:pt x="17041" y="12849"/>
                </a:cubicBezTo>
              </a:path>
              <a:path w="3424" h="1365">
                <a:moveTo>
                  <a:pt x="17140" y="12254"/>
                </a:moveTo>
                <a:cubicBezTo>
                  <a:pt x="17181" y="12457"/>
                  <a:pt x="17202" y="12666"/>
                  <a:pt x="17214" y="12874"/>
                </a:cubicBezTo>
              </a:path>
              <a:path w="3424" h="1365">
                <a:moveTo>
                  <a:pt x="17537" y="12229"/>
                </a:moveTo>
                <a:cubicBezTo>
                  <a:pt x="17543" y="12474"/>
                  <a:pt x="17529" y="12715"/>
                  <a:pt x="17611" y="12948"/>
                </a:cubicBezTo>
              </a:path>
              <a:path w="3424" h="1365">
                <a:moveTo>
                  <a:pt x="17413" y="12526"/>
                </a:moveTo>
                <a:cubicBezTo>
                  <a:pt x="17663" y="12556"/>
                  <a:pt x="17918" y="12509"/>
                  <a:pt x="17909" y="12824"/>
                </a:cubicBezTo>
                <a:cubicBezTo>
                  <a:pt x="17901" y="12849"/>
                  <a:pt x="17892" y="12873"/>
                  <a:pt x="17884" y="12898"/>
                </a:cubicBezTo>
              </a:path>
              <a:path w="3424" h="1365">
                <a:moveTo>
                  <a:pt x="17859" y="12378"/>
                </a:moveTo>
                <a:lnTo>
                  <a:pt x="17859" y="12378"/>
                </a:lnTo>
              </a:path>
              <a:path w="3424" h="1365">
                <a:moveTo>
                  <a:pt x="18281" y="12898"/>
                </a:moveTo>
                <a:cubicBezTo>
                  <a:pt x="18316" y="13065"/>
                  <a:pt x="18342" y="13152"/>
                  <a:pt x="18306" y="13320"/>
                </a:cubicBezTo>
                <a:cubicBezTo>
                  <a:pt x="18121" y="13217"/>
                  <a:pt x="18120" y="12925"/>
                  <a:pt x="18207" y="12725"/>
                </a:cubicBezTo>
                <a:cubicBezTo>
                  <a:pt x="18317" y="12593"/>
                  <a:pt x="18336" y="12539"/>
                  <a:pt x="18455" y="12601"/>
                </a:cubicBezTo>
                <a:cubicBezTo>
                  <a:pt x="18489" y="12897"/>
                  <a:pt x="18455" y="12938"/>
                  <a:pt x="18157" y="12874"/>
                </a:cubicBezTo>
              </a:path>
              <a:path w="3424" h="1365">
                <a:moveTo>
                  <a:pt x="18604" y="12477"/>
                </a:moveTo>
                <a:cubicBezTo>
                  <a:pt x="18609" y="12674"/>
                  <a:pt x="18591" y="12787"/>
                  <a:pt x="18678" y="12948"/>
                </a:cubicBezTo>
              </a:path>
              <a:path w="3424" h="1365">
                <a:moveTo>
                  <a:pt x="18926" y="12700"/>
                </a:moveTo>
                <a:cubicBezTo>
                  <a:pt x="18916" y="12745"/>
                  <a:pt x="18877" y="13158"/>
                  <a:pt x="19050" y="12923"/>
                </a:cubicBezTo>
                <a:cubicBezTo>
                  <a:pt x="19067" y="12882"/>
                  <a:pt x="19083" y="12840"/>
                  <a:pt x="19100" y="12799"/>
                </a:cubicBezTo>
                <a:cubicBezTo>
                  <a:pt x="19100" y="13115"/>
                  <a:pt x="19145" y="13344"/>
                  <a:pt x="18951" y="1359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027920" y="4429080"/>
            <a:ext cx="482400" cy="268200"/>
          </a:xfrm>
          <a:custGeom>
            <a:avLst/>
            <a:gdLst/>
            <a:ahLst/>
            <a:rect l="l" t="t" r="r" b="b"/>
            <a:pathLst>
              <a:path w="1341" h="745">
                <a:moveTo>
                  <a:pt x="19695" y="12700"/>
                </a:moveTo>
                <a:cubicBezTo>
                  <a:pt x="19695" y="12589"/>
                  <a:pt x="19679" y="12487"/>
                  <a:pt x="19670" y="12378"/>
                </a:cubicBezTo>
                <a:cubicBezTo>
                  <a:pt x="19670" y="12353"/>
                  <a:pt x="19670" y="12328"/>
                  <a:pt x="19670" y="12303"/>
                </a:cubicBezTo>
                <a:cubicBezTo>
                  <a:pt x="19697" y="12519"/>
                  <a:pt x="19722" y="12749"/>
                  <a:pt x="19745" y="12973"/>
                </a:cubicBezTo>
              </a:path>
              <a:path w="1341" h="745">
                <a:moveTo>
                  <a:pt x="19521" y="12601"/>
                </a:moveTo>
                <a:cubicBezTo>
                  <a:pt x="19707" y="12674"/>
                  <a:pt x="20116" y="12866"/>
                  <a:pt x="20216" y="12551"/>
                </a:cubicBezTo>
                <a:cubicBezTo>
                  <a:pt x="20208" y="12501"/>
                  <a:pt x="20199" y="12452"/>
                  <a:pt x="20191" y="12402"/>
                </a:cubicBezTo>
                <a:cubicBezTo>
                  <a:pt x="20025" y="12293"/>
                  <a:pt x="20196" y="12832"/>
                  <a:pt x="20216" y="12923"/>
                </a:cubicBezTo>
                <a:cubicBezTo>
                  <a:pt x="20224" y="12948"/>
                  <a:pt x="20233" y="12973"/>
                  <a:pt x="20241" y="12998"/>
                </a:cubicBezTo>
                <a:cubicBezTo>
                  <a:pt x="20241" y="12909"/>
                  <a:pt x="20217" y="12573"/>
                  <a:pt x="20389" y="12750"/>
                </a:cubicBezTo>
                <a:cubicBezTo>
                  <a:pt x="20456" y="12882"/>
                  <a:pt x="20473" y="12915"/>
                  <a:pt x="20513" y="12998"/>
                </a:cubicBezTo>
              </a:path>
              <a:path w="1341" h="745">
                <a:moveTo>
                  <a:pt x="20662" y="12799"/>
                </a:moveTo>
                <a:cubicBezTo>
                  <a:pt x="20782" y="12743"/>
                  <a:pt x="20812" y="12757"/>
                  <a:pt x="20811" y="12626"/>
                </a:cubicBezTo>
                <a:cubicBezTo>
                  <a:pt x="20636" y="12636"/>
                  <a:pt x="20398" y="12833"/>
                  <a:pt x="20662" y="12998"/>
                </a:cubicBezTo>
                <a:cubicBezTo>
                  <a:pt x="20728" y="13014"/>
                  <a:pt x="20795" y="13031"/>
                  <a:pt x="20861" y="1304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57160" y="4875120"/>
            <a:ext cx="696960" cy="250920"/>
          </a:xfrm>
          <a:custGeom>
            <a:avLst/>
            <a:gdLst/>
            <a:ahLst/>
            <a:rect l="l" t="t" r="r" b="b"/>
            <a:pathLst>
              <a:path w="1936" h="696">
                <a:moveTo>
                  <a:pt x="2629" y="13543"/>
                </a:moveTo>
                <a:cubicBezTo>
                  <a:pt x="2695" y="13766"/>
                  <a:pt x="2762" y="13990"/>
                  <a:pt x="2828" y="14213"/>
                </a:cubicBezTo>
              </a:path>
              <a:path w="1936" h="696">
                <a:moveTo>
                  <a:pt x="2381" y="13915"/>
                </a:moveTo>
                <a:cubicBezTo>
                  <a:pt x="2588" y="13879"/>
                  <a:pt x="2794" y="13849"/>
                  <a:pt x="3001" y="13816"/>
                </a:cubicBezTo>
                <a:cubicBezTo>
                  <a:pt x="3019" y="13925"/>
                  <a:pt x="3002" y="14294"/>
                  <a:pt x="3200" y="14238"/>
                </a:cubicBezTo>
                <a:cubicBezTo>
                  <a:pt x="3497" y="14155"/>
                  <a:pt x="3412" y="14015"/>
                  <a:pt x="3249" y="13891"/>
                </a:cubicBezTo>
              </a:path>
              <a:path w="1936" h="696">
                <a:moveTo>
                  <a:pt x="3671" y="13990"/>
                </a:moveTo>
                <a:cubicBezTo>
                  <a:pt x="3731" y="13911"/>
                  <a:pt x="3756" y="13902"/>
                  <a:pt x="3746" y="13841"/>
                </a:cubicBezTo>
                <a:cubicBezTo>
                  <a:pt x="3726" y="13878"/>
                  <a:pt x="3490" y="14319"/>
                  <a:pt x="3770" y="14188"/>
                </a:cubicBezTo>
                <a:cubicBezTo>
                  <a:pt x="3828" y="14147"/>
                  <a:pt x="3886" y="14105"/>
                  <a:pt x="3944" y="14064"/>
                </a:cubicBezTo>
              </a:path>
              <a:path w="1936" h="696">
                <a:moveTo>
                  <a:pt x="4142" y="13767"/>
                </a:moveTo>
                <a:cubicBezTo>
                  <a:pt x="4077" y="13810"/>
                  <a:pt x="4057" y="13816"/>
                  <a:pt x="4043" y="13866"/>
                </a:cubicBezTo>
                <a:cubicBezTo>
                  <a:pt x="4130" y="13964"/>
                  <a:pt x="4242" y="14003"/>
                  <a:pt x="4316" y="14114"/>
                </a:cubicBezTo>
                <a:cubicBezTo>
                  <a:pt x="4160" y="14221"/>
                  <a:pt x="4108" y="14221"/>
                  <a:pt x="3919" y="142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874880" y="4911840"/>
            <a:ext cx="331920" cy="366480"/>
          </a:xfrm>
          <a:custGeom>
            <a:avLst/>
            <a:gdLst/>
            <a:ahLst/>
            <a:rect l="l" t="t" r="r" b="b"/>
            <a:pathLst>
              <a:path w="919" h="1018">
                <a:moveTo>
                  <a:pt x="5209" y="13643"/>
                </a:moveTo>
                <a:cubicBezTo>
                  <a:pt x="5232" y="13868"/>
                  <a:pt x="5234" y="13928"/>
                  <a:pt x="5283" y="14064"/>
                </a:cubicBezTo>
                <a:cubicBezTo>
                  <a:pt x="5283" y="14161"/>
                  <a:pt x="5226" y="13732"/>
                  <a:pt x="5407" y="13717"/>
                </a:cubicBezTo>
                <a:cubicBezTo>
                  <a:pt x="5650" y="13697"/>
                  <a:pt x="5628" y="14152"/>
                  <a:pt x="5358" y="14163"/>
                </a:cubicBezTo>
                <a:cubicBezTo>
                  <a:pt x="5308" y="14147"/>
                  <a:pt x="5259" y="14130"/>
                  <a:pt x="5209" y="14114"/>
                </a:cubicBezTo>
              </a:path>
              <a:path w="919" h="1018">
                <a:moveTo>
                  <a:pt x="5730" y="13891"/>
                </a:moveTo>
                <a:cubicBezTo>
                  <a:pt x="5757" y="13980"/>
                  <a:pt x="5903" y="14383"/>
                  <a:pt x="6052" y="14114"/>
                </a:cubicBezTo>
                <a:cubicBezTo>
                  <a:pt x="6074" y="13981"/>
                  <a:pt x="6087" y="13947"/>
                  <a:pt x="6052" y="13866"/>
                </a:cubicBezTo>
                <a:cubicBezTo>
                  <a:pt x="6101" y="14108"/>
                  <a:pt x="6220" y="14319"/>
                  <a:pt x="6028" y="14536"/>
                </a:cubicBezTo>
                <a:cubicBezTo>
                  <a:pt x="5844" y="14667"/>
                  <a:pt x="5775" y="14707"/>
                  <a:pt x="5606" y="146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473200" y="4867200"/>
            <a:ext cx="206640" cy="231840"/>
          </a:xfrm>
          <a:custGeom>
            <a:avLst/>
            <a:gdLst/>
            <a:ahLst/>
            <a:rect l="l" t="t" r="r" b="b"/>
            <a:pathLst>
              <a:path w="571" h="645">
                <a:moveTo>
                  <a:pt x="6871" y="13667"/>
                </a:moveTo>
                <a:cubicBezTo>
                  <a:pt x="6965" y="13574"/>
                  <a:pt x="7040" y="13555"/>
                  <a:pt x="7169" y="13519"/>
                </a:cubicBezTo>
                <a:cubicBezTo>
                  <a:pt x="7326" y="13771"/>
                  <a:pt x="7124" y="13883"/>
                  <a:pt x="6945" y="14114"/>
                </a:cubicBezTo>
                <a:cubicBezTo>
                  <a:pt x="6937" y="14130"/>
                  <a:pt x="6929" y="14147"/>
                  <a:pt x="6921" y="14163"/>
                </a:cubicBezTo>
                <a:cubicBezTo>
                  <a:pt x="7100" y="14128"/>
                  <a:pt x="7270" y="14106"/>
                  <a:pt x="7441" y="1403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919240" y="4884840"/>
            <a:ext cx="295560" cy="223560"/>
          </a:xfrm>
          <a:custGeom>
            <a:avLst/>
            <a:gdLst/>
            <a:ahLst/>
            <a:rect l="l" t="t" r="r" b="b"/>
            <a:pathLst>
              <a:path w="820" h="621">
                <a:moveTo>
                  <a:pt x="8409" y="14039"/>
                </a:moveTo>
                <a:lnTo>
                  <a:pt x="8409" y="14039"/>
                </a:lnTo>
              </a:path>
              <a:path w="820" h="621">
                <a:moveTo>
                  <a:pt x="8334" y="13568"/>
                </a:moveTo>
                <a:cubicBezTo>
                  <a:pt x="8334" y="13753"/>
                  <a:pt x="8389" y="13930"/>
                  <a:pt x="8409" y="14114"/>
                </a:cubicBezTo>
                <a:cubicBezTo>
                  <a:pt x="8409" y="14139"/>
                  <a:pt x="8409" y="14163"/>
                  <a:pt x="8409" y="14188"/>
                </a:cubicBezTo>
              </a:path>
              <a:path w="820" h="621">
                <a:moveTo>
                  <a:pt x="8111" y="13816"/>
                </a:moveTo>
                <a:cubicBezTo>
                  <a:pt x="8324" y="13831"/>
                  <a:pt x="8517" y="13816"/>
                  <a:pt x="8731" y="13791"/>
                </a:cubicBezTo>
                <a:cubicBezTo>
                  <a:pt x="8718" y="13843"/>
                  <a:pt x="8542" y="14139"/>
                  <a:pt x="8706" y="14139"/>
                </a:cubicBezTo>
                <a:cubicBezTo>
                  <a:pt x="9058" y="14139"/>
                  <a:pt x="8889" y="13905"/>
                  <a:pt x="8706" y="1384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510000" y="4795920"/>
            <a:ext cx="606240" cy="303120"/>
          </a:xfrm>
          <a:custGeom>
            <a:avLst/>
            <a:gdLst/>
            <a:ahLst/>
            <a:rect l="l" t="t" r="r" b="b"/>
            <a:pathLst>
              <a:path w="1688" h="844">
                <a:moveTo>
                  <a:pt x="10120" y="13395"/>
                </a:moveTo>
                <a:cubicBezTo>
                  <a:pt x="9932" y="13312"/>
                  <a:pt x="9760" y="13291"/>
                  <a:pt x="9823" y="13593"/>
                </a:cubicBezTo>
                <a:cubicBezTo>
                  <a:pt x="9857" y="13758"/>
                  <a:pt x="10058" y="13917"/>
                  <a:pt x="10021" y="14064"/>
                </a:cubicBezTo>
              </a:path>
              <a:path w="1688" h="844">
                <a:moveTo>
                  <a:pt x="9748" y="13816"/>
                </a:moveTo>
                <a:cubicBezTo>
                  <a:pt x="9917" y="13816"/>
                  <a:pt x="10263" y="13741"/>
                  <a:pt x="10368" y="13915"/>
                </a:cubicBezTo>
                <a:cubicBezTo>
                  <a:pt x="10391" y="14030"/>
                  <a:pt x="10400" y="14063"/>
                  <a:pt x="10393" y="14139"/>
                </a:cubicBezTo>
              </a:path>
              <a:path w="1688" h="844">
                <a:moveTo>
                  <a:pt x="10319" y="13692"/>
                </a:moveTo>
                <a:cubicBezTo>
                  <a:pt x="10500" y="13815"/>
                  <a:pt x="10571" y="13928"/>
                  <a:pt x="10691" y="14114"/>
                </a:cubicBezTo>
                <a:cubicBezTo>
                  <a:pt x="10653" y="13948"/>
                  <a:pt x="10679" y="13916"/>
                  <a:pt x="10740" y="13767"/>
                </a:cubicBezTo>
                <a:cubicBezTo>
                  <a:pt x="10907" y="13860"/>
                  <a:pt x="10909" y="13899"/>
                  <a:pt x="10964" y="14089"/>
                </a:cubicBezTo>
              </a:path>
              <a:path w="1688" h="844">
                <a:moveTo>
                  <a:pt x="11311" y="13742"/>
                </a:moveTo>
                <a:cubicBezTo>
                  <a:pt x="11044" y="13741"/>
                  <a:pt x="10991" y="13841"/>
                  <a:pt x="10939" y="14089"/>
                </a:cubicBezTo>
                <a:cubicBezTo>
                  <a:pt x="11219" y="14161"/>
                  <a:pt x="11439" y="14100"/>
                  <a:pt x="11361" y="13717"/>
                </a:cubicBezTo>
                <a:cubicBezTo>
                  <a:pt x="11344" y="13635"/>
                  <a:pt x="11243" y="13444"/>
                  <a:pt x="11212" y="13444"/>
                </a:cubicBezTo>
                <a:cubicBezTo>
                  <a:pt x="11308" y="13658"/>
                  <a:pt x="11380" y="13837"/>
                  <a:pt x="11435" y="1406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340160" y="4848120"/>
            <a:ext cx="561960" cy="277920"/>
          </a:xfrm>
          <a:custGeom>
            <a:avLst/>
            <a:gdLst/>
            <a:ahLst/>
            <a:rect l="l" t="t" r="r" b="b"/>
            <a:pathLst>
              <a:path w="1564" h="770">
                <a:moveTo>
                  <a:pt x="12154" y="13891"/>
                </a:moveTo>
                <a:cubicBezTo>
                  <a:pt x="12140" y="13823"/>
                  <a:pt x="12117" y="13787"/>
                  <a:pt x="12105" y="13717"/>
                </a:cubicBezTo>
                <a:cubicBezTo>
                  <a:pt x="12080" y="13593"/>
                  <a:pt x="12072" y="13552"/>
                  <a:pt x="12055" y="13469"/>
                </a:cubicBezTo>
                <a:cubicBezTo>
                  <a:pt x="12094" y="13725"/>
                  <a:pt x="12140" y="13979"/>
                  <a:pt x="12154" y="14238"/>
                </a:cubicBezTo>
                <a:cubicBezTo>
                  <a:pt x="12150" y="14140"/>
                  <a:pt x="12152" y="13686"/>
                  <a:pt x="12378" y="13767"/>
                </a:cubicBezTo>
                <a:cubicBezTo>
                  <a:pt x="12529" y="13821"/>
                  <a:pt x="12267" y="14199"/>
                  <a:pt x="12427" y="14213"/>
                </a:cubicBezTo>
                <a:cubicBezTo>
                  <a:pt x="12506" y="14220"/>
                  <a:pt x="12778" y="13844"/>
                  <a:pt x="12725" y="13791"/>
                </a:cubicBezTo>
                <a:cubicBezTo>
                  <a:pt x="12692" y="13799"/>
                  <a:pt x="12659" y="13808"/>
                  <a:pt x="12626" y="13816"/>
                </a:cubicBezTo>
                <a:cubicBezTo>
                  <a:pt x="12568" y="14016"/>
                  <a:pt x="12552" y="14010"/>
                  <a:pt x="12675" y="14163"/>
                </a:cubicBezTo>
                <a:cubicBezTo>
                  <a:pt x="12857" y="14030"/>
                  <a:pt x="12900" y="13965"/>
                  <a:pt x="12725" y="13816"/>
                </a:cubicBezTo>
              </a:path>
              <a:path w="1564" h="770">
                <a:moveTo>
                  <a:pt x="12998" y="13767"/>
                </a:moveTo>
                <a:cubicBezTo>
                  <a:pt x="13003" y="13857"/>
                  <a:pt x="12980" y="14229"/>
                  <a:pt x="13171" y="14139"/>
                </a:cubicBezTo>
                <a:cubicBezTo>
                  <a:pt x="13269" y="14041"/>
                  <a:pt x="13301" y="14010"/>
                  <a:pt x="13320" y="13915"/>
                </a:cubicBezTo>
                <a:cubicBezTo>
                  <a:pt x="13302" y="13826"/>
                  <a:pt x="13309" y="14029"/>
                  <a:pt x="13469" y="14114"/>
                </a:cubicBezTo>
                <a:cubicBezTo>
                  <a:pt x="13641" y="13978"/>
                  <a:pt x="13636" y="13935"/>
                  <a:pt x="13494" y="1376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143680" y="4938840"/>
            <a:ext cx="830160" cy="357120"/>
          </a:xfrm>
          <a:custGeom>
            <a:avLst/>
            <a:gdLst/>
            <a:ahLst/>
            <a:rect l="l" t="t" r="r" b="b"/>
            <a:pathLst>
              <a:path w="2307" h="993">
                <a:moveTo>
                  <a:pt x="14288" y="13891"/>
                </a:moveTo>
                <a:cubicBezTo>
                  <a:pt x="14288" y="14019"/>
                  <a:pt x="14294" y="14138"/>
                  <a:pt x="14312" y="14263"/>
                </a:cubicBezTo>
                <a:cubicBezTo>
                  <a:pt x="14315" y="14232"/>
                  <a:pt x="14317" y="13752"/>
                  <a:pt x="14486" y="13816"/>
                </a:cubicBezTo>
                <a:cubicBezTo>
                  <a:pt x="14599" y="13859"/>
                  <a:pt x="14619" y="14046"/>
                  <a:pt x="14635" y="14139"/>
                </a:cubicBezTo>
                <a:cubicBezTo>
                  <a:pt x="14603" y="14044"/>
                  <a:pt x="14590" y="13696"/>
                  <a:pt x="14808" y="13841"/>
                </a:cubicBezTo>
                <a:cubicBezTo>
                  <a:pt x="14939" y="13928"/>
                  <a:pt x="14922" y="14054"/>
                  <a:pt x="14932" y="14188"/>
                </a:cubicBezTo>
              </a:path>
              <a:path w="2307" h="993">
                <a:moveTo>
                  <a:pt x="15304" y="13767"/>
                </a:moveTo>
                <a:cubicBezTo>
                  <a:pt x="15220" y="13806"/>
                  <a:pt x="14856" y="14039"/>
                  <a:pt x="15081" y="14163"/>
                </a:cubicBezTo>
                <a:cubicBezTo>
                  <a:pt x="15256" y="14260"/>
                  <a:pt x="15313" y="14005"/>
                  <a:pt x="15354" y="13915"/>
                </a:cubicBezTo>
                <a:cubicBezTo>
                  <a:pt x="15354" y="13899"/>
                  <a:pt x="15354" y="13882"/>
                  <a:pt x="15354" y="13866"/>
                </a:cubicBezTo>
                <a:cubicBezTo>
                  <a:pt x="15368" y="13950"/>
                  <a:pt x="15394" y="14182"/>
                  <a:pt x="15503" y="14039"/>
                </a:cubicBezTo>
                <a:cubicBezTo>
                  <a:pt x="15606" y="13904"/>
                  <a:pt x="15627" y="13789"/>
                  <a:pt x="15627" y="14015"/>
                </a:cubicBezTo>
                <a:cubicBezTo>
                  <a:pt x="15598" y="13872"/>
                  <a:pt x="15641" y="13548"/>
                  <a:pt x="15850" y="13816"/>
                </a:cubicBezTo>
                <a:cubicBezTo>
                  <a:pt x="15938" y="13993"/>
                  <a:pt x="15971" y="14034"/>
                  <a:pt x="15949" y="14163"/>
                </a:cubicBezTo>
              </a:path>
              <a:path w="2307" h="993">
                <a:moveTo>
                  <a:pt x="16346" y="13791"/>
                </a:moveTo>
                <a:cubicBezTo>
                  <a:pt x="16343" y="13825"/>
                  <a:pt x="16257" y="14157"/>
                  <a:pt x="16371" y="14163"/>
                </a:cubicBezTo>
                <a:cubicBezTo>
                  <a:pt x="16495" y="14169"/>
                  <a:pt x="16506" y="13926"/>
                  <a:pt x="16520" y="13866"/>
                </a:cubicBezTo>
                <a:cubicBezTo>
                  <a:pt x="16528" y="13841"/>
                  <a:pt x="16537" y="13816"/>
                  <a:pt x="16545" y="13791"/>
                </a:cubicBezTo>
                <a:cubicBezTo>
                  <a:pt x="16568" y="13996"/>
                  <a:pt x="16643" y="14229"/>
                  <a:pt x="16570" y="14436"/>
                </a:cubicBezTo>
                <a:cubicBezTo>
                  <a:pt x="16466" y="14730"/>
                  <a:pt x="16215" y="14686"/>
                  <a:pt x="15974" y="1470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205680" y="4991040"/>
            <a:ext cx="385560" cy="376200"/>
          </a:xfrm>
          <a:custGeom>
            <a:avLst/>
            <a:gdLst/>
            <a:ahLst/>
            <a:rect l="l" t="t" r="r" b="b"/>
            <a:pathLst>
              <a:path w="1068" h="1043">
                <a:moveTo>
                  <a:pt x="17785" y="14139"/>
                </a:moveTo>
                <a:cubicBezTo>
                  <a:pt x="17805" y="14067"/>
                  <a:pt x="17790" y="13915"/>
                  <a:pt x="17661" y="13915"/>
                </a:cubicBezTo>
                <a:cubicBezTo>
                  <a:pt x="17518" y="13972"/>
                  <a:pt x="17464" y="14005"/>
                  <a:pt x="17413" y="14114"/>
                </a:cubicBezTo>
                <a:cubicBezTo>
                  <a:pt x="17522" y="14294"/>
                  <a:pt x="17675" y="14277"/>
                  <a:pt x="17785" y="14039"/>
                </a:cubicBezTo>
                <a:cubicBezTo>
                  <a:pt x="17785" y="13990"/>
                  <a:pt x="17785" y="13974"/>
                  <a:pt x="17785" y="14039"/>
                </a:cubicBezTo>
                <a:cubicBezTo>
                  <a:pt x="17822" y="14250"/>
                  <a:pt x="18052" y="14786"/>
                  <a:pt x="17760" y="14908"/>
                </a:cubicBezTo>
                <a:cubicBezTo>
                  <a:pt x="17511" y="15012"/>
                  <a:pt x="17363" y="14828"/>
                  <a:pt x="17239" y="14684"/>
                </a:cubicBezTo>
              </a:path>
              <a:path w="1068" h="1043">
                <a:moveTo>
                  <a:pt x="18182" y="13866"/>
                </a:moveTo>
                <a:cubicBezTo>
                  <a:pt x="18021" y="14026"/>
                  <a:pt x="18024" y="14051"/>
                  <a:pt x="18033" y="14288"/>
                </a:cubicBezTo>
                <a:cubicBezTo>
                  <a:pt x="18179" y="14279"/>
                  <a:pt x="18448" y="14153"/>
                  <a:pt x="18207" y="13990"/>
                </a:cubicBezTo>
                <a:cubicBezTo>
                  <a:pt x="18157" y="13973"/>
                  <a:pt x="18108" y="13957"/>
                  <a:pt x="18058" y="1394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796080" y="4875120"/>
            <a:ext cx="650880" cy="241560"/>
          </a:xfrm>
          <a:custGeom>
            <a:avLst/>
            <a:gdLst/>
            <a:ahLst/>
            <a:rect l="l" t="t" r="r" b="b"/>
            <a:pathLst>
              <a:path w="1812" h="671">
                <a:moveTo>
                  <a:pt x="18901" y="13891"/>
                </a:moveTo>
                <a:cubicBezTo>
                  <a:pt x="18882" y="13965"/>
                  <a:pt x="18843" y="14258"/>
                  <a:pt x="19025" y="14213"/>
                </a:cubicBezTo>
                <a:cubicBezTo>
                  <a:pt x="19176" y="14176"/>
                  <a:pt x="19162" y="14026"/>
                  <a:pt x="19174" y="13915"/>
                </a:cubicBezTo>
                <a:cubicBezTo>
                  <a:pt x="19153" y="14062"/>
                  <a:pt x="19199" y="14258"/>
                  <a:pt x="19422" y="14163"/>
                </a:cubicBezTo>
                <a:cubicBezTo>
                  <a:pt x="19708" y="14040"/>
                  <a:pt x="19454" y="13860"/>
                  <a:pt x="19323" y="13791"/>
                </a:cubicBezTo>
              </a:path>
              <a:path w="1812" h="671">
                <a:moveTo>
                  <a:pt x="19670" y="13990"/>
                </a:moveTo>
                <a:cubicBezTo>
                  <a:pt x="19687" y="14040"/>
                  <a:pt x="19703" y="14089"/>
                  <a:pt x="19720" y="14139"/>
                </a:cubicBezTo>
              </a:path>
              <a:path w="1812" h="671">
                <a:moveTo>
                  <a:pt x="19621" y="13618"/>
                </a:moveTo>
                <a:lnTo>
                  <a:pt x="19621" y="13618"/>
                </a:lnTo>
              </a:path>
              <a:path w="1812" h="671">
                <a:moveTo>
                  <a:pt x="19968" y="13543"/>
                </a:moveTo>
                <a:cubicBezTo>
                  <a:pt x="19975" y="13751"/>
                  <a:pt x="20000" y="13956"/>
                  <a:pt x="20017" y="14163"/>
                </a:cubicBezTo>
              </a:path>
              <a:path w="1812" h="671">
                <a:moveTo>
                  <a:pt x="19621" y="13866"/>
                </a:moveTo>
                <a:cubicBezTo>
                  <a:pt x="19802" y="13953"/>
                  <a:pt x="20154" y="14121"/>
                  <a:pt x="20265" y="13816"/>
                </a:cubicBezTo>
                <a:cubicBezTo>
                  <a:pt x="20265" y="13758"/>
                  <a:pt x="20265" y="13701"/>
                  <a:pt x="20265" y="13643"/>
                </a:cubicBezTo>
                <a:cubicBezTo>
                  <a:pt x="20178" y="13523"/>
                  <a:pt x="20287" y="14031"/>
                  <a:pt x="20290" y="14064"/>
                </a:cubicBezTo>
                <a:cubicBezTo>
                  <a:pt x="20290" y="14089"/>
                  <a:pt x="20290" y="14114"/>
                  <a:pt x="20290" y="14139"/>
                </a:cubicBezTo>
                <a:cubicBezTo>
                  <a:pt x="20337" y="14014"/>
                  <a:pt x="20460" y="13620"/>
                  <a:pt x="20613" y="13915"/>
                </a:cubicBezTo>
                <a:cubicBezTo>
                  <a:pt x="20655" y="14064"/>
                  <a:pt x="20665" y="14096"/>
                  <a:pt x="20687" y="141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634160" y="4857840"/>
            <a:ext cx="36720" cy="250560"/>
          </a:xfrm>
          <a:custGeom>
            <a:avLst/>
            <a:gdLst/>
            <a:ahLst/>
            <a:rect l="l" t="t" r="r" b="b"/>
            <a:pathLst>
              <a:path w="100" h="695">
                <a:moveTo>
                  <a:pt x="21208" y="13494"/>
                </a:moveTo>
                <a:cubicBezTo>
                  <a:pt x="21267" y="13722"/>
                  <a:pt x="21291" y="13950"/>
                  <a:pt x="21307" y="141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108080" y="5232240"/>
            <a:ext cx="892080" cy="285840"/>
          </a:xfrm>
          <a:custGeom>
            <a:avLst/>
            <a:gdLst/>
            <a:ahLst/>
            <a:rect l="l" t="t" r="r" b="b"/>
            <a:pathLst>
              <a:path w="2481" h="794">
                <a:moveTo>
                  <a:pt x="4713" y="15205"/>
                </a:moveTo>
                <a:lnTo>
                  <a:pt x="4713" y="15205"/>
                </a:lnTo>
              </a:path>
              <a:path w="2481" h="794">
                <a:moveTo>
                  <a:pt x="3497" y="14833"/>
                </a:moveTo>
                <a:cubicBezTo>
                  <a:pt x="3412" y="14826"/>
                  <a:pt x="3320" y="14819"/>
                  <a:pt x="3249" y="14784"/>
                </a:cubicBezTo>
                <a:cubicBezTo>
                  <a:pt x="3178" y="14749"/>
                  <a:pt x="3132" y="14715"/>
                  <a:pt x="3076" y="14660"/>
                </a:cubicBezTo>
                <a:cubicBezTo>
                  <a:pt x="3119" y="14854"/>
                  <a:pt x="3180" y="15117"/>
                  <a:pt x="3249" y="15304"/>
                </a:cubicBezTo>
                <a:cubicBezTo>
                  <a:pt x="3249" y="15288"/>
                  <a:pt x="3249" y="15271"/>
                  <a:pt x="3249" y="15255"/>
                </a:cubicBezTo>
                <a:cubicBezTo>
                  <a:pt x="3278" y="15037"/>
                  <a:pt x="3351" y="14852"/>
                  <a:pt x="3597" y="15056"/>
                </a:cubicBezTo>
                <a:cubicBezTo>
                  <a:pt x="3683" y="15127"/>
                  <a:pt x="3722" y="15233"/>
                  <a:pt x="3770" y="15329"/>
                </a:cubicBezTo>
              </a:path>
              <a:path w="2481" h="794">
                <a:moveTo>
                  <a:pt x="4018" y="15156"/>
                </a:moveTo>
                <a:cubicBezTo>
                  <a:pt x="4118" y="15136"/>
                  <a:pt x="4216" y="15158"/>
                  <a:pt x="4242" y="15081"/>
                </a:cubicBezTo>
                <a:cubicBezTo>
                  <a:pt x="4176" y="15008"/>
                  <a:pt x="3963" y="14828"/>
                  <a:pt x="3919" y="15056"/>
                </a:cubicBezTo>
                <a:cubicBezTo>
                  <a:pt x="3870" y="15315"/>
                  <a:pt x="4098" y="15274"/>
                  <a:pt x="4242" y="15280"/>
                </a:cubicBezTo>
              </a:path>
              <a:path w="2481" h="794">
                <a:moveTo>
                  <a:pt x="4787" y="15007"/>
                </a:moveTo>
                <a:cubicBezTo>
                  <a:pt x="4806" y="14911"/>
                  <a:pt x="4822" y="14942"/>
                  <a:pt x="4762" y="14883"/>
                </a:cubicBezTo>
                <a:cubicBezTo>
                  <a:pt x="4570" y="14928"/>
                  <a:pt x="4503" y="14967"/>
                  <a:pt x="4539" y="15180"/>
                </a:cubicBezTo>
                <a:cubicBezTo>
                  <a:pt x="4765" y="15180"/>
                  <a:pt x="4773" y="15137"/>
                  <a:pt x="4787" y="14908"/>
                </a:cubicBezTo>
                <a:cubicBezTo>
                  <a:pt x="4805" y="15034"/>
                  <a:pt x="4938" y="15100"/>
                  <a:pt x="5035" y="15180"/>
                </a:cubicBezTo>
              </a:path>
              <a:path w="2481" h="794">
                <a:moveTo>
                  <a:pt x="5482" y="14982"/>
                </a:moveTo>
                <a:cubicBezTo>
                  <a:pt x="5454" y="14871"/>
                  <a:pt x="5338" y="14782"/>
                  <a:pt x="5209" y="14858"/>
                </a:cubicBezTo>
                <a:cubicBezTo>
                  <a:pt x="5091" y="14976"/>
                  <a:pt x="5051" y="15010"/>
                  <a:pt x="5060" y="15131"/>
                </a:cubicBezTo>
                <a:cubicBezTo>
                  <a:pt x="5263" y="15232"/>
                  <a:pt x="5257" y="15184"/>
                  <a:pt x="5457" y="15056"/>
                </a:cubicBezTo>
              </a:path>
              <a:path w="2481" h="794">
                <a:moveTo>
                  <a:pt x="5259" y="14536"/>
                </a:moveTo>
                <a:cubicBezTo>
                  <a:pt x="5380" y="14749"/>
                  <a:pt x="5473" y="14949"/>
                  <a:pt x="5556" y="1518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170080" y="545616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6028" y="15156"/>
                </a:moveTo>
                <a:lnTo>
                  <a:pt x="6028" y="15156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46040" y="6510240"/>
            <a:ext cx="9720" cy="17640"/>
          </a:xfrm>
          <a:custGeom>
            <a:avLst/>
            <a:gdLst/>
            <a:ahLst/>
            <a:rect l="l" t="t" r="r" b="b"/>
            <a:pathLst>
              <a:path w="26" h="50">
                <a:moveTo>
                  <a:pt x="1240" y="18083"/>
                </a:moveTo>
                <a:cubicBezTo>
                  <a:pt x="1248" y="18099"/>
                  <a:pt x="1257" y="18116"/>
                  <a:pt x="1265" y="1813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901880" y="1554120"/>
            <a:ext cx="63360" cy="115920"/>
          </a:xfrm>
          <a:custGeom>
            <a:avLst/>
            <a:gdLst/>
            <a:ahLst/>
            <a:rect l="l" t="t" r="r" b="b"/>
            <a:pathLst>
              <a:path w="175" h="323">
                <a:moveTo>
                  <a:pt x="5283" y="4341"/>
                </a:moveTo>
                <a:cubicBezTo>
                  <a:pt x="5385" y="4425"/>
                  <a:pt x="5411" y="4466"/>
                  <a:pt x="5457" y="4589"/>
                </a:cubicBezTo>
              </a:path>
              <a:path w="175" h="323">
                <a:moveTo>
                  <a:pt x="5407" y="4316"/>
                </a:moveTo>
                <a:cubicBezTo>
                  <a:pt x="5382" y="4423"/>
                  <a:pt x="5358" y="4531"/>
                  <a:pt x="5333" y="46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758960" y="1598760"/>
            <a:ext cx="63360" cy="169560"/>
          </a:xfrm>
          <a:custGeom>
            <a:avLst/>
            <a:gdLst/>
            <a:ahLst/>
            <a:rect l="l" t="t" r="r" b="b"/>
            <a:pathLst>
              <a:path w="174" h="472">
                <a:moveTo>
                  <a:pt x="4936" y="4465"/>
                </a:moveTo>
                <a:cubicBezTo>
                  <a:pt x="5108" y="4464"/>
                  <a:pt x="4952" y="4703"/>
                  <a:pt x="4911" y="4812"/>
                </a:cubicBezTo>
                <a:cubicBezTo>
                  <a:pt x="4853" y="4965"/>
                  <a:pt x="4968" y="4899"/>
                  <a:pt x="5060" y="486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285920" y="1758960"/>
            <a:ext cx="81000" cy="90360"/>
          </a:xfrm>
          <a:custGeom>
            <a:avLst/>
            <a:gdLst/>
            <a:ahLst/>
            <a:rect l="l" t="t" r="r" b="b"/>
            <a:pathLst>
              <a:path w="224" h="249">
                <a:moveTo>
                  <a:pt x="3572" y="5035"/>
                </a:moveTo>
                <a:cubicBezTo>
                  <a:pt x="3671" y="4961"/>
                  <a:pt x="3704" y="4936"/>
                  <a:pt x="3770" y="4887"/>
                </a:cubicBezTo>
              </a:path>
              <a:path w="224" h="249">
                <a:moveTo>
                  <a:pt x="3597" y="5135"/>
                </a:moveTo>
                <a:cubicBezTo>
                  <a:pt x="3664" y="5097"/>
                  <a:pt x="3725" y="5065"/>
                  <a:pt x="3795" y="50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33160" y="167616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ish your review and study for tomorrow’s Unit 2 te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02:28:52Z</dcterms:created>
  <dc:creator>Brian McGrath</dc:creator>
  <dc:description/>
  <dc:language>en-US</dc:language>
  <cp:lastModifiedBy>deanne elizabeth mcgrath</cp:lastModifiedBy>
  <dcterms:modified xsi:type="dcterms:W3CDTF">2010-10-27T18:14:32Z</dcterms:modified>
  <cp:revision>5</cp:revision>
  <dc:subject/>
  <dc:title>PowerPoint Presentation</dc:title>
</cp:coreProperties>
</file>